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5F063-70D2-4DA3-89E5-66669BC5F9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AF265-4CF6-4FBC-B005-735F7FE407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20ADC-C021-40CE-B522-B033022377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D524A-5B72-440F-BC1F-F000162BBF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E4872-CAEE-45BB-974A-33A3EDB378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C78F5-7B72-46EC-B9E1-0134E06A6E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C3B1D-3380-4FCF-AD68-50D5DCDBAF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602F8-9A80-47F3-9170-DD408CFC99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EA550-7B40-4B47-BE7A-6E89EAC3EE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B10-6465-4004-A2A8-8D048E41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BC7-8081-4C27-A3D6-0E648DA7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BCC-C202-48A7-AFEF-41FDE247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839-DA6B-4A91-97EF-8F0E7E58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2BD-D762-4726-BE6E-E9DF6427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C6C-8CC5-4BD4-9FFC-43723676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DD0-38F4-444E-925F-B4B21B16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4C8-A770-47BD-93E2-59A30967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80A-F17F-4B22-B7D6-7147B6A0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392-6644-4FDA-A74C-02E4F3A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835-0BB5-46EB-BB54-B189E2EF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7B8-8A3E-4CFF-AFD1-03C55E66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60108-5DE9-42C8-9795-A5704C91DE9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685800" y="19033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ОРГАНИЗАЦИЯ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РОФИЛЬНОГО ОБУЧЕНИЯ В МОУ СОШ № 4 п. Безенчу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диционная непрофильная подготовка старшеклассников в общеобразовательных учреждениях привела к нарушению преемственности между школой и вузом, породила многочисленные подготовительные отделения вузов, репетито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старшеклассников считает, что существующее ныне общее образование не дает возможностей для успешного обучения в вузе и построения дальнейшей профессиональной карь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ЦЕЛИ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И ЗАДАЧИ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 направлено на реализацию личностно ориентированного учебного процесса. При этом существенно расширяются возможности выстраивания учеником индивидуальной образовательной траект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реследует следующие основные ц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11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 условия для существенной дифференциации содержания обучения старшеклассников с широкими и гибкими возможностями построения школьниками индивидуальных образовательных програм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11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ствовать установлению равного доступа к полноценному образованию разным категориям обучающихся в соответствии с их способностями, индивидуальными склонностями и потреб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11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ширить возможности социализации учащихся, обеспечить преемственность между общим и профессиональным образованием, более эффективно подготовить выпускников школы к освоению программ высшего профессиональ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11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ить углубленное изучение отдельных предметов программы полного обще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УДИТОР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240000" y="2452680"/>
            <a:ext cx="5180040" cy="3846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ОРМАТИВНАЯ БАЗ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онцепция профильного обучения на старшей ступени общего образован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ccccff"/>
                </a:solidFill>
                <a:latin typeface="Arial"/>
              </a:rPr>
              <a:t>http://des.kubannet.ru/index.php/des/layout/set/print/content/view/full/2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новные принципы реализации Концепции профильного обучения на территории Самарской области  </a:t>
            </a:r>
            <a:r>
              <a:rPr b="0" lang="en-US" sz="1600" spc="-1" strike="noStrike">
                <a:solidFill>
                  <a:srgbClr val="ccccff"/>
                </a:solidFill>
                <a:latin typeface="Arial"/>
              </a:rPr>
              <a:t>http://mega.educat.samara.ru/builder/files/lab/c_30202/4244.doc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риказ департамента образования и науки Администрации Самарской области №355-од от 30.12.2003г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б утверждении плана-графика мероприятий по подготовке и введению профильного обучения на старшей ступени общего образования в образовательных учреждениях Самарской област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исьмо департамента образования и науки Администрации Самарской области №2014  от 13.08.2003г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О реализации концепции профильного обучения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исьмо министерства образования и науки Администрации Самарской области №298  от 11.02.2004г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планируемом содержании профильных и элективных курсов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риказ министерства образования  России №1312 от 09.03.200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Федеральный базисный учебный план и примерные учебные планы для образовательных учреждений РФ, реализующих программы общего образования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риказ министерства образования и науки Администрации Самарской области №55-од от 04.04.2005г. «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зисный учебный план для образовательных учреждений Самарской области, реализующих программы общего образования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тернет- ресурсы по проблеме «Профильное обучение» (часть1) </a:t>
            </a:r>
            <a:r>
              <a:rPr b="0" i="1" lang="ru-RU" sz="1600" spc="-1" strike="noStrike">
                <a:solidFill>
                  <a:srgbClr val="ccccff"/>
                </a:solidFill>
                <a:latin typeface="Arial"/>
              </a:rPr>
              <a:t>http://edu.tomsk.ru/teacher_help/prof1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ОРГАНИЗАЦИ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ИЛЬНОГО ОБУЧ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468360" y="766800"/>
            <a:ext cx="2881440" cy="1892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Анализ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запрос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соци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348000" y="623880"/>
            <a:ext cx="3097080" cy="1892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Изучение нормативных докумен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6300720" y="676440"/>
            <a:ext cx="2843280" cy="1808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Форм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учеб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пл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43280" y="2774520"/>
            <a:ext cx="2736720" cy="118188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69640 h 1181880"/>
              <a:gd name="textAreaBottom" fmla="*/ 912240 h 118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3399"/>
                </a:solidFill>
                <a:latin typeface="Arial"/>
              </a:rPr>
              <a:t>Профильное обу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300720" y="2611440"/>
            <a:ext cx="2843280" cy="180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Подбор, расстановка, переподготовка кад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6084720" y="4664160"/>
            <a:ext cx="2843280" cy="2040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Составление, экспертиза програм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2411280" y="5106960"/>
            <a:ext cx="2843280" cy="1136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Обновление МТБ,УМ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3662280"/>
            <a:ext cx="2843280" cy="1356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Формирование профильных клас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H="1" flipV="1">
            <a:off x="2335320" y="2344680"/>
            <a:ext cx="94608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 flipH="1" flipV="1">
            <a:off x="2550960" y="2271600"/>
            <a:ext cx="873360" cy="87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3414240" y="4221000"/>
            <a:ext cx="730440" cy="115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124000" y="2133720"/>
            <a:ext cx="1511280" cy="79056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4422600" y="2133720"/>
            <a:ext cx="370080" cy="71892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5359320" y="2205000"/>
            <a:ext cx="1378080" cy="79236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 flipH="1">
            <a:off x="5575320" y="3429000"/>
            <a:ext cx="946080" cy="144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 flipH="1" flipV="1">
            <a:off x="5143320" y="3855600"/>
            <a:ext cx="1809720" cy="123372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3924360" y="4000680"/>
            <a:ext cx="287280" cy="123336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V="1">
            <a:off x="2340000" y="3639960"/>
            <a:ext cx="863640" cy="37008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728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Учебные  профил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4572000" y="1413000"/>
            <a:ext cx="4321080" cy="2016000"/>
          </a:xfrm>
          <a:prstGeom prst="irregularSeal2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38400" algn="ctr"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нженер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0" y="3860640"/>
            <a:ext cx="4788000" cy="2016360"/>
          </a:xfrm>
          <a:prstGeom prst="irregularSeal2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38400" algn="ctr"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оциально-экономиче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14640"/>
            <a:ext cx="8229600" cy="61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0" spc="-1" strike="noStrike">
                <a:solidFill>
                  <a:srgbClr val="ffff99"/>
                </a:solidFill>
                <a:latin typeface="Monotype Corsiva"/>
              </a:rPr>
              <a:t>БЛАГОДАРИМ </a:t>
            </a:r>
            <a:br>
              <a:rPr sz="10000"/>
            </a:br>
            <a:r>
              <a:rPr b="1" lang="ru-RU" sz="10000" spc="-1" strike="noStrike">
                <a:solidFill>
                  <a:srgbClr val="ffff99"/>
                </a:solidFill>
                <a:latin typeface="Monotype Corsiva"/>
              </a:rPr>
              <a:t>ЗА </a:t>
            </a:r>
            <a:br>
              <a:rPr sz="10000"/>
            </a:br>
            <a:r>
              <a:rPr b="1" lang="ru-RU" sz="10000" spc="-1" strike="noStrike">
                <a:solidFill>
                  <a:srgbClr val="ffff99"/>
                </a:solidFill>
                <a:latin typeface="Monotype Corsiva"/>
              </a:rPr>
              <a:t>ВНИМАНИЕ !</a:t>
            </a:r>
            <a:endParaRPr b="0" lang="en-US" sz="10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4:11:02Z</dcterms:created>
  <dc:creator>CELERON</dc:creator>
  <dc:description/>
  <dc:language>en-US</dc:language>
  <cp:lastModifiedBy>Admin</cp:lastModifiedBy>
  <dcterms:modified xsi:type="dcterms:W3CDTF">2013-03-20T13:14:50Z</dcterms:modified>
  <cp:revision>65</cp:revision>
  <dc:subject/>
  <dc:title>ОРГАНИЗАЦИЯ ПРОФИЛЬНОГО ОБУЧЕНИЯ В МОУ СОШ № 2 г.КИНЕЛЯ</dc:title>
</cp:coreProperties>
</file>