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B4F8D-AEB2-4183-AC33-6C88335630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3578-6066-4E68-ADDF-41E6DF0C1D3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D45F5-238F-4E03-B88F-8C32F8BEA7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278A3-B6E4-415A-B0B9-FEEDC0BD9C1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CDCC-55E1-4C37-AA92-0243D28B85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57AEF-61A9-474F-B400-500AAB782C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8E68-2E65-4BE4-8EE9-6456D41539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7928C-65EF-4EB7-95A7-5677C6A48A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AFC64-9F12-4C9B-9D9A-9FC6D3DE43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2B2-81F1-4F36-917F-C4AF4E7C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18A-C60F-4C07-B33F-0CABB2E0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DEF-09CA-4214-B6DA-41FA72BD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C03-F3E1-499B-868D-E2C6EE71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02C-2C9E-4AC7-BFBF-ACBD8A1A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1AF-E44E-487F-993A-9AD97DCE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B1D-F986-4732-B3C0-7532BB55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6D0-A0A8-4CF9-9027-8BB5F3EF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6FD-DB1F-4563-A53C-ADE272A2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045-FF8C-4D88-AC1B-CBD2715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C7E-0A7A-4ED2-A4A3-4E301D4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5A4-4553-43DC-B62A-08EBD92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A836B-4AC6-4A56-9CC2-465ECA2CB98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685800" y="19033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ОРГАНИЗАЦИЯ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РОФИЛЬНОГО ОБУЧЕНИЯ В МОУ СОШ № 4 п. Безенч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диционная непрофильная подготовка старшеклассников в общеобразовательных учреждениях привела к нарушению преемственности между школой и вузом, породила многочисленные подготовительные отделения вузов, репетито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старшеклассников считает, что существующее ныне общее образование не дает возможностей для успешного обучения в вузе и построения дальнейшей профессиональной карь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ЦЕЛИ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И ЗАДАЧИ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 направлено на реализацию личностно ориентированного учебного процесса. При этом существенно расширяются возможности выстраивания учеником индивидуальной образовательной траек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реследует следующие основные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условия для существенной дифференциации содержания обучения старшеклассников с широкими и гибкими возможностями построения школьниками индивидуальных образовательных програ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ствовать установлению равного доступа к полноценному образованию разным категориям обучающихся в соответствии с их способностями, индивидуальными склонностями и потреб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ить возможности социализации учащихся, обеспечить преемственность между общим и профессиональным образованием, более эффективно подготовить выпускников школы к освоению программ высшего профессиона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81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ить углубленное изучение отдельных предметов программы полного обще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УДИТОР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240000" y="2452680"/>
            <a:ext cx="5180040" cy="3846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ОРМАТИВНАЯ БАЗ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нцепция профильного обучения на старшей ступени общего образован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cccff"/>
                </a:solidFill>
                <a:latin typeface="Arial"/>
              </a:rPr>
              <a:t>http://des.kubannet.ru/index.php/des/layout/set/print/content/view/full/2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ные принципы реализации Концепции профильного обучения на территории Самарской области  </a:t>
            </a:r>
            <a:r>
              <a:rPr b="0" lang="en-US" sz="1600" spc="-1" strike="noStrike">
                <a:solidFill>
                  <a:srgbClr val="ccccff"/>
                </a:solidFill>
                <a:latin typeface="Arial"/>
              </a:rPr>
              <a:t>http://mega.educat.samara.ru/builder/files/lab/c_30202/4244.do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иказ департамента образования и науки Администрации Самарской области №355-од от 30.12.2003г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утверждении плана-графика мероприятий по подготовке и введению профильного обучения на старшей ступени общего образования в образовательных учреждениях Самарской обла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исьмо департамента образования и науки Администрации Самарской области №2014  от 13.08.2003г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О реализации концепции профильного обучени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исьмо министерства образования и науки Администрации Самарской области №298  от 11.02.2004г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планируемом содержании профильных и элективных курсов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иказ министерства образования  России №1312 от 09.03.200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Федеральный базисный учебный план и примерные учебные планы для образовательных учреждений РФ, реализующих программы общего образовани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иказ министерства образования и науки Администрации Самарской области №55-од от 04.04.2005г. «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зисный учебный план для образовательных учреждений Самарской области, реализующих программы общего образования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тернет- ресурсы по проблеме «Профильное обучение» (часть1) </a:t>
            </a:r>
            <a:r>
              <a:rPr b="0" i="1" lang="ru-RU" sz="1600" spc="-1" strike="noStrike">
                <a:solidFill>
                  <a:srgbClr val="ccccff"/>
                </a:solidFill>
                <a:latin typeface="Arial"/>
              </a:rPr>
              <a:t>http://edu.tomsk.ru/teacher_help/prof1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ОРГАНИЗАЦ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ЬНОГО ОБУЧЕНИ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68360" y="766800"/>
            <a:ext cx="2881440" cy="1892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Анализ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запрос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соци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348000" y="623880"/>
            <a:ext cx="3097080" cy="1892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Изучение нормативны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6300720" y="676440"/>
            <a:ext cx="2843280" cy="1808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Форм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учеб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пл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43280" y="2774520"/>
            <a:ext cx="2736720" cy="118188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69640 h 1181880"/>
              <a:gd name="textAreaBottom" fmla="*/ 912240 h 118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3399"/>
                </a:solidFill>
                <a:latin typeface="Arial"/>
              </a:rPr>
              <a:t>Профильное обу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300720" y="2611440"/>
            <a:ext cx="2843280" cy="180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Подбор, расстановка, переподготовка кад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6084720" y="4664160"/>
            <a:ext cx="2843280" cy="2040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Составление, экспертиза програм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2411280" y="5106960"/>
            <a:ext cx="2843280" cy="1136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Обновление МТБ,УМ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3662280"/>
            <a:ext cx="2843280" cy="1356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5a58"/>
                </a:solidFill>
                <a:latin typeface="Arial"/>
              </a:rPr>
              <a:t>Формирование профильных клас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 flipV="1">
            <a:off x="2335320" y="2344680"/>
            <a:ext cx="94608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 flipH="1" flipV="1">
            <a:off x="2550960" y="2271600"/>
            <a:ext cx="873360" cy="87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3414240" y="4221000"/>
            <a:ext cx="730440" cy="115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124000" y="2133720"/>
            <a:ext cx="1511280" cy="7905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4422600" y="2133720"/>
            <a:ext cx="370080" cy="71892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5359320" y="2205000"/>
            <a:ext cx="1378080" cy="792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5575320" y="3429000"/>
            <a:ext cx="946080" cy="144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H="1" flipV="1">
            <a:off x="5143320" y="3855600"/>
            <a:ext cx="1809720" cy="123372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3924360" y="4000680"/>
            <a:ext cx="287280" cy="1233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V="1">
            <a:off x="2340000" y="3639960"/>
            <a:ext cx="863640" cy="37008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72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Учебные  профил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4572000" y="1413000"/>
            <a:ext cx="4321080" cy="2016000"/>
          </a:xfrm>
          <a:prstGeom prst="irregularSeal2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38400" algn="ctr"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нженер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0" y="3860640"/>
            <a:ext cx="4788000" cy="2016360"/>
          </a:xfrm>
          <a:prstGeom prst="irregularSeal2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38400" algn="ctr"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циально-экономиче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14640"/>
            <a:ext cx="8229600" cy="61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0" spc="-1" strike="noStrike">
                <a:solidFill>
                  <a:srgbClr val="ffff99"/>
                </a:solidFill>
                <a:latin typeface="Monotype Corsiva"/>
              </a:rPr>
              <a:t>БЛАГОДАРИМ </a:t>
            </a:r>
            <a:br>
              <a:rPr sz="10000"/>
            </a:br>
            <a:r>
              <a:rPr b="1" lang="ru-RU" sz="10000" spc="-1" strike="noStrike">
                <a:solidFill>
                  <a:srgbClr val="ffff99"/>
                </a:solidFill>
                <a:latin typeface="Monotype Corsiva"/>
              </a:rPr>
              <a:t>ЗА </a:t>
            </a:r>
            <a:br>
              <a:rPr sz="10000"/>
            </a:br>
            <a:r>
              <a:rPr b="1" lang="ru-RU" sz="10000" spc="-1" strike="noStrike">
                <a:solidFill>
                  <a:srgbClr val="ffff99"/>
                </a:solidFill>
                <a:latin typeface="Monotype Corsiva"/>
              </a:rPr>
              <a:t>ВНИМАНИЕ !</a:t>
            </a:r>
            <a:endParaRPr b="0" lang="en-US" sz="10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1:02Z</dcterms:created>
  <dc:creator>CELERON</dc:creator>
  <dc:description/>
  <dc:language>en-US</dc:language>
  <cp:lastModifiedBy>Admin</cp:lastModifiedBy>
  <dcterms:modified xsi:type="dcterms:W3CDTF">2013-03-20T13:14:50Z</dcterms:modified>
  <cp:revision>65</cp:revision>
  <dc:subject/>
  <dc:title>ОРГАНИЗАЦИЯ ПРОФИЛЬНОГО ОБУЧЕНИЯ В МОУ СОШ № 2 г.КИНЕЛЯ</dc:title>
</cp:coreProperties>
</file>