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2D1-ED0E-4C56-B936-A6745716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6A6-2B68-4890-80B7-B5154ECE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291F-3204-4588-B90A-1066D76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22B17-B37F-477B-86A8-718B8C3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C98E-C991-493D-823A-CE15B1E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01F07-F4D4-4BAE-A84B-24E9704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562DC-FA49-4501-B13F-DF64F36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1F7BB-CC2C-4296-A1BC-1BD55E3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2B0BC-C018-4C84-BC1F-B9B602F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1E10-0E53-47E7-8DB4-202D343C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A70BE-D29C-4AD7-AA36-754EAFF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06438-0AF8-471D-915A-87155A5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FD1-6308-46F0-9BF8-DAFE74F7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D7E4C-4AD1-4755-995F-DD995A38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07FF3-146D-484B-A131-76585AF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2016-3260-418F-A3F3-EDCB231D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CECB-6963-4691-AFED-43F182D5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FD9A0-75AF-4854-8450-BBA9ED0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50135-3870-4B31-A201-BBDB779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7094-D0FE-49E5-97CD-8BF1724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906CA-3D4B-42EE-9C98-E5310F8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9B4BA-ED6E-4159-9E08-9DD05C2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6C4FE-B0EF-4393-90BE-6A8540F4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942-FC25-4CFD-A220-10B46BC2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BD446-296A-434F-80E5-C55889D9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687C-5386-415E-928B-CA26BFD5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13B7-E48E-4FA4-964C-E5D5B1A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EAF-8DAA-4A12-A27E-4247D331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92E0-3827-4299-87E3-7E12B5D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430-50A5-4C3B-9BD1-C57A965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92FA-C1D0-4DC3-BF06-5B9C74F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1CB1-D529-4509-9AF6-D6B05762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0EE-7A9F-4823-9DA2-55DECDC8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58E2-4FD2-4704-B81F-AB2FD57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D8F-EEFD-408C-982C-1283080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388-D3CC-4995-AA45-7123CB23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856-019D-4AA2-B08A-6F7D67FD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688A-57E1-4097-88C6-223B10CB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038B-4578-4AA9-BD2E-66D6C97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BD8B-FB0C-4B56-BD35-98A0A4E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FD71-B658-4738-B42E-FF62B728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1AD8-85F7-488B-A242-FEC8956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641A-5817-4713-A419-F4F22EB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B9E-215A-4F40-8819-40D4D76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130E-8A97-46B1-9E7D-567ED7E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41EA-9019-4741-AC10-A93E0B5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A34E-8806-4B70-9B28-72C2D25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B68D-29F6-44A3-8755-9B6BD09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174B-D5BC-44B8-8F87-48C9A1C6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CD70-16C8-4E92-B5C5-BDDEBDCC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76DF-CD58-41F6-806D-B0E43F16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00411-A7F0-4CC6-BDE8-2264EF44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23EB9-454D-410D-8956-DD705E13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132C2-5ED3-4D0D-ACC9-C9A70CA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DAC-E7D0-463F-9665-2957068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B9595-4107-4318-996B-5C957CC5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9F673-BFF5-4D71-A9EA-DAB95D5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77BE7-B28F-4F52-A937-1BA7908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6DD94-CEA4-4C46-A494-A153BC6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AC2A8-28FF-451A-967C-C2A0989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39E4C-F5A3-4A2C-BB1C-7FF97387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4A546-10F1-4871-AA57-725FD3F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23E69-596B-41AE-85A8-BDEF0BF8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FDF86-2006-4C19-B37B-81C11AD2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C475-B91D-42B2-8FEB-8D661EC0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96A-6A57-4E97-B9CD-2D80B7FB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A0C8-3C0E-4295-8675-5815ED32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AA36-E67F-4157-A589-CC91AECB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000E-9C94-4EAA-8C8D-549D21C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29E2-7E97-444D-8D36-36955A8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4AE7-3370-40CA-8139-F30E5213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E9C5-090D-4F04-A016-1FDBB4F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5E01-AAA3-4F4D-BFDB-38C438E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36BB-70F1-4D2D-BCD7-1107000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4CF4-8DD7-4DAF-A794-6F78DB9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B99C-45AA-4E5D-BCE3-8953A779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B9A-74BB-485A-B332-0846342C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3936-E578-4053-BD69-67EA7C5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3EF4-1E16-4A1C-BDAB-2BF7AD6E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4B29-5CB3-4F91-B339-C894C12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7323-9B7C-483F-B368-D07314D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6A754-CDAB-44E6-A0F9-887BBBE6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340C-0019-4BCA-AF19-A59BB770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1BD8-6CFB-439B-AF4F-0CC24EB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F422-1F1E-4323-896C-836ABDD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45A8-4C36-444C-8AC2-84B2C7B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3805-5FB3-4307-9798-738AB61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AE8-36F0-4F87-9D3B-7560771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5721-F2E8-4B73-9D1D-5557014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B2FC-8E11-47A8-98C6-40E7FA64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6A71-A6CE-461F-B084-BEC3A810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C5A88-1B80-4338-8E40-40E61665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DD9C-48A7-4A57-BF57-41E3817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1993-1E35-415D-90CF-72FABA99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4690-79C8-4B4C-8647-E95728C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B6BC-5787-4A42-9DDB-7C79A726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1705-A465-4075-B85E-DA411F3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D228-BEE5-4BDD-B2C6-E923E14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FF3-AA9D-4664-B50C-C595398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3DD62-6740-41A4-8DA9-B9F6FDA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3A8C-1FF0-4F68-9997-B0B0E9A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4EBF2-FF76-4D52-B453-0C7B589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E112-BF04-408D-91D3-AB7071CB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FE75-7596-4E77-A75C-87E4B860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A61E-2BA2-4219-9CB6-CBDC18EB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4E80-2351-4CB9-9384-66A6820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2C54-A9F1-4FCC-A9CF-6D35B32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D58BF-3B1F-4257-A76B-4ED7C9F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A26D3-38FC-4600-8408-C237A490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7E2-4B79-4898-ABE8-60E2D66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9BC1-7104-4D29-85CB-16995DB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B07F-A482-45AE-894A-B98AD5C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3437-67A6-495A-A04D-339B3E2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4761D-D689-4830-A3DA-5F52558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12D0-5114-419E-8EC3-D052D1E4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C124-9B9E-458B-A3F5-F4A55896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2D56-0F06-4EEE-BE00-07B2D379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8FCEF-172B-4E4A-A3C0-5F744B9D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85F69-10A2-4CC5-81DD-9FAF0DE9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4A31F-E365-46A8-B679-93F72A4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73.xml"/><Relationship Id="rId36" Type="http://schemas.openxmlformats.org/officeDocument/2006/relationships/slideLayout" Target="../slideLayouts/slideLayout74.xml"/><Relationship Id="rId37" Type="http://schemas.openxmlformats.org/officeDocument/2006/relationships/slideLayout" Target="../slideLayouts/slideLayout75.xml"/><Relationship Id="rId38" Type="http://schemas.openxmlformats.org/officeDocument/2006/relationships/slideLayout" Target="../slideLayouts/slideLayout76.xml"/><Relationship Id="rId39" Type="http://schemas.openxmlformats.org/officeDocument/2006/relationships/slideLayout" Target="../slideLayouts/slideLayout77.xml"/><Relationship Id="rId40" Type="http://schemas.openxmlformats.org/officeDocument/2006/relationships/slideLayout" Target="../slideLayouts/slideLayout78.xml"/><Relationship Id="rId41" Type="http://schemas.openxmlformats.org/officeDocument/2006/relationships/slideLayout" Target="../slideLayouts/slideLayout79.xml"/><Relationship Id="rId42" Type="http://schemas.openxmlformats.org/officeDocument/2006/relationships/slideLayout" Target="../slideLayouts/slideLayout80.xml"/><Relationship Id="rId43" Type="http://schemas.openxmlformats.org/officeDocument/2006/relationships/slideLayout" Target="../slideLayouts/slideLayout81.xml"/><Relationship Id="rId44" Type="http://schemas.openxmlformats.org/officeDocument/2006/relationships/slideLayout" Target="../slideLayouts/slideLayout82.xml"/><Relationship Id="rId45" Type="http://schemas.openxmlformats.org/officeDocument/2006/relationships/slideLayout" Target="../slideLayouts/slideLayout83.xml"/><Relationship Id="rId4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C9C-80F2-4DF1-94D3-13685B4378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5CA9-BD06-493B-B0B7-5B2E9B6237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FC38-7CA3-4ADC-9E9B-0447ED8C15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2167-5C6B-4D8E-BAAA-F3721A8747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0581-97F0-4FA1-83C8-B545CD396D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3F8-FF4A-4B2A-8A89-3E67C9388D7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364-1845-4208-97C3-A639FE3A6B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318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322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323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324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325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3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1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34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61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275-FF38-4C17-A5F7-FC0E3D3D55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5"/>
    <p:sldLayoutId id="2147483728" r:id="rId36"/>
    <p:sldLayoutId id="2147483729" r:id="rId37"/>
    <p:sldLayoutId id="2147483730" r:id="rId38"/>
    <p:sldLayoutId id="2147483731" r:id="rId39"/>
    <p:sldLayoutId id="2147483732" r:id="rId40"/>
    <p:sldLayoutId id="2147483733" r:id="rId41"/>
    <p:sldLayoutId id="2147483734" r:id="rId42"/>
    <p:sldLayoutId id="2147483735" r:id="rId43"/>
    <p:sldLayoutId id="2147483736" r:id="rId44"/>
    <p:sldLayoutId id="2147483737" r:id="rId45"/>
    <p:sldLayoutId id="2147483738" r:id="rId4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3F2-9742-4C18-BB24-DC9FA08335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3B61-CD8B-46CF-A828-5231912014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353880" y="1365120"/>
            <a:ext cx="8918640" cy="2054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в 7 класс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191120" y="4876920"/>
            <a:ext cx="4343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Ученица 7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МОУ «Железногорская СОШ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Зяблова Ангелина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8"/>
          <p:cNvPicPr/>
          <p:nvPr/>
        </p:nvPicPr>
        <p:blipFill>
          <a:blip r:embed="rId1"/>
          <a:stretch/>
        </p:blipFill>
        <p:spPr>
          <a:xfrm>
            <a:off x="1143000" y="1066680"/>
            <a:ext cx="2895480" cy="42674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9"/>
          <p:cNvPicPr/>
          <p:nvPr/>
        </p:nvPicPr>
        <p:blipFill>
          <a:blip r:embed="rId2"/>
          <a:stretch/>
        </p:blipFill>
        <p:spPr>
          <a:xfrm>
            <a:off x="4952880" y="1219320"/>
            <a:ext cx="3353040" cy="4190760"/>
          </a:xfrm>
          <a:prstGeom prst="rect">
            <a:avLst/>
          </a:prstGeom>
          <a:ln w="0">
            <a:noFill/>
          </a:ln>
        </p:spPr>
      </p:pic>
      <p:sp>
        <p:nvSpPr>
          <p:cNvPr id="589" name="WordArt 9"/>
          <p:cNvSpPr txBox="1"/>
          <p:nvPr/>
        </p:nvSpPr>
        <p:spPr>
          <a:xfrm>
            <a:off x="2057400" y="30492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6002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487692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685800" y="57913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ормляем пройму рубашки, соединить Г1 и Г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4800600" y="5867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4648320" y="57150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ь Г1 и Г2 пополам, поднять перпендикуляр на 1,5см верх и соединить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5" descr="10"/>
          <p:cNvPicPr/>
          <p:nvPr/>
        </p:nvPicPr>
        <p:blipFill>
          <a:blip r:embed="rId1"/>
          <a:stretch/>
        </p:blipFill>
        <p:spPr>
          <a:xfrm>
            <a:off x="990720" y="1371600"/>
            <a:ext cx="3525840" cy="3962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6" descr="11"/>
          <p:cNvPicPr/>
          <p:nvPr/>
        </p:nvPicPr>
        <p:blipFill>
          <a:blip r:embed="rId2"/>
          <a:stretch/>
        </p:blipFill>
        <p:spPr>
          <a:xfrm>
            <a:off x="5181480" y="1371600"/>
            <a:ext cx="3124440" cy="4038480"/>
          </a:xfrm>
          <a:prstGeom prst="rect">
            <a:avLst/>
          </a:prstGeom>
          <a:ln w="0">
            <a:noFill/>
          </a:ln>
        </p:spPr>
      </p:pic>
      <p:sp>
        <p:nvSpPr>
          <p:cNvPr id="597" name="WordArt 17"/>
          <p:cNvSpPr txBox="1"/>
          <p:nvPr/>
        </p:nvSpPr>
        <p:spPr>
          <a:xfrm>
            <a:off x="1981080" y="45720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09480" y="5943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1523880" y="5105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0  Ш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5943600" y="5334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1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685800" y="563868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яем низ изделия, отложить от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1 = от 8-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оединить (.)Г2 и (.)Н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4800600" y="57913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4724280" y="59436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т (.) Н2 верх отложить 1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единить плавной ли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отовый  чертёж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14"/>
          <p:cNvPicPr/>
          <p:nvPr/>
        </p:nvPicPr>
        <p:blipFill>
          <a:blip r:embed="rId1"/>
          <a:stretch/>
        </p:blipFill>
        <p:spPr>
          <a:xfrm>
            <a:off x="2133720" y="198108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img188"/>
          <p:cNvPicPr/>
          <p:nvPr/>
        </p:nvPicPr>
        <p:blipFill>
          <a:blip r:embed="rId1"/>
          <a:stretch/>
        </p:blipFill>
        <p:spPr>
          <a:xfrm>
            <a:off x="0" y="1143000"/>
            <a:ext cx="4765680" cy="5257800"/>
          </a:xfrm>
          <a:prstGeom prst="rect">
            <a:avLst/>
          </a:prstGeom>
          <a:ln w="0">
            <a:noFill/>
          </a:ln>
        </p:spPr>
      </p:pic>
      <p:sp>
        <p:nvSpPr>
          <p:cNvPr id="607" name="WordArt 9"/>
          <p:cNvSpPr txBox="1"/>
          <p:nvPr/>
        </p:nvSpPr>
        <p:spPr>
          <a:xfrm>
            <a:off x="2514600" y="304920"/>
            <a:ext cx="357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лини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905120" y="457200"/>
            <a:ext cx="5905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7c80">
                      <a:alpha val="74000"/>
                    </a:srgbClr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ирование плечевого изделия</a:t>
            </a:r>
            <a:endParaRPr b="0" lang="en-US" sz="2800" spc="1" strike="noStrike">
              <a:ln w="12600">
                <a:solidFill>
                  <a:srgbClr val="ff7c80">
                    <a:alpha val="74000"/>
                  </a:srgbClr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9" name="Picture 5" descr="IMGP0545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380520" y="17524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формы выреза горлов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моделировании выреза горловины следует учитывать, что ширина плеча спинки должна быть равна ширине плеча пере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IMGP0548"/>
          <p:cNvPicPr/>
          <p:nvPr/>
        </p:nvPicPr>
        <p:blipFill>
          <a:blip r:embed="rId2"/>
          <a:srcRect l="-1098" t="0" r="0" b="0"/>
          <a:stretch/>
        </p:blipFill>
        <p:spPr>
          <a:xfrm>
            <a:off x="609480" y="1523880"/>
            <a:ext cx="8153640" cy="39276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1219320" y="380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оделирование халата с застежкой с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IMGP0547"/>
          <p:cNvPicPr/>
          <p:nvPr/>
        </p:nvPicPr>
        <p:blipFill>
          <a:blip r:embed="rId2"/>
          <a:stretch/>
        </p:blipFill>
        <p:spPr>
          <a:xfrm>
            <a:off x="304920" y="1600200"/>
            <a:ext cx="8305560" cy="43228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182880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оделирование кокетки на ночной со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981080" y="533520"/>
            <a:ext cx="56199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9676d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ика безопасности с ножницами</a:t>
            </a:r>
            <a:endParaRPr b="0" lang="en-US" sz="2800" spc="1" strike="noStrike">
              <a:ln w="9360">
                <a:solidFill>
                  <a:srgbClr val="69676d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авать ножницы кольцами впере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жницы класть сомкнутыми лезвиями от работающе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ить ножницы в определенном мес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жницы должны быть хорошо отрегулированы и заточ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Раскрой на ткани с учетом долевой и рису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бозначить на выкройке необходимые надпис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бвести чертёж на ткани по контурным линиям ( с изнаночной стороны по правилам раскроя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Вырезать изделие на тка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дготовить изделие к обработ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img188"/>
          <p:cNvPicPr/>
          <p:nvPr/>
        </p:nvPicPr>
        <p:blipFill>
          <a:blip r:embed="rId1"/>
          <a:stretch/>
        </p:blipFill>
        <p:spPr>
          <a:xfrm>
            <a:off x="2286000" y="914400"/>
            <a:ext cx="4888080" cy="5791320"/>
          </a:xfrm>
          <a:prstGeom prst="rect">
            <a:avLst/>
          </a:prstGeom>
          <a:ln w="0">
            <a:noFill/>
          </a:ln>
        </p:spPr>
      </p:pic>
      <p:sp>
        <p:nvSpPr>
          <p:cNvPr id="620" name="WordArt 5"/>
          <p:cNvSpPr txBox="1"/>
          <p:nvPr/>
        </p:nvSpPr>
        <p:spPr>
          <a:xfrm>
            <a:off x="2743200" y="228600"/>
            <a:ext cx="357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товое изделие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1143000" y="838080"/>
            <a:ext cx="76201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c2d1"/>
                </a:solidFill>
                <a:latin typeface="Times New Roman"/>
              </a:rPr>
              <a:t>Ночная рубашка – необходимый элемент гардероба – один из самых древних. Ночная сорочка защищает от холода. Огромную роль при выборе ночной сорочки – играет ткань, из которой она изготовлена. Ткань должна быть приятной на ощупь и, желательно, из натуральных тканей – синтетика электризуется, а это вредно для здоровья. Ночная сорочка или пижама для сна должна быть свободного кроя или эластичной, чтобы во время отдыха ничего не мешало и не давило. 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1"/>
          <p:cNvSpPr/>
          <p:nvPr/>
        </p:nvSpPr>
        <p:spPr>
          <a:xfrm>
            <a:off x="990720" y="83808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o.gendoc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D%D0%BE%D1%87%D0%BD%D0%B0%D1%8F%20%D1%81%D0%BE%D1%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. Учебник для 5 класса. Общеобразовательной школы. 2011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. Учебник для 7 класса. Общеобразовательной школы. 201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Рисунок 1" descr="q12-1.jpe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5800" y="1066680"/>
            <a:ext cx="2943360" cy="484668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15" descr="81700879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181480" y="1143000"/>
            <a:ext cx="2455920" cy="46483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2666880" y="304920"/>
            <a:ext cx="3581640" cy="398880"/>
          </a:xfrm>
          <a:prstGeom prst="rect">
            <a:avLst/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одели ночных сор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ерки снимают по правой стороне фигуры; Талию предварительно  опоясывают  шнур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и снятии мерок, измеряемый должен стоять прямо без напряжения; Мерки снимают сантиметровой лентой, при измерении ленту не стоит н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ли ослаблять. Мерки длины записывают полностью, а мерки ширины и обхват записывают в половинном размере; Так как чертёж  строят на одну половину 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2819520" y="838080"/>
            <a:ext cx="3095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ятие мерок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               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рки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ш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-  полуобхват ш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т –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олуобхват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б –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олуобхват бё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О п  -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обхват плеч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Д и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– длина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IMGP0384"/>
          <p:cNvPicPr/>
          <p:nvPr/>
        </p:nvPicPr>
        <p:blipFill>
          <a:blip r:embed="rId1"/>
          <a:stretch/>
        </p:blipFill>
        <p:spPr>
          <a:xfrm>
            <a:off x="304920" y="541440"/>
            <a:ext cx="8367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1371600" y="228600"/>
            <a:ext cx="622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цес построения чертежа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4" name="Picture 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3135240" cy="4530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2"/>
          <p:cNvPicPr/>
          <p:nvPr/>
        </p:nvPicPr>
        <p:blipFill>
          <a:blip r:embed="rId2"/>
          <a:stretch/>
        </p:blipFill>
        <p:spPr>
          <a:xfrm>
            <a:off x="4648320" y="2057400"/>
            <a:ext cx="3190680" cy="4530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0"/>
          <p:cNvSpPr/>
          <p:nvPr/>
        </p:nvSpPr>
        <p:spPr>
          <a:xfrm>
            <a:off x="213372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  ША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6248520" y="6019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838080" y="11430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м учебник и начинаем построение чертеж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(.) В вниз отложить мерку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" descr="3"/>
          <p:cNvPicPr/>
          <p:nvPr/>
        </p:nvPicPr>
        <p:blipFill>
          <a:blip r:embed="rId1"/>
          <a:stretch/>
        </p:blipFill>
        <p:spPr>
          <a:xfrm>
            <a:off x="838080" y="1600200"/>
            <a:ext cx="3357720" cy="3749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4"/>
          <p:cNvPicPr/>
          <p:nvPr/>
        </p:nvPicPr>
        <p:blipFill>
          <a:blip r:embed="rId2"/>
          <a:stretch/>
        </p:blipFill>
        <p:spPr>
          <a:xfrm>
            <a:off x="5181480" y="1600200"/>
            <a:ext cx="3273480" cy="3749760"/>
          </a:xfrm>
          <a:prstGeom prst="rect">
            <a:avLst/>
          </a:prstGeom>
          <a:ln w="0">
            <a:noFill/>
          </a:ln>
        </p:spPr>
      </p:pic>
      <p:sp>
        <p:nvSpPr>
          <p:cNvPr id="571" name="WordArt 9"/>
          <p:cNvSpPr txBox="1"/>
          <p:nvPr/>
        </p:nvSpPr>
        <p:spPr>
          <a:xfrm>
            <a:off x="2666880" y="91440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19051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17220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380880" y="5867280"/>
            <a:ext cx="403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ину сорочки можно выпол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рке СБ: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В1= Сб:2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4572000" y="56656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ина горловины сп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2 =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ш : 3+1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ина горл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3 =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В2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8" descr="5"/>
          <p:cNvPicPr/>
          <p:nvPr/>
        </p:nvPicPr>
        <p:blipFill>
          <a:blip r:embed="rId1"/>
          <a:stretch/>
        </p:blipFill>
        <p:spPr>
          <a:xfrm>
            <a:off x="69840" y="137160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6"/>
          <p:cNvPicPr/>
          <p:nvPr/>
        </p:nvPicPr>
        <p:blipFill>
          <a:blip r:embed="rId2"/>
          <a:stretch/>
        </p:blipFill>
        <p:spPr>
          <a:xfrm>
            <a:off x="2819520" y="1371600"/>
            <a:ext cx="3384360" cy="3782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7"/>
          <p:cNvPicPr/>
          <p:nvPr/>
        </p:nvPicPr>
        <p:blipFill>
          <a:blip r:embed="rId3"/>
          <a:stretch/>
        </p:blipFill>
        <p:spPr>
          <a:xfrm>
            <a:off x="5791320" y="1371600"/>
            <a:ext cx="2892240" cy="38052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11"/>
          <p:cNvSpPr txBox="1"/>
          <p:nvPr/>
        </p:nvSpPr>
        <p:spPr>
          <a:xfrm>
            <a:off x="1905120" y="30492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16002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505320" y="5638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38098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6934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80880" y="54864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глубины горловины от(.)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3В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ожить 5см в/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048120" y="5562720"/>
            <a:ext cx="2819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бина прой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Г = Оп :2 +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5562720" y="5486400"/>
            <a:ext cx="3200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ширины рукава: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В5 – в/п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В5=ГГ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3-03-21T06:23:4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