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4.gif" ContentType="image/gif"/>
  <Override PartName="/ppt/media/image1.jpeg" ContentType="image/jpeg"/>
  <Override PartName="/ppt/media/image24.png" ContentType="image/png"/>
  <Override PartName="/ppt/media/image22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5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922-A9FA-4D70-B0A3-0A03A0CB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65C-FB79-409B-B56F-EE555E7C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AA9-A291-4526-9B23-E23909A9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3B5-BA63-4C56-B070-DF2B8EF6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B07-A2B9-4017-8C75-7DE821CE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BC8-4759-4355-8C97-4302701C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FFE-1C30-4CB2-9605-52AAFE06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9EF-C7ED-48AA-A860-CBBEE90F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8CC-E131-4FF8-9092-A261109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D3C-DC2B-4887-88FA-667378C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65C-A2ED-4B68-9EB8-1EC7B0A6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3EF-D0E9-48ED-8899-EBA98022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2A1B-D0B8-4189-B68C-2973F92C7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628640"/>
            <a:ext cx="626580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ышение познавательного интереса и формирование предметной мотивации учащихся на уроках химии с помощью современных ИКТ-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900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хим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айцева Ю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9000"/>
            <a:ext cx="896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ПАРТАМЕНТ ОБРАЗОВАНИЯ города МОСК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углублённым изучением английского языка и 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Лосиный остров» № 3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5494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ние молекул с sp-атома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т их мод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3720" y="1600200"/>
            <a:ext cx="35654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92280" y="3938760"/>
            <a:ext cx="356868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884840" y="1600200"/>
            <a:ext cx="356544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83040" y="3938760"/>
            <a:ext cx="3568680" cy="218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7640" y="1773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177336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18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ин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томные орбитали в sp-состоянии (16 013 байт)"/>
          <p:cNvPicPr/>
          <p:nvPr/>
        </p:nvPicPr>
        <p:blipFill>
          <a:blip r:embed="rId6"/>
          <a:stretch/>
        </p:blipFill>
        <p:spPr>
          <a:xfrm>
            <a:off x="3492360" y="2781360"/>
            <a:ext cx="2087640" cy="1893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64000" y="6237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6381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ение электронных обл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836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626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ирование виртуальной научной реальности и исследование тех закономерностей, которые в обычных условиях невозможно воспроизв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ение традиционного эксперимента, используя кам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люстрация того, что невозможно показать в силу различных обстоятельств (необходимость использовать взрывчатые или ядовитые вещества, уникальные или дорогостоящие реактивы, быстро или медленно протекающие проце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Заряды на атомах (14899 байт)"/>
          <p:cNvPicPr/>
          <p:nvPr/>
        </p:nvPicPr>
        <p:blipFill>
          <a:blip r:embed="rId2"/>
          <a:stretch/>
        </p:blipFill>
        <p:spPr>
          <a:xfrm>
            <a:off x="6300720" y="1557360"/>
            <a:ext cx="23558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300720" y="3789360"/>
            <a:ext cx="2403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530064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згонка (сублимац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565360"/>
            <a:ext cx="3382920" cy="2952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83000" y="4970880"/>
            <a:ext cx="3140280" cy="442800"/>
            <a:chOff x="4383000" y="4970880"/>
            <a:chExt cx="3140280" cy="442800"/>
          </a:xfrm>
        </p:grpSpPr>
        <p:sp>
          <p:nvSpPr>
            <p:cNvPr id="78" name=""/>
            <p:cNvSpPr/>
            <p:nvPr/>
          </p:nvSpPr>
          <p:spPr>
            <a:xfrm rot="3025200">
              <a:off x="4426920" y="508644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31200">
              <a:off x="5866920" y="515772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14920" y="50864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543200">
              <a:off x="6156000" y="508608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0920" y="5158080"/>
              <a:ext cx="21564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88000" y="515808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9905000">
              <a:off x="687528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07280" y="50151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8722400">
              <a:off x="7162560" y="501552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317120" y="4898160"/>
            <a:ext cx="3033720" cy="503280"/>
            <a:chOff x="4317120" y="4898160"/>
            <a:chExt cx="3033720" cy="503280"/>
          </a:xfrm>
        </p:grpSpPr>
        <p:sp>
          <p:nvSpPr>
            <p:cNvPr id="89" name=""/>
            <p:cNvSpPr/>
            <p:nvPr/>
          </p:nvSpPr>
          <p:spPr>
            <a:xfrm rot="8743200">
              <a:off x="7092720" y="508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6805440" y="50846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615600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9105000">
              <a:off x="6300000" y="501300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536400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565272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7922400">
              <a:off x="5797080" y="50130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2552600">
              <a:off x="5940000" y="494172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3825200">
              <a:off x="5074560" y="49420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493200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1857800">
              <a:off x="6444720" y="50842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4644720" y="501480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1857800">
              <a:off x="4644360" y="5157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2552600">
              <a:off x="4356000" y="501300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169520" y="4769640"/>
            <a:ext cx="3033720" cy="503280"/>
            <a:chOff x="4169520" y="4769640"/>
            <a:chExt cx="3033720" cy="503280"/>
          </a:xfrm>
        </p:grpSpPr>
        <p:sp>
          <p:nvSpPr>
            <p:cNvPr id="104" name=""/>
            <p:cNvSpPr/>
            <p:nvPr/>
          </p:nvSpPr>
          <p:spPr>
            <a:xfrm rot="19543200">
              <a:off x="4211280" y="487008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9280" y="48704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4836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905000">
              <a:off x="500400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0720" y="494172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5164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8722400">
              <a:off x="5506920" y="494208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752600">
              <a:off x="5364000" y="501336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025200">
              <a:off x="6229800" y="50126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7236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57800">
              <a:off x="4859640" y="48704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59640" y="494028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57800">
              <a:off x="6659640" y="479700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752600">
              <a:off x="6948360" y="494172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385520" y="4841280"/>
            <a:ext cx="3033720" cy="503280"/>
            <a:chOff x="4385520" y="4841280"/>
            <a:chExt cx="3033720" cy="503280"/>
          </a:xfrm>
        </p:grpSpPr>
        <p:sp>
          <p:nvSpPr>
            <p:cNvPr id="119" name=""/>
            <p:cNvSpPr/>
            <p:nvPr/>
          </p:nvSpPr>
          <p:spPr>
            <a:xfrm rot="19543200">
              <a:off x="442728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15280" y="49420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6436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9905000">
              <a:off x="522000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5672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764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8722400">
              <a:off x="5722920" y="501372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752600">
              <a:off x="5580000" y="50850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3025200">
              <a:off x="6445800" y="50842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8836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57800">
              <a:off x="5075640" y="49420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5640" y="50119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57800">
              <a:off x="6875640" y="4868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752600">
              <a:off x="716436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59280" y="5373720"/>
            <a:ext cx="1943280" cy="1484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21041400">
            <a:off x="1618920" y="3860280"/>
            <a:ext cx="2521080" cy="1295640"/>
          </a:xfrm>
          <a:prstGeom prst="wedgeRoundRectCallout">
            <a:avLst>
              <a:gd name="adj1" fmla="val 55259"/>
              <a:gd name="adj2" fmla="val 73620"/>
              <a:gd name="adj3" fmla="val 16667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Стакан с загрязненным й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933720"/>
            <a:ext cx="2735280" cy="863640"/>
          </a:xfrm>
          <a:prstGeom prst="wedgeRoundRectCallout">
            <a:avLst>
              <a:gd name="adj1" fmla="val 47388"/>
              <a:gd name="adj2" fmla="val 79597"/>
              <a:gd name="adj3" fmla="val 16667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Загрязняющ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приме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64000" y="476280"/>
            <a:ext cx="1081080" cy="1324080"/>
            <a:chOff x="5364000" y="476280"/>
            <a:chExt cx="1081080" cy="1324080"/>
          </a:xfrm>
        </p:grpSpPr>
        <p:sp>
          <p:nvSpPr>
            <p:cNvPr id="137" name=""/>
            <p:cNvSpPr/>
            <p:nvPr/>
          </p:nvSpPr>
          <p:spPr>
            <a:xfrm>
              <a:off x="5364000" y="476280"/>
              <a:ext cx="1081080" cy="13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1323720"/>
              <a:ext cx="1079280" cy="423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5825160" y="809640"/>
              <a:ext cx="158760" cy="10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64000" y="11124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45080" y="11124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rot="5400000">
            <a:off x="4805280" y="1034640"/>
            <a:ext cx="2197080" cy="3384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1484280"/>
            <a:ext cx="2808360" cy="1008000"/>
          </a:xfrm>
          <a:prstGeom prst="wedgeRoundRectCallout">
            <a:avLst>
              <a:gd name="adj1" fmla="val 43782"/>
              <a:gd name="adj2" fmla="val -708"/>
              <a:gd name="adj3" fmla="val 16667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Колба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холодной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2997360"/>
            <a:ext cx="3384720" cy="287280"/>
          </a:xfrm>
          <a:custGeom>
            <a:avLst/>
            <a:gdLst/>
            <a:ahLst/>
            <a:rect l="l" t="t" r="r" b="b"/>
            <a:pathLst>
              <a:path w="2132" h="204">
                <a:moveTo>
                  <a:pt x="0" y="0"/>
                </a:moveTo>
                <a:cubicBezTo>
                  <a:pt x="128" y="53"/>
                  <a:pt x="257" y="106"/>
                  <a:pt x="499" y="136"/>
                </a:cubicBezTo>
                <a:cubicBezTo>
                  <a:pt x="741" y="166"/>
                  <a:pt x="1180" y="204"/>
                  <a:pt x="1452" y="181"/>
                </a:cubicBezTo>
                <a:cubicBezTo>
                  <a:pt x="1724" y="158"/>
                  <a:pt x="1928" y="79"/>
                  <a:pt x="2132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2708280"/>
            <a:ext cx="2737080" cy="1297080"/>
          </a:xfrm>
          <a:prstGeom prst="wedgeRoundRectCallout">
            <a:avLst>
              <a:gd name="adj1" fmla="val 145995"/>
              <a:gd name="adj2" fmla="val 34087"/>
              <a:gd name="adj3" fmla="val 16667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чищенные кристаллы й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817160" y="3531240"/>
            <a:ext cx="2202480" cy="402480"/>
            <a:chOff x="4817160" y="3531240"/>
            <a:chExt cx="2202480" cy="402480"/>
          </a:xfrm>
        </p:grpSpPr>
        <p:sp>
          <p:nvSpPr>
            <p:cNvPr id="147" name=""/>
            <p:cNvSpPr/>
            <p:nvPr/>
          </p:nvSpPr>
          <p:spPr>
            <a:xfrm rot="19543200">
              <a:off x="4858920" y="357300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6000" y="371772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04000" y="357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9905000">
              <a:off x="6298920" y="36464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36464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3280" y="371772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8722400">
              <a:off x="5650920" y="36464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752600">
              <a:off x="5435280" y="36464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057800">
              <a:off x="5219640" y="364608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311720" y="3240360"/>
            <a:ext cx="3185640" cy="807120"/>
            <a:chOff x="4311720" y="3240360"/>
            <a:chExt cx="3185640" cy="807120"/>
          </a:xfrm>
        </p:grpSpPr>
        <p:sp>
          <p:nvSpPr>
            <p:cNvPr id="157" name=""/>
            <p:cNvSpPr/>
            <p:nvPr/>
          </p:nvSpPr>
          <p:spPr>
            <a:xfrm rot="3025200">
              <a:off x="4355640" y="3284640"/>
              <a:ext cx="21564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831200">
              <a:off x="4860360" y="35712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00360" y="34272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9543200">
              <a:off x="5076720" y="3715920"/>
              <a:ext cx="21564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4720" y="357156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92360" y="3716280"/>
              <a:ext cx="21600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4360" y="3716280"/>
              <a:ext cx="21564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905000">
              <a:off x="5508000" y="3716280"/>
              <a:ext cx="21600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000" y="3716280"/>
              <a:ext cx="21600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8722400">
              <a:off x="5940000" y="378684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3025200">
              <a:off x="7237440" y="328392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92720" y="34272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6720" y="357156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57800">
              <a:off x="6660720" y="364428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52600">
              <a:off x="6444720" y="3716280"/>
              <a:ext cx="215640" cy="215280"/>
            </a:xfrm>
            <a:prstGeom prst="cube">
              <a:avLst>
                <a:gd name="adj" fmla="val 25000"/>
              </a:avLst>
            </a:prstGeom>
            <a:solidFill>
              <a:srgbClr val="3200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242600" y="4841280"/>
            <a:ext cx="3033720" cy="503280"/>
            <a:chOff x="4242600" y="4841280"/>
            <a:chExt cx="3033720" cy="503280"/>
          </a:xfrm>
        </p:grpSpPr>
        <p:sp>
          <p:nvSpPr>
            <p:cNvPr id="173" name=""/>
            <p:cNvSpPr/>
            <p:nvPr/>
          </p:nvSpPr>
          <p:spPr>
            <a:xfrm rot="19543200">
              <a:off x="4284360" y="49417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360" y="49420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2144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9905000">
              <a:off x="507708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380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8722400">
              <a:off x="5580000" y="501372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752600">
              <a:off x="5437080" y="5085000"/>
              <a:ext cx="216000" cy="21564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3025200">
              <a:off x="6302880" y="50842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45440" y="501336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57800">
              <a:off x="4932720" y="494208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2720" y="501192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57800">
              <a:off x="6732720" y="4868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752600">
              <a:off x="7021440" y="501336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5092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истка иода (аним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-0.00399 -0.20996 E">
                                      <p:cBhvr>
                                        <p:cTn id="24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0.00382 -0.23102 E">
                                      <p:cBhvr>
                                        <p:cTn id="44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9840" y="1484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виртуальной лабораторной работы, которую нет возможности провести в реальных условия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4751280" cy="3570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4000" y="371628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а «Виртуальная химическая лаборато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040" y="476280"/>
            <a:ext cx="303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1908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ование познавательного интереса к предмету с помощью  электронных презентации уроков не только преподавателя, но и с презентациями, созданными самими школь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492360" y="429264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2592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836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ндивидуальной работы, для чего можно использовать различные кроссворды с подсказк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подходит специальная программа по созданию кроссвор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399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1908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быстрого и эффективного тестирования зн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рке знаний учащихся может использоваться  программа «Конструктор тестов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 пройден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659640" y="5013360"/>
            <a:ext cx="15843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162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233208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креплении пройденного материала в системе используются  различ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11640" y="191628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908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электронных пособий при обучении решению 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2978280" cy="4465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132000" y="3500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25923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6707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торона субъекти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а ученика, она определяется его собственными побуждениями и пристрастиями, осознаваемыми им потреб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юда все трудности вызова мотивации со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ожет лишь опосредованно повлиять на неё, создавая предпосылки и формируя основания, на базе которых у учащихся возникает личная заинтересованность в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335640" y="189000"/>
            <a:ext cx="2629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Не пытайтесь удовлетворить своё тщеславие, стараясь научить кого-то слишком многому. Разбудите в человеке любопыт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аточно приоткрыть разуму дверь, не перегружая его, просто заронить в него иск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там есть чему гореть, разум будет охвачен пламенем"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толь Фра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, прежде всего результат внутренних потребностей ученика, его интересов и эмоций, целей и задач, наличие мотивов, направленных на активизацию его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мотив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, прежде всего, создание условий  для появления внутренних побуждений к учению, осознания их самими учащимися и дальнейшего саморазвития мотивационной сф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405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истика мотиваци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учения школьнико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по Н.В. Немово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628640"/>
          <a:ext cx="8893080" cy="5058000"/>
        </p:xfrm>
        <a:graphic>
          <a:graphicData uri="http://schemas.openxmlformats.org/drawingml/2006/table">
            <a:tbl>
              <a:tblPr/>
              <a:tblGrid>
                <a:gridCol w="2305080"/>
                <a:gridCol w="658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мотив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ростковая шко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йкий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 к определенному предмету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тся крайне редко, обычно формируется в семь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егания неудач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ние иметь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ую отметк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даже если оно не подкрепляется знаниями, как подтверждение высокого статуса в коллективе и средство самоутвержд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ый интерес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 достижения успеха в учебе не развивае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я, вызванная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ростковыми установкам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казки, списыва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н учителя и др.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2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405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истика мотиваци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учения школьнико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по Н.В. Немово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628640"/>
          <a:ext cx="8893080" cy="4464360"/>
        </p:xfrm>
        <a:graphic>
          <a:graphicData uri="http://schemas.openxmlformats.org/drawingml/2006/table">
            <a:tbl>
              <a:tblPr/>
              <a:tblGrid>
                <a:gridCol w="2089080"/>
                <a:gridCol w="68040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мотивац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ая шко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я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я образования в профессиональных учебных заведения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предмета с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 будущег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редний подросток: выбор будущего с позиции любимого предмета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мость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и как мотиватора снижаетс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тметка выступает не мотиватором, а критерием качества знан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я достижений высоких результатов по значимым предмета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, собственная мотива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азвивать положительные мотивы учащихся можно действовать через более раннюю стадию деятельности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вательную потре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начальный уровень этой потребности – э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о впечатлени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этом уровне индивид реагирует на новизну стимула. Это фундамент познавательной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й уровень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знани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любознательность). Это интерес к предмету, склонность к его изучению. Но познавательная потребность на уровне любознательности носит стихийно-эмоциона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ысшем уровне познавательная потребность имеет характе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направл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62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ы созда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ой мотив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елляция к жизненному опыту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сылка на то, что приобретаемое сегодня знание понадобится при изучении какого-то последующего материала, важность овладения которым со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ыз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проблемной ситу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занимательного сюже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евой подх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23320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эти приемы хорошо реализуются с помощью компьютера и программного обеспечения и поддерживаются возможностями современных ИКТ-технологий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18795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1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зобразительных возможностей (анимация, видеофрагмент) и звука, которые позволяют  сделать содержание учебного материала более наглядным, понятным, занимательны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овождение преподавания учебного материала динамическими рисунками и моделями, использование которых позволяет   ученикам экспериментировать, рассматривать изучаемое явление с разн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4038480" cy="356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96000" y="458136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ация, образование иона аммония по донорно-акцепторному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1:12:31Z</dcterms:created>
  <dc:creator>_</dc:creator>
  <dc:description/>
  <dc:language>en-US</dc:language>
  <cp:lastModifiedBy>_</cp:lastModifiedBy>
  <dcterms:modified xsi:type="dcterms:W3CDTF">2010-11-01T13:35:48Z</dcterms:modified>
  <cp:revision>4</cp:revision>
  <dc:subject/>
  <dc:title>Повышение познавательного интереса и формирование предметной мотивации учащихся на уроках химии с помощью современных ИКТ-технологий</dc:title>
</cp:coreProperties>
</file>