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2523-5B1B-4C54-B295-F86B70F23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81CE-FEE7-4622-86D1-2A1F691A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7150-CB2A-4CC9-A0C2-7144DD5B2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5F69-DF44-4D6D-8DB6-6CBE5CE91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35BF2-A38B-4F90-AE2B-94536F727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6361-E7A1-4667-9049-C5D6DB5B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8742E-03F3-46C4-822F-ADE8949D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522F-48BD-4ABB-8B33-FA565500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15EF7-72CA-4C3A-9395-2BA9E277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B2580-4B4E-4CD4-A004-D0A9A683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D6E7-0985-423E-8211-3A4D42A4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EFFC-CEA9-429B-9A9B-BC4573FF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80D41-2798-414F-A26F-E44CB3CD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ABCE-0DC3-4B38-A211-0EDCC071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EB71-2BC3-4DCC-AB6F-3A33ED6E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51F2-5C81-4215-867D-14AE004E5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19F5-7431-4A4F-BF13-6F44E4C4A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7C43-85B6-4E15-88EF-9ED9129F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5CF1-6CDA-4793-81E2-6374E59F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5878-26C5-46CA-A05C-450FC652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0614-ECA9-4142-9B64-F7A08352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0470-6525-4528-AB59-51266AD2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B30E-222C-4ECA-9581-4956A131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884E-EB85-4622-B294-E7BD1B3D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400040"/>
            </a:solidFill>
            <a:ln w="442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40004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cc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FF68-1061-4BE2-ACF0-D37DBFAC7F9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400040"/>
            </a:solidFill>
            <a:ln w="507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cc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A08E-B8B3-4B5D-9894-AD322A55CE9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ffffff"/>
                </a:solidFill>
                <a:latin typeface="Times New Roman"/>
              </a:rPr>
              <a:t>Парикмахерское искусство</a:t>
            </a:r>
            <a:br>
              <a:rPr sz="5600"/>
            </a:br>
            <a:r>
              <a:rPr b="0" lang="ru-RU" sz="5600" spc="-1" strike="noStrike">
                <a:solidFill>
                  <a:srgbClr val="ffffff"/>
                </a:solidFill>
                <a:latin typeface="Times New Roman"/>
              </a:rPr>
              <a:t>Наша практика</a:t>
            </a:r>
            <a:endParaRPr b="0" lang="en-US" sz="5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866920" y="3933360"/>
            <a:ext cx="302580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Работу выполняли ученицы ГАОУ СПО КСТ группы П5-11 Кравченко Екатерин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Дудник Татьян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И различные кос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6" descr="-nRB09x_l10"/>
          <p:cNvPicPr/>
          <p:nvPr/>
        </p:nvPicPr>
        <p:blipFill>
          <a:blip r:embed="rId1"/>
          <a:stretch/>
        </p:blipFill>
        <p:spPr>
          <a:xfrm>
            <a:off x="1332000" y="1773360"/>
            <a:ext cx="63370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8" descr="b04cItGM5xs"/>
          <p:cNvPicPr/>
          <p:nvPr/>
        </p:nvPicPr>
        <p:blipFill>
          <a:blip r:embed="rId1"/>
          <a:stretch/>
        </p:blipFill>
        <p:spPr>
          <a:xfrm>
            <a:off x="1116000" y="765000"/>
            <a:ext cx="2879640" cy="2401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8jtGkYs8RLM"/>
          <p:cNvPicPr/>
          <p:nvPr/>
        </p:nvPicPr>
        <p:blipFill>
          <a:blip r:embed="rId2"/>
          <a:stretch/>
        </p:blipFill>
        <p:spPr>
          <a:xfrm>
            <a:off x="684360" y="3429000"/>
            <a:ext cx="3519360" cy="2585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VYuYawchND0"/>
          <p:cNvPicPr/>
          <p:nvPr/>
        </p:nvPicPr>
        <p:blipFill>
          <a:blip r:embed="rId3"/>
          <a:stretch/>
        </p:blipFill>
        <p:spPr>
          <a:xfrm>
            <a:off x="4780080" y="1341360"/>
            <a:ext cx="39686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7" descr="7vpLAbmc6m4"/>
          <p:cNvPicPr/>
          <p:nvPr/>
        </p:nvPicPr>
        <p:blipFill>
          <a:blip r:embed="rId1"/>
          <a:stretch/>
        </p:blipFill>
        <p:spPr>
          <a:xfrm>
            <a:off x="468360" y="1916280"/>
            <a:ext cx="3902040" cy="4105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5YOhhpZIc0s"/>
          <p:cNvPicPr/>
          <p:nvPr/>
        </p:nvPicPr>
        <p:blipFill>
          <a:blip r:embed="rId2"/>
          <a:stretch/>
        </p:blipFill>
        <p:spPr>
          <a:xfrm>
            <a:off x="4716360" y="1989000"/>
            <a:ext cx="39592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ПАСИБО ЗА ВНИМАНИЕ =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7" descr="InD5bSgnJzU"/>
          <p:cNvPicPr/>
          <p:nvPr/>
        </p:nvPicPr>
        <p:blipFill>
          <a:blip r:embed="rId1"/>
          <a:stretch/>
        </p:blipFill>
        <p:spPr>
          <a:xfrm>
            <a:off x="2874960" y="1773360"/>
            <a:ext cx="33940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начале нашей практики мы научились качественно выполнять химическую завивку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14" descr="lbS_qwYoBYM"/>
          <p:cNvPicPr/>
          <p:nvPr/>
        </p:nvPicPr>
        <p:blipFill>
          <a:blip r:embed="rId1"/>
          <a:stretch/>
        </p:blipFill>
        <p:spPr>
          <a:xfrm>
            <a:off x="684360" y="1773360"/>
            <a:ext cx="3240000" cy="4319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RZQ7TKmJbKU"/>
          <p:cNvPicPr/>
          <p:nvPr/>
        </p:nvPicPr>
        <p:blipFill>
          <a:blip r:embed="rId2"/>
          <a:stretch/>
        </p:blipFill>
        <p:spPr>
          <a:xfrm>
            <a:off x="4859280" y="1773360"/>
            <a:ext cx="31860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22" descr="oINOcYx80i8"/>
          <p:cNvPicPr/>
          <p:nvPr/>
        </p:nvPicPr>
        <p:blipFill>
          <a:blip r:embed="rId1"/>
          <a:stretch/>
        </p:blipFill>
        <p:spPr>
          <a:xfrm>
            <a:off x="852480" y="1828800"/>
            <a:ext cx="3362400" cy="4038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3" descr="JFfm1WI2jws"/>
          <p:cNvPicPr/>
          <p:nvPr/>
        </p:nvPicPr>
        <p:blipFill>
          <a:blip r:embed="rId2"/>
          <a:stretch/>
        </p:blipFill>
        <p:spPr>
          <a:xfrm>
            <a:off x="4897440" y="1919160"/>
            <a:ext cx="3321000" cy="38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осле этого мы начали учиться выполнять красивые укладки и стрижк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6" descr="aSCFzF5aIIE"/>
          <p:cNvPicPr/>
          <p:nvPr/>
        </p:nvPicPr>
        <p:blipFill>
          <a:blip r:embed="rId1"/>
          <a:stretch/>
        </p:blipFill>
        <p:spPr>
          <a:xfrm>
            <a:off x="539640" y="1773360"/>
            <a:ext cx="3394080" cy="4319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RW8ZzimyR3M"/>
          <p:cNvPicPr/>
          <p:nvPr/>
        </p:nvPicPr>
        <p:blipFill>
          <a:blip r:embed="rId2"/>
          <a:stretch/>
        </p:blipFill>
        <p:spPr>
          <a:xfrm>
            <a:off x="4140360" y="1773360"/>
            <a:ext cx="44272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Наши первые клиент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9" descr="slVRMqrkNSA"/>
          <p:cNvPicPr/>
          <p:nvPr/>
        </p:nvPicPr>
        <p:blipFill>
          <a:blip r:embed="rId1"/>
          <a:stretch/>
        </p:blipFill>
        <p:spPr>
          <a:xfrm>
            <a:off x="533520" y="2494080"/>
            <a:ext cx="4002120" cy="2706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XhTWW1TTZF0"/>
          <p:cNvPicPr/>
          <p:nvPr/>
        </p:nvPicPr>
        <p:blipFill>
          <a:blip r:embed="rId2"/>
          <a:stretch/>
        </p:blipFill>
        <p:spPr>
          <a:xfrm>
            <a:off x="4684680" y="2494080"/>
            <a:ext cx="400212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Первые стрижк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9" descr="Uwo8coHz5LQ"/>
          <p:cNvPicPr/>
          <p:nvPr/>
        </p:nvPicPr>
        <p:blipFill>
          <a:blip r:embed="rId1"/>
          <a:stretch/>
        </p:blipFill>
        <p:spPr>
          <a:xfrm>
            <a:off x="852480" y="1828800"/>
            <a:ext cx="3362400" cy="4038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yjQkMKpNUuM"/>
          <p:cNvPicPr/>
          <p:nvPr/>
        </p:nvPicPr>
        <p:blipFill>
          <a:blip r:embed="rId2"/>
          <a:stretch/>
        </p:blipFill>
        <p:spPr>
          <a:xfrm>
            <a:off x="5005440" y="1828800"/>
            <a:ext cx="3362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22" descr="CVJQxIiAcRk"/>
          <p:cNvPicPr/>
          <p:nvPr/>
        </p:nvPicPr>
        <p:blipFill>
          <a:blip r:embed="rId1"/>
          <a:stretch/>
        </p:blipFill>
        <p:spPr>
          <a:xfrm>
            <a:off x="852480" y="1828800"/>
            <a:ext cx="3362400" cy="4038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4" descr="IgZXIE6JOuo"/>
          <p:cNvPicPr/>
          <p:nvPr/>
        </p:nvPicPr>
        <p:blipFill>
          <a:blip r:embed="rId2"/>
          <a:stretch/>
        </p:blipFill>
        <p:spPr>
          <a:xfrm>
            <a:off x="5005440" y="1828800"/>
            <a:ext cx="3362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8" descr="ZlCjMrtUsWU"/>
          <p:cNvPicPr/>
          <p:nvPr/>
        </p:nvPicPr>
        <p:blipFill>
          <a:blip r:embed="rId1"/>
          <a:stretch/>
        </p:blipFill>
        <p:spPr>
          <a:xfrm>
            <a:off x="900000" y="1773360"/>
            <a:ext cx="3394080" cy="4176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sr1ixqPjWOQ"/>
          <p:cNvPicPr/>
          <p:nvPr/>
        </p:nvPicPr>
        <p:blipFill>
          <a:blip r:embed="rId2"/>
          <a:stretch/>
        </p:blipFill>
        <p:spPr>
          <a:xfrm>
            <a:off x="5003640" y="1878120"/>
            <a:ext cx="342288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Также мы научились делать модные прическ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13" descr="ecd8HHNqpYo"/>
          <p:cNvPicPr/>
          <p:nvPr/>
        </p:nvPicPr>
        <p:blipFill>
          <a:blip r:embed="rId1"/>
          <a:stretch/>
        </p:blipFill>
        <p:spPr>
          <a:xfrm>
            <a:off x="852480" y="1828800"/>
            <a:ext cx="3362400" cy="4038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p1kiKbFkZIw"/>
          <p:cNvPicPr/>
          <p:nvPr/>
        </p:nvPicPr>
        <p:blipFill>
          <a:blip r:embed="rId2"/>
          <a:stretch/>
        </p:blipFill>
        <p:spPr>
          <a:xfrm>
            <a:off x="5005440" y="1828800"/>
            <a:ext cx="3362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9T15:31:43Z</dcterms:created>
  <dc:creator>Customer</dc:creator>
  <dc:description/>
  <dc:language>en-US</dc:language>
  <cp:lastModifiedBy>user</cp:lastModifiedBy>
  <dcterms:modified xsi:type="dcterms:W3CDTF">2013-03-20T09:52:38Z</dcterms:modified>
  <cp:revision>5</cp:revision>
  <dc:subject/>
  <dc:title>Парикмахерское искусство.</dc:title>
</cp:coreProperties>
</file>