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0C9-028A-4ED1-B531-6229B3E1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498-8DFD-42FA-B0F6-DA7F4A26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BFB-E9BA-4B9E-A1A3-77BBD63C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5CF-50CC-4D5A-9F96-C747BC9A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7974-E8DA-4E11-8FEB-B04616E7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EACD-15B4-4CEE-9CD3-E82F556E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D5B0-F0AF-4767-90D0-24A2034B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B0E3-6F5B-4CD6-B112-DCEC54DC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CA53-624C-4639-B91C-66B2D065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8A72-1012-472B-BD8D-D6E8A495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A8E6-3C64-4303-A5F9-AA3879A5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F87-FC2F-480C-A2FA-17758D2D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5906-3613-4B55-8DC9-4ADF079D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63D8-1FD9-40CA-BA1B-2B1B89FC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B21F-75D7-4C5B-BA5C-3D47E028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500D-9118-416C-BFBA-77B8C3AD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BE02-7242-4BEC-B8C9-670A1F38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701-A3B0-48D8-B0CA-E238474E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5B5-9697-40B0-98A4-88B154C8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794-A33C-4755-B956-5DA354BC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521-AAE5-48D8-8818-57BCC3CD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1BA-0C29-44D4-9937-58D0EF4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F89-2E9E-4A1D-925A-448A6A2B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4D9-C5AF-4238-BE46-77F742E0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400040"/>
            </a:solidFill>
            <a:ln w="442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40004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E76D-11C1-4D42-BA4A-0CDF7C1BE6A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400040"/>
            </a:solidFill>
            <a:ln w="507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CF0C-BD27-4702-8E30-A9D7DCF8E5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Times New Roman"/>
              </a:rPr>
              <a:t>Парикмахерское искусство</a:t>
            </a:r>
            <a:br>
              <a:rPr sz="5600"/>
            </a:br>
            <a:r>
              <a:rPr b="0" lang="ru-RU" sz="5600" spc="-1" strike="noStrike">
                <a:solidFill>
                  <a:srgbClr val="ffffff"/>
                </a:solidFill>
                <a:latin typeface="Times New Roman"/>
              </a:rPr>
              <a:t>Наша практика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866920" y="3933360"/>
            <a:ext cx="30258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аботу выполняли ученицы ГАОУ СПО КСТ группы П5-11 Кравченко Екатерин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Дудник Татьян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 различные кос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-nRB09x_l10"/>
          <p:cNvPicPr/>
          <p:nvPr/>
        </p:nvPicPr>
        <p:blipFill>
          <a:blip r:embed="rId1"/>
          <a:stretch/>
        </p:blipFill>
        <p:spPr>
          <a:xfrm>
            <a:off x="1332000" y="1773360"/>
            <a:ext cx="6337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8" descr="b04cItGM5xs"/>
          <p:cNvPicPr/>
          <p:nvPr/>
        </p:nvPicPr>
        <p:blipFill>
          <a:blip r:embed="rId1"/>
          <a:stretch/>
        </p:blipFill>
        <p:spPr>
          <a:xfrm>
            <a:off x="1116000" y="765000"/>
            <a:ext cx="2879640" cy="240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8jtGkYs8RLM"/>
          <p:cNvPicPr/>
          <p:nvPr/>
        </p:nvPicPr>
        <p:blipFill>
          <a:blip r:embed="rId2"/>
          <a:stretch/>
        </p:blipFill>
        <p:spPr>
          <a:xfrm>
            <a:off x="684360" y="3429000"/>
            <a:ext cx="3519360" cy="258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VYuYawchND0"/>
          <p:cNvPicPr/>
          <p:nvPr/>
        </p:nvPicPr>
        <p:blipFill>
          <a:blip r:embed="rId3"/>
          <a:stretch/>
        </p:blipFill>
        <p:spPr>
          <a:xfrm>
            <a:off x="4780080" y="1341360"/>
            <a:ext cx="3968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7" descr="7vpLAbmc6m4"/>
          <p:cNvPicPr/>
          <p:nvPr/>
        </p:nvPicPr>
        <p:blipFill>
          <a:blip r:embed="rId1"/>
          <a:stretch/>
        </p:blipFill>
        <p:spPr>
          <a:xfrm>
            <a:off x="468360" y="1916280"/>
            <a:ext cx="3902040" cy="4105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5YOhhpZIc0s"/>
          <p:cNvPicPr/>
          <p:nvPr/>
        </p:nvPicPr>
        <p:blipFill>
          <a:blip r:embed="rId2"/>
          <a:stretch/>
        </p:blipFill>
        <p:spPr>
          <a:xfrm>
            <a:off x="4716360" y="1989000"/>
            <a:ext cx="3959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=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7" descr="InD5bSgnJzU"/>
          <p:cNvPicPr/>
          <p:nvPr/>
        </p:nvPicPr>
        <p:blipFill>
          <a:blip r:embed="rId1"/>
          <a:stretch/>
        </p:blipFill>
        <p:spPr>
          <a:xfrm>
            <a:off x="2874960" y="1773360"/>
            <a:ext cx="3394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начале нашей практики мы научились качественно выполнять химическую завивк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14" descr="lbS_qwYoBYM"/>
          <p:cNvPicPr/>
          <p:nvPr/>
        </p:nvPicPr>
        <p:blipFill>
          <a:blip r:embed="rId1"/>
          <a:stretch/>
        </p:blipFill>
        <p:spPr>
          <a:xfrm>
            <a:off x="684360" y="1773360"/>
            <a:ext cx="3240000" cy="431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RZQ7TKmJbKU"/>
          <p:cNvPicPr/>
          <p:nvPr/>
        </p:nvPicPr>
        <p:blipFill>
          <a:blip r:embed="rId2"/>
          <a:stretch/>
        </p:blipFill>
        <p:spPr>
          <a:xfrm>
            <a:off x="4859280" y="1773360"/>
            <a:ext cx="318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2" descr="oINOcYx80i8"/>
          <p:cNvPicPr/>
          <p:nvPr/>
        </p:nvPicPr>
        <p:blipFill>
          <a:blip r:embed="rId1"/>
          <a:stretch/>
        </p:blipFill>
        <p:spPr>
          <a:xfrm>
            <a:off x="852480" y="1828800"/>
            <a:ext cx="3362400" cy="4038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JFfm1WI2jws"/>
          <p:cNvPicPr/>
          <p:nvPr/>
        </p:nvPicPr>
        <p:blipFill>
          <a:blip r:embed="rId2"/>
          <a:stretch/>
        </p:blipFill>
        <p:spPr>
          <a:xfrm>
            <a:off x="4897440" y="1919160"/>
            <a:ext cx="3321000" cy="38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сле этого мы начали учиться выполнять красивые укладки и стриж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6" descr="aSCFzF5aIIE"/>
          <p:cNvPicPr/>
          <p:nvPr/>
        </p:nvPicPr>
        <p:blipFill>
          <a:blip r:embed="rId1"/>
          <a:stretch/>
        </p:blipFill>
        <p:spPr>
          <a:xfrm>
            <a:off x="539640" y="1773360"/>
            <a:ext cx="3394080" cy="431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RW8ZzimyR3M"/>
          <p:cNvPicPr/>
          <p:nvPr/>
        </p:nvPicPr>
        <p:blipFill>
          <a:blip r:embed="rId2"/>
          <a:stretch/>
        </p:blipFill>
        <p:spPr>
          <a:xfrm>
            <a:off x="4140360" y="1773360"/>
            <a:ext cx="44272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ши первые клиен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9" descr="slVRMqrkNSA"/>
          <p:cNvPicPr/>
          <p:nvPr/>
        </p:nvPicPr>
        <p:blipFill>
          <a:blip r:embed="rId1"/>
          <a:stretch/>
        </p:blipFill>
        <p:spPr>
          <a:xfrm>
            <a:off x="533520" y="2494080"/>
            <a:ext cx="4002120" cy="2706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XhTWW1TTZF0"/>
          <p:cNvPicPr/>
          <p:nvPr/>
        </p:nvPicPr>
        <p:blipFill>
          <a:blip r:embed="rId2"/>
          <a:stretch/>
        </p:blipFill>
        <p:spPr>
          <a:xfrm>
            <a:off x="4684680" y="2494080"/>
            <a:ext cx="40021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ервые стриж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9" descr="Uwo8coHz5LQ"/>
          <p:cNvPicPr/>
          <p:nvPr/>
        </p:nvPicPr>
        <p:blipFill>
          <a:blip r:embed="rId1"/>
          <a:stretch/>
        </p:blipFill>
        <p:spPr>
          <a:xfrm>
            <a:off x="852480" y="1828800"/>
            <a:ext cx="3362400" cy="4038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yjQkMKpNUuM"/>
          <p:cNvPicPr/>
          <p:nvPr/>
        </p:nvPicPr>
        <p:blipFill>
          <a:blip r:embed="rId2"/>
          <a:stretch/>
        </p:blipFill>
        <p:spPr>
          <a:xfrm>
            <a:off x="5005440" y="1828800"/>
            <a:ext cx="336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2" descr="CVJQxIiAcRk"/>
          <p:cNvPicPr/>
          <p:nvPr/>
        </p:nvPicPr>
        <p:blipFill>
          <a:blip r:embed="rId1"/>
          <a:stretch/>
        </p:blipFill>
        <p:spPr>
          <a:xfrm>
            <a:off x="852480" y="1828800"/>
            <a:ext cx="3362400" cy="4038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IgZXIE6JOuo"/>
          <p:cNvPicPr/>
          <p:nvPr/>
        </p:nvPicPr>
        <p:blipFill>
          <a:blip r:embed="rId2"/>
          <a:stretch/>
        </p:blipFill>
        <p:spPr>
          <a:xfrm>
            <a:off x="5005440" y="1828800"/>
            <a:ext cx="336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8" descr="ZlCjMrtUsWU"/>
          <p:cNvPicPr/>
          <p:nvPr/>
        </p:nvPicPr>
        <p:blipFill>
          <a:blip r:embed="rId1"/>
          <a:stretch/>
        </p:blipFill>
        <p:spPr>
          <a:xfrm>
            <a:off x="900000" y="1773360"/>
            <a:ext cx="3394080" cy="417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sr1ixqPjWOQ"/>
          <p:cNvPicPr/>
          <p:nvPr/>
        </p:nvPicPr>
        <p:blipFill>
          <a:blip r:embed="rId2"/>
          <a:stretch/>
        </p:blipFill>
        <p:spPr>
          <a:xfrm>
            <a:off x="5003640" y="1878120"/>
            <a:ext cx="34228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акже мы научились делать модные причес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13" descr="ecd8HHNqpYo"/>
          <p:cNvPicPr/>
          <p:nvPr/>
        </p:nvPicPr>
        <p:blipFill>
          <a:blip r:embed="rId1"/>
          <a:stretch/>
        </p:blipFill>
        <p:spPr>
          <a:xfrm>
            <a:off x="852480" y="1828800"/>
            <a:ext cx="3362400" cy="40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p1kiKbFkZIw"/>
          <p:cNvPicPr/>
          <p:nvPr/>
        </p:nvPicPr>
        <p:blipFill>
          <a:blip r:embed="rId2"/>
          <a:stretch/>
        </p:blipFill>
        <p:spPr>
          <a:xfrm>
            <a:off x="5005440" y="1828800"/>
            <a:ext cx="336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5:31:43Z</dcterms:created>
  <dc:creator>Customer</dc:creator>
  <dc:description/>
  <dc:language>en-US</dc:language>
  <cp:lastModifiedBy>user</cp:lastModifiedBy>
  <dcterms:modified xsi:type="dcterms:W3CDTF">2013-03-20T09:52:38Z</dcterms:modified>
  <cp:revision>5</cp:revision>
  <dc:subject/>
  <dc:title>Парикмахерское искусство.</dc:title>
</cp:coreProperties>
</file>