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5C8-EFEC-4EA8-B1D1-830E2294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3B9-115E-4E43-8F2A-FE679F61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1C9-2B4F-4FB9-BA15-F16496F2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D2F-2FFF-4C43-9667-0F6796F1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D2F-3567-45AC-B5DB-60D9818F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6E1-CD9E-4CBF-8DCF-54BCAACE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0A6-56B6-488D-AD44-76AF685C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5BF-062E-42C8-8A4D-B03BE766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918-7B17-4BBF-A1E6-53B5C22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AC6-9BA8-4EF0-AD95-707A923B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D0E-C70E-4C73-BCAA-777FC95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088-FB56-4525-B2DD-F16AB545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F08E-B09D-47E0-951C-72BE45658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4:00:04Z</dcterms:created>
  <dc:creator>Ринат Рамазанов</dc:creator>
  <dc:description/>
  <dc:language>en-US</dc:language>
  <cp:lastModifiedBy>Ринат Рамазанов</cp:lastModifiedBy>
  <dcterms:modified xsi:type="dcterms:W3CDTF">2013-03-19T14:08:02Z</dcterms:modified>
  <cp:revision>1</cp:revision>
  <dc:subject/>
  <dc:title>Презентация PowerPoint</dc:title>
</cp:coreProperties>
</file>