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543A-4DCD-4588-BD36-757ADDE0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8820-24B7-44E9-A56B-BA36FAC4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A0DC-D1D8-4A84-93D3-5CC8F2A9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7D91-2280-4058-B384-0087866C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26D2-71FF-4C62-A943-51592F5E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CEA8-AF30-4ACD-96D4-18976C78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C18-664E-452E-A3AF-6E847579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947B-D989-4425-9B28-F3D49D5C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0978-1AD4-460E-AF1B-C57198F1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A880-ABF1-4682-B5D3-04D9BB3C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0BAF-16A4-439C-B040-16BB8A9D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4A62-A27B-420A-BEEE-F07D9211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AC70-755C-4E79-82F5-CBFB0AF1FF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0" y="-7920"/>
            <a:ext cx="1219212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14:00:04Z</dcterms:created>
  <dc:creator>Ринат Рамазанов</dc:creator>
  <dc:description/>
  <dc:language>en-US</dc:language>
  <cp:lastModifiedBy>Ринат Рамазанов</cp:lastModifiedBy>
  <dcterms:modified xsi:type="dcterms:W3CDTF">2013-03-19T14:08:02Z</dcterms:modified>
  <cp:revision>1</cp:revision>
  <dc:subject/>
  <dc:title>Презентация PowerPoint</dc:title>
</cp:coreProperties>
</file>