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00C-52B8-4DE2-97FF-6D39B7CE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C87-7F1C-4B82-BEE6-81A24D9A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D0B-3904-4D18-8BD4-8FD8981F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3C2-ED60-4C7A-B39B-9E480E2E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3EC-4AAC-49E9-B10D-7E55296D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23B-7FB5-4859-BC35-CC0D9ED1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747-A36A-4BD1-A3F6-63779844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1FB-FEA4-45CE-9D48-8A8DAA1B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929-328C-4373-A977-1D4ED853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3F7-B436-44D2-A48C-2C76955A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5F6-11B8-4976-B738-12314E96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A7A-3A31-4912-86CE-33731BD5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70BA-341E-45F9-A6CD-7740AF11E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1058;&#1077;&#1072;&#1090;&#1088;.ppt" TargetMode="External"/><Relationship Id="rId3" Type="http://schemas.openxmlformats.org/officeDocument/2006/relationships/hyperlink" Target="file:///&#1058;&#1077;&#1072;&#1090;&#1088;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1074;&#1099;&#1089;&#1090;&#1091;&#1087;&#1083;&#1077;&#1085;&#1080;&#1077;%20&#1056;&#1086;&#1089;&#1089;&#1086;&#1096;&#1082;&#1086;%20&#1053;.&#1053;..ppt" TargetMode="External"/><Relationship Id="rId3" Type="http://schemas.openxmlformats.org/officeDocument/2006/relationships/hyperlink" Target="file:///&#1074;&#1099;&#1089;&#1090;&#1091;&#1087;&#1083;&#1077;&#1085;&#1080;&#1077;%20&#1056;&#1086;&#1089;&#1089;&#1086;&#1096;&#1082;&#1086;%20&#1053;.&#1053;..ppt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1360" y="1500120"/>
            <a:ext cx="70722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Педагогический совет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14240" y="2499840"/>
            <a:ext cx="77155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Развитие творческих способностей детей через театрализованную деятельность</a:t>
            </a: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571920" y="4357800"/>
            <a:ext cx="492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провед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ый жур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Мудрые мысли</a:t>
            </a:r>
            <a:r>
              <a:rPr b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ьм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500720" y="478620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одготовила: Кренёва Н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Поощрительная</a:t>
            </a:r>
            <a:r>
              <a:rPr b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ьм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Итоговая</a:t>
            </a:r>
            <a:r>
              <a:rPr b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1000080" y="85716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роект решения педагогического со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143000" y="2286000"/>
            <a:ext cx="71438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785880" y="2143080"/>
            <a:ext cx="76438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брить опыт работы педагогов по организации театрализованной деятельности . Рекомендовать педагогам ознакомиться с материалами опыта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посещение воспитателями групп с целью внедрения положительного опыта по организации театрализованных центров в группах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в помощь воспитателям переч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ть и проводить с детьми все виды театрализованной деятельно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000080" y="85716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роект решения педагогического со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43000" y="2286000"/>
            <a:ext cx="71438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85880" y="2143080"/>
            <a:ext cx="76438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ить театральные уголки новым оборудов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посещение воспитателями групп с целью внедрения положительного опыта по организации театрализованных центров в группах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в помощь воспитателям перечень в Проект решения педагогического 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ть и проводить с детьми все виды театрализованной деятельно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1000080" y="2143080"/>
            <a:ext cx="7072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Благодарим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143000" y="2286000"/>
            <a:ext cx="71438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777\Desktop\c8d82fce3231.gif"/>
          <p:cNvPicPr/>
          <p:nvPr/>
        </p:nvPicPr>
        <p:blipFill>
          <a:blip r:embed="rId2"/>
          <a:stretch/>
        </p:blipFill>
        <p:spPr>
          <a:xfrm>
            <a:off x="3071880" y="4000680"/>
            <a:ext cx="28875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427640" y="4786200"/>
            <a:ext cx="38592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ы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едагога-психо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«Психологическая</a:t>
            </a:r>
            <a:r>
              <a:rPr b="0" lang="ru-RU" sz="4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714920" y="4786200"/>
            <a:ext cx="3571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ы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оспит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Домашнее задание</a:t>
            </a: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00720" y="478620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ы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оспит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Домашнее задание</a:t>
            </a: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500720" y="478620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ы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оспит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Домашнее задание</a:t>
            </a: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780000" y="4786200"/>
            <a:ext cx="4608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ы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педагога дополнитель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«Домашнее задание</a:t>
            </a:r>
            <a:r>
              <a:rPr b="0" lang="ru-RU" sz="4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00720" y="478620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одготовила: педагог-псих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Разминка</a:t>
            </a: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ёрт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500720" y="478620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одготовила: зам. зав. по УВ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Информационно-аналитическая</a:t>
            </a: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500720" y="478620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одготовила: педагог-псих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Практическое мастерство</a:t>
            </a:r>
            <a:r>
              <a:rPr b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6:15:28Z</dcterms:created>
  <dc:creator>Галя</dc:creator>
  <dc:description/>
  <dc:language>en-US</dc:language>
  <cp:lastModifiedBy>DNS</cp:lastModifiedBy>
  <dcterms:modified xsi:type="dcterms:W3CDTF">2013-03-21T16:19:37Z</dcterms:modified>
  <cp:revision>15</cp:revision>
  <dc:subject/>
  <dc:title>Слайд 1</dc:title>
</cp:coreProperties>
</file>