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E83-41C1-48AC-AF43-337531A9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3DC-97B6-4D3C-BE56-7FE73A64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96CF-165E-4F74-A8FF-C8D8BEF7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6649-45E1-4EC2-8387-53C49657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C4F-FB06-45C5-BFDD-54436334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6852-D41C-43FC-A682-56709B5A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1C29-4DF7-4505-8707-D3AF2017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39A-789D-4924-AEE7-4A036382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FB9-579F-407A-904A-3855EEC5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9E4-CD41-46D5-B875-10CD96C5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073-AC26-44F7-BEF1-0D47D75F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2731-6911-4ECA-B684-ABEC797C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14F3-001C-4933-A81E-22E99C6076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&#1058;&#1077;&#1072;&#1090;&#1088;.ppt" TargetMode="External"/><Relationship Id="rId3" Type="http://schemas.openxmlformats.org/officeDocument/2006/relationships/hyperlink" Target="file:///&#1058;&#1077;&#1072;&#1090;&#1088;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&#1074;&#1099;&#1089;&#1090;&#1091;&#1087;&#1083;&#1077;&#1085;&#1080;&#1077;%20&#1056;&#1086;&#1089;&#1089;&#1086;&#1096;&#1082;&#1086;%20&#1053;.&#1053;..ppt" TargetMode="External"/><Relationship Id="rId3" Type="http://schemas.openxmlformats.org/officeDocument/2006/relationships/hyperlink" Target="file:///&#1074;&#1099;&#1089;&#1090;&#1091;&#1087;&#1083;&#1077;&#1085;&#1080;&#1077;%20&#1056;&#1086;&#1089;&#1089;&#1086;&#1096;&#1082;&#1086;%20&#1053;.&#1053;..ppt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1360" y="1500120"/>
            <a:ext cx="70722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Педагогический совет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14240" y="2499840"/>
            <a:ext cx="77155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Развитие творческих способностей детей через театрализованную деятельность</a:t>
            </a: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571920" y="4357800"/>
            <a:ext cx="492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провед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ый жур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1143000" y="192888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000080" y="2928960"/>
            <a:ext cx="7143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Мудрые мысли</a:t>
            </a:r>
            <a:r>
              <a:rPr b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143000" y="192888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ьм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500720" y="4786200"/>
            <a:ext cx="378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Подготовила: Кренёва Н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000080" y="2928960"/>
            <a:ext cx="7143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Поощрительная</a:t>
            </a:r>
            <a:r>
              <a:rPr b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1143000" y="192888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ьм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000080" y="2928960"/>
            <a:ext cx="7143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Итоговая</a:t>
            </a:r>
            <a:r>
              <a:rPr b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1000080" y="85716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роект решения педагогического со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143000" y="2286000"/>
            <a:ext cx="714384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785880" y="2143080"/>
            <a:ext cx="76438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обрить опыт работы педагогов по организации театрализованной деятельности . Рекомендовать педагогам ознакомиться с материалами опыта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исполн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посещение воспитателями групп с целью внедрения положительного опыта по организации театрализованных центров в группах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исполн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в помощь воспитателям переч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исполн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ть и проводить с детьми все виды театрализованной деятельност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исполн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900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000080" y="85716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роект решения педагогического со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143000" y="2286000"/>
            <a:ext cx="714384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85880" y="2143080"/>
            <a:ext cx="76438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лнить театральные уголки новым оборудов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исполн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посещение воспитателями групп с целью внедрения положительного опыта по организации театрализованных центров в группах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исполн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в помощь воспитателям перечень в Проект решения педагогического со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исполн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ть и проводить с детьми все виды театрализованной деятельност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исполн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900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1000080" y="2143080"/>
            <a:ext cx="70722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Благодарим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143000" y="2286000"/>
            <a:ext cx="714384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777\Desktop\c8d82fce3231.gif"/>
          <p:cNvPicPr/>
          <p:nvPr/>
        </p:nvPicPr>
        <p:blipFill>
          <a:blip r:embed="rId2"/>
          <a:stretch/>
        </p:blipFill>
        <p:spPr>
          <a:xfrm>
            <a:off x="3071880" y="4000680"/>
            <a:ext cx="288756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1143000" y="192888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4427640" y="4786200"/>
            <a:ext cx="38592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Вы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Педагога-психол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000080" y="2928960"/>
            <a:ext cx="7143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«Психологическая</a:t>
            </a:r>
            <a:r>
              <a:rPr b="0" lang="ru-RU" sz="4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143000" y="192888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714920" y="4786200"/>
            <a:ext cx="35719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Вы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воспит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000080" y="2928960"/>
            <a:ext cx="7143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Домашнее задание</a:t>
            </a:r>
            <a:r>
              <a:rPr b="1" lang="ru-RU" sz="4800" spc="-1" strike="noStrike">
                <a:solidFill>
                  <a:srgbClr val="990033"/>
                </a:solidFill>
                <a:latin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1143000" y="192888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500720" y="4786200"/>
            <a:ext cx="378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Вы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воспит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000080" y="2928960"/>
            <a:ext cx="7143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Домашнее задание</a:t>
            </a:r>
            <a:r>
              <a:rPr b="1" lang="ru-RU" sz="4800" spc="-1" strike="noStrike">
                <a:solidFill>
                  <a:srgbClr val="990033"/>
                </a:solidFill>
                <a:latin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143000" y="192888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500720" y="4786200"/>
            <a:ext cx="378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Вы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воспит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000080" y="2928960"/>
            <a:ext cx="7143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Домашнее задание</a:t>
            </a:r>
            <a:r>
              <a:rPr b="1" lang="ru-RU" sz="4800" spc="-1" strike="noStrike">
                <a:solidFill>
                  <a:srgbClr val="990033"/>
                </a:solidFill>
                <a:latin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1143000" y="192888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780000" y="4786200"/>
            <a:ext cx="46083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Вы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педагога дополнительно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000080" y="2928960"/>
            <a:ext cx="7143840" cy="16430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«Домашнее задание</a:t>
            </a:r>
            <a:r>
              <a:rPr b="0" lang="ru-RU" sz="4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1143000" y="192888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500720" y="4786200"/>
            <a:ext cx="378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Подготовила: педагог-псих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000080" y="2928960"/>
            <a:ext cx="7143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Разминка</a:t>
            </a:r>
            <a:r>
              <a:rPr b="1" lang="ru-RU" sz="4800" spc="-1" strike="noStrike">
                <a:solidFill>
                  <a:srgbClr val="990033"/>
                </a:solidFill>
                <a:latin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1143000" y="192888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ёрт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500720" y="4786200"/>
            <a:ext cx="378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Подготовила: зам. зав. по УВ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000080" y="2928960"/>
            <a:ext cx="7143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Информационно-аналитическая</a:t>
            </a:r>
            <a:r>
              <a:rPr b="1" lang="ru-RU" sz="4800" spc="-1" strike="noStrike">
                <a:solidFill>
                  <a:srgbClr val="990033"/>
                </a:solidFill>
                <a:latin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1143000" y="1928880"/>
            <a:ext cx="7072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500720" y="4786200"/>
            <a:ext cx="378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Подготовила: педагог-псих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00080" y="2928960"/>
            <a:ext cx="7143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«Практическое мастерство</a:t>
            </a:r>
            <a:r>
              <a:rPr b="1" lang="ru-RU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6:15:28Z</dcterms:created>
  <dc:creator>Галя</dc:creator>
  <dc:description/>
  <dc:language>en-US</dc:language>
  <cp:lastModifiedBy>DNS</cp:lastModifiedBy>
  <dcterms:modified xsi:type="dcterms:W3CDTF">2013-03-21T16:19:37Z</dcterms:modified>
  <cp:revision>15</cp:revision>
  <dc:subject/>
  <dc:title>Слайд 1</dc:title>
</cp:coreProperties>
</file>