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1.jpeg" ContentType="image/jpeg"/>
  <Override PartName="/ppt/media/image8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6.png" ContentType="image/png"/>
  <Override PartName="/ppt/media/image26.gif" ContentType="image/gif"/>
  <Override PartName="/ppt/media/image13.jpeg" ContentType="image/jpeg"/>
  <Override PartName="/ppt/media/image23.png" ContentType="image/png"/>
  <Override PartName="/ppt/media/image4.png" ContentType="image/png"/>
  <Override PartName="/ppt/media/image24.png" ContentType="image/png"/>
  <Override PartName="/ppt/media/image18.jpeg" ContentType="image/jpeg"/>
  <Override PartName="/ppt/media/image21.png" ContentType="image/png"/>
  <Override PartName="/ppt/media/image20.png" ContentType="image/png"/>
  <Override PartName="/ppt/media/image19.jpeg" ContentType="image/jpeg"/>
  <Override PartName="/ppt/media/image5.png" ContentType="image/png"/>
  <Override PartName="/ppt/media/image10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25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move the slide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1D49A-505D-4BA3-8B95-10C77772A85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9B8AD-0EA1-4160-96E3-53A89EDD7A8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D4508-9D27-496E-A01A-09947685B6C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AE9E6-6C3F-4BD8-83C0-197D02BF5D1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C5E3-F643-4857-8205-BCCD04F05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728E-DF57-449B-A34D-59E075D66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3C01-A94B-4085-859E-8D5F63E9B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9A4D-808D-47B8-B313-E77F45A82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BD265-6AD0-4D05-9E56-DDF32CFBF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A561F-DB36-4530-B5B8-FB87592B7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24F4A-355B-4299-A8CE-8F1C61FF0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195CD-1E4D-495D-BE1B-90692A79A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5E6CF-C567-48E6-80CD-43966C9BD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0" y="2138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58932-ECA8-488A-B80D-4056687AA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68ADA-C06A-41F1-99AE-B3197E75D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E8B4-0DD0-47C7-9881-9351A3A48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9324A-CF2C-46D5-B3F2-C2947899E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5C4FE-753B-4241-A84A-8F29ED37A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4A41B-12AF-4A70-9D41-E6C18E0F4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BF936-8549-4082-A813-7B6ACC59A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71B4B-4975-4F66-916E-048D0771C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94D9-7B08-4D12-969F-CACFA7A18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DE7F-525F-45FB-A4EC-4A1370ADC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8C61-98F7-46F4-82D7-E6EE54E1D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0" y="2138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58AE-4C2F-4608-8888-9BB2B7323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BDEB-30DA-4040-9598-45510E81A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3AF1-85DB-42D4-882F-4CD434CA6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2F2D-C2A0-41CA-8D44-60477FF2E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H:\графика\asadal\scool\scool\38 [Converted]111.png"/>
          <p:cNvPicPr/>
          <p:nvPr/>
        </p:nvPicPr>
        <p:blipFill>
          <a:blip r:embed="rId3"/>
          <a:stretch/>
        </p:blipFill>
        <p:spPr>
          <a:xfrm>
            <a:off x="-23760" y="-6480"/>
            <a:ext cx="9191520" cy="288936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H:\графика\asadal\scool\scool\38 [Converted].png"/>
          <p:cNvPicPr/>
          <p:nvPr/>
        </p:nvPicPr>
        <p:blipFill>
          <a:blip r:embed="rId4"/>
          <a:srcRect l="11538" t="0" r="0" b="11937"/>
          <a:stretch/>
        </p:blipFill>
        <p:spPr>
          <a:xfrm>
            <a:off x="0" y="5357880"/>
            <a:ext cx="3286080" cy="1500120"/>
          </a:xfrm>
          <a:prstGeom prst="rect">
            <a:avLst/>
          </a:prstGeom>
          <a:ln w="0">
            <a:noFill/>
          </a:ln>
        </p:spPr>
      </p:pic>
      <p:pic>
        <p:nvPicPr>
          <p:cNvPr id="2" name="Picture 2" descr="H:\графика\asadal\scool\scool\23\10101010.png"/>
          <p:cNvPicPr/>
          <p:nvPr/>
        </p:nvPicPr>
        <p:blipFill>
          <a:blip r:embed="rId5"/>
          <a:srcRect l="0" t="0" r="11854" b="0"/>
          <a:stretch/>
        </p:blipFill>
        <p:spPr>
          <a:xfrm>
            <a:off x="8215200" y="5175360"/>
            <a:ext cx="928800" cy="168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9C7A6-60A4-4FFD-A7CD-744E756775E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H:\графика\asadal\scool\scool\38 [Converted]111.png"/>
          <p:cNvPicPr/>
          <p:nvPr/>
        </p:nvPicPr>
        <p:blipFill>
          <a:blip r:embed="rId3"/>
          <a:stretch/>
        </p:blipFill>
        <p:spPr>
          <a:xfrm>
            <a:off x="-23760" y="-6480"/>
            <a:ext cx="9191520" cy="28893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H:\графика\asadal\scool\scool\38 [Converted].png"/>
          <p:cNvPicPr/>
          <p:nvPr/>
        </p:nvPicPr>
        <p:blipFill>
          <a:blip r:embed="rId4"/>
          <a:srcRect l="11538" t="0" r="0" b="11937"/>
          <a:stretch/>
        </p:blipFill>
        <p:spPr>
          <a:xfrm>
            <a:off x="0" y="5357880"/>
            <a:ext cx="3286080" cy="15001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H:\графика\asadal\scool\scool\23\10101010.png"/>
          <p:cNvPicPr/>
          <p:nvPr/>
        </p:nvPicPr>
        <p:blipFill>
          <a:blip r:embed="rId5"/>
          <a:srcRect l="0" t="0" r="11854" b="0"/>
          <a:stretch/>
        </p:blipFill>
        <p:spPr>
          <a:xfrm>
            <a:off x="8215200" y="5175360"/>
            <a:ext cx="928800" cy="16826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H:\графика\asadal\scool\scool\38 [Converted].png"/>
          <p:cNvPicPr/>
          <p:nvPr/>
        </p:nvPicPr>
        <p:blipFill>
          <a:blip r:embed="rId6"/>
          <a:srcRect l="11538" t="0" r="0" b="11937"/>
          <a:stretch/>
        </p:blipFill>
        <p:spPr>
          <a:xfrm>
            <a:off x="0" y="5357880"/>
            <a:ext cx="3286080" cy="15001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H:\графика\asadal\scool\scool\23\10101010.png"/>
          <p:cNvPicPr/>
          <p:nvPr/>
        </p:nvPicPr>
        <p:blipFill>
          <a:blip r:embed="rId7"/>
          <a:srcRect l="0" t="0" r="11854" b="0"/>
          <a:stretch/>
        </p:blipFill>
        <p:spPr>
          <a:xfrm>
            <a:off x="8215200" y="5175360"/>
            <a:ext cx="928800" cy="16826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206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1662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206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7264B-5A46-4B16-9981-A5F2D465BA70}" type="slidenum">
              <a:rPr b="0" lang="ru-RU" sz="1200" spc="-1" strike="noStrike">
                <a:solidFill>
                  <a:srgbClr val="00206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pn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image" Target="../media/image17.jpeg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de-online.ru/index/germanija/0-210" TargetMode="External"/><Relationship Id="rId2" Type="http://schemas.openxmlformats.org/officeDocument/2006/relationships/hyperlink" Target="http://www.de-online.ru/index/germanija/0-210" TargetMode="External"/><Relationship Id="rId3" Type="http://schemas.openxmlformats.org/officeDocument/2006/relationships/hyperlink" Target="http://gut-lernen.blogspot.com.es/" TargetMode="External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1428480"/>
            <a:ext cx="9144000" cy="85716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БОУ «Инжавинская СОШ» 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емлянский филиал</a:t>
            </a:r>
            <a:endParaRPr b="1" lang="en-US" sz="2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500120" y="2500200"/>
            <a:ext cx="6400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звитие познавательной активности обучающихся   на уроках иностранного языка через использование ИКТ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едагогический проект  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итель немецкого языка Петрова Н.В.</a:t>
            </a: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1071720"/>
            <a:ext cx="9144000" cy="107136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 направлений деятельности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pic>
        <p:nvPicPr>
          <p:cNvPr id="117" name="Содержимое 13" descr=""/>
          <p:cNvPicPr/>
          <p:nvPr/>
        </p:nvPicPr>
        <p:blipFill>
          <a:blip r:embed="rId1"/>
          <a:stretch/>
        </p:blipFill>
        <p:spPr>
          <a:xfrm>
            <a:off x="450720" y="2352600"/>
            <a:ext cx="8242560" cy="4524480"/>
          </a:xfrm>
          <a:prstGeom prst="rect">
            <a:avLst/>
          </a:prstGeom>
          <a:ln w="0">
            <a:noFill/>
          </a:ln>
        </p:spPr>
      </p:pic>
      <p:sp>
        <p:nvSpPr>
          <p:cNvPr id="118" name="Стрелка вверх 15"/>
          <p:cNvSpPr/>
          <p:nvPr/>
        </p:nvSpPr>
        <p:spPr>
          <a:xfrm>
            <a:off x="3929040" y="3429000"/>
            <a:ext cx="484200" cy="1143000"/>
          </a:xfrm>
          <a:prstGeom prst="upArrow">
            <a:avLst>
              <a:gd name="adj1" fmla="val 50000"/>
              <a:gd name="adj2" fmla="val 49999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Овал 16"/>
          <p:cNvSpPr/>
          <p:nvPr/>
        </p:nvSpPr>
        <p:spPr>
          <a:xfrm>
            <a:off x="2786040" y="2357280"/>
            <a:ext cx="2857680" cy="100044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НТЕРЕ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1214280"/>
            <a:ext cx="9144000" cy="85752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еализация проекта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FangSong"/>
              </a:rPr>
              <a:t>Использование на уроках аудиодисков</a:t>
            </a:r>
            <a:endParaRPr b="1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39480" indent="-33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FangSong"/>
              </a:rPr>
              <a:t>Использование фильмов о Германии </a:t>
            </a:r>
            <a:endParaRPr b="1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39480" indent="-33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FangSong"/>
              </a:rPr>
              <a:t>Игры на немецком языке</a:t>
            </a:r>
            <a:endParaRPr b="1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39480" indent="-33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FangSong"/>
              </a:rPr>
              <a:t>Аутентичные мультфильмы и сказки</a:t>
            </a:r>
            <a:endParaRPr b="1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39480" indent="-33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FangSong"/>
              </a:rPr>
              <a:t>Детские песенки на немецком языке</a:t>
            </a:r>
            <a:endParaRPr b="1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39480" indent="-33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FangSong"/>
              </a:rPr>
              <a:t>Клипы</a:t>
            </a:r>
            <a:endParaRPr b="1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39480" indent="-33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FangSong"/>
              </a:rPr>
              <a:t>Использование самоучителей </a:t>
            </a:r>
            <a:endParaRPr b="1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39480" indent="-33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FangSong"/>
              </a:rPr>
              <a:t>Презентации</a:t>
            </a:r>
            <a:endParaRPr b="1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2f2f2"/>
                </a:solidFill>
                <a:latin typeface="Cambria"/>
              </a:rPr>
              <a:t>Реализация проекта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pic>
        <p:nvPicPr>
          <p:cNvPr id="123" name="Содержимое 3" descr="Attachment.gif"/>
          <p:cNvPicPr/>
          <p:nvPr/>
        </p:nvPicPr>
        <p:blipFill>
          <a:blip r:embed="rId1"/>
          <a:stretch/>
        </p:blipFill>
        <p:spPr>
          <a:xfrm>
            <a:off x="428760" y="1714680"/>
            <a:ext cx="1643040" cy="16430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http://www.prosv.ru/Attachment.aspx?Id=5117"/>
          <p:cNvPicPr/>
          <p:nvPr/>
        </p:nvPicPr>
        <p:blipFill>
          <a:blip r:embed="rId2"/>
          <a:stretch/>
        </p:blipFill>
        <p:spPr>
          <a:xfrm>
            <a:off x="4643280" y="1785960"/>
            <a:ext cx="1571760" cy="15717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http://www.prosv.ru/Attachment.aspx?Id=5044"/>
          <p:cNvPicPr/>
          <p:nvPr/>
        </p:nvPicPr>
        <p:blipFill>
          <a:blip r:embed="rId3"/>
          <a:stretch/>
        </p:blipFill>
        <p:spPr>
          <a:xfrm>
            <a:off x="6786720" y="1785960"/>
            <a:ext cx="1571400" cy="15717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8" descr="http://www.prosv.ru/Attachment.aspx?Id=9101"/>
          <p:cNvPicPr/>
          <p:nvPr/>
        </p:nvPicPr>
        <p:blipFill>
          <a:blip r:embed="rId4"/>
          <a:stretch/>
        </p:blipFill>
        <p:spPr>
          <a:xfrm>
            <a:off x="5643720" y="3643200"/>
            <a:ext cx="1328760" cy="17146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0" descr="http://www.prosv.ru/Attachment.aspx?Id=6869"/>
          <p:cNvPicPr/>
          <p:nvPr/>
        </p:nvPicPr>
        <p:blipFill>
          <a:blip r:embed="rId5"/>
          <a:stretch/>
        </p:blipFill>
        <p:spPr>
          <a:xfrm>
            <a:off x="1928880" y="3714840"/>
            <a:ext cx="1643040" cy="16430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2" descr="http://www.prosv.ru/Attachment.aspx?Id=5119"/>
          <p:cNvPicPr/>
          <p:nvPr/>
        </p:nvPicPr>
        <p:blipFill>
          <a:blip r:embed="rId6"/>
          <a:stretch/>
        </p:blipFill>
        <p:spPr>
          <a:xfrm>
            <a:off x="2357280" y="1785960"/>
            <a:ext cx="1643400" cy="16430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4" descr="http://www.prosv.ru/Attachment.aspx?Id=8574"/>
          <p:cNvPicPr/>
          <p:nvPr/>
        </p:nvPicPr>
        <p:blipFill>
          <a:blip r:embed="rId7"/>
          <a:stretch/>
        </p:blipFill>
        <p:spPr>
          <a:xfrm>
            <a:off x="3786120" y="3714840"/>
            <a:ext cx="1631880" cy="16462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6" descr="Мозаика. Немецкий язык. Аудиокурс. 3 класс школ с углубленным изучением немецкого языка"/>
          <p:cNvPicPr/>
          <p:nvPr/>
        </p:nvPicPr>
        <p:blipFill>
          <a:blip r:embed="rId8"/>
          <a:stretch/>
        </p:blipFill>
        <p:spPr>
          <a:xfrm>
            <a:off x="7143840" y="3643200"/>
            <a:ext cx="1690560" cy="16909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8" descr="http://skolniku.ucoz.ru/_ld/12/52456833.jpg"/>
          <p:cNvPicPr/>
          <p:nvPr/>
        </p:nvPicPr>
        <p:blipFill>
          <a:blip r:embed="rId9"/>
          <a:stretch/>
        </p:blipFill>
        <p:spPr>
          <a:xfrm>
            <a:off x="428760" y="3786120"/>
            <a:ext cx="1214280" cy="16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2f2f2"/>
                </a:solidFill>
                <a:latin typeface="Cambria"/>
              </a:rPr>
              <a:t>Реализация проекта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pic>
        <p:nvPicPr>
          <p:cNvPr id="133" name="Содержимое 5" descr=""/>
          <p:cNvPicPr/>
          <p:nvPr/>
        </p:nvPicPr>
        <p:blipFill>
          <a:blip r:embed="rId1"/>
          <a:stretch/>
        </p:blipFill>
        <p:spPr>
          <a:xfrm>
            <a:off x="1357200" y="1500120"/>
            <a:ext cx="664380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2f2f2"/>
                </a:solidFill>
                <a:latin typeface="Cambria"/>
              </a:rPr>
              <a:t>Реализация проекта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pic>
        <p:nvPicPr>
          <p:cNvPr id="135" name="Содержимое 3" descr=""/>
          <p:cNvPicPr/>
          <p:nvPr/>
        </p:nvPicPr>
        <p:blipFill>
          <a:blip r:embed="rId1"/>
          <a:stretch/>
        </p:blipFill>
        <p:spPr>
          <a:xfrm>
            <a:off x="1523880" y="1571760"/>
            <a:ext cx="6096240" cy="45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1214280"/>
            <a:ext cx="9144000" cy="9288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езультаты анкетирования </a:t>
            </a:r>
            <a:br>
              <a:rPr sz="2900"/>
            </a:br>
            <a:r>
              <a:rPr b="1" lang="ru-RU" sz="2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С интересом ли ты учишь немецкий язык ?» </a:t>
            </a:r>
            <a:endParaRPr b="1" lang="en-US" sz="2900" spc="-1" strike="noStrike">
              <a:solidFill>
                <a:srgbClr val="f2f2f2"/>
              </a:solidFill>
              <a:latin typeface="Cambria"/>
            </a:endParaRPr>
          </a:p>
        </p:txBody>
      </p:sp>
      <p:pic>
        <p:nvPicPr>
          <p:cNvPr id="137" name="Содержимое 3" descr=""/>
          <p:cNvPicPr/>
          <p:nvPr/>
        </p:nvPicPr>
        <p:blipFill>
          <a:blip r:embed="rId1"/>
          <a:stretch/>
        </p:blipFill>
        <p:spPr>
          <a:xfrm>
            <a:off x="457200" y="2500200"/>
            <a:ext cx="822960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1071360"/>
            <a:ext cx="9144000" cy="92844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mbria"/>
              </a:rPr>
              <a:t>Качество знаний по предмету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pic>
        <p:nvPicPr>
          <p:cNvPr id="139" name="Содержимое 9" descr=""/>
          <p:cNvPicPr/>
          <p:nvPr/>
        </p:nvPicPr>
        <p:blipFill>
          <a:blip r:embed="rId1"/>
          <a:stretch/>
        </p:blipFill>
        <p:spPr>
          <a:xfrm>
            <a:off x="457200" y="2214720"/>
            <a:ext cx="8229600" cy="39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1356840"/>
            <a:ext cx="9144000" cy="7146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астие в конкурсах</a:t>
            </a:r>
            <a:endParaRPr b="1" lang="en-US" sz="36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2642760"/>
            <a:ext cx="8229600" cy="34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011-2012 г. Всероссийский конкурс по немецкому языку «Альбус 2012» - 10 учащихся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012-2013 г.  Всероссийский конкурс по немецкому языку Мультитест 2012 – 17 учащихся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1213920"/>
            <a:ext cx="9144000" cy="100044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астие в проекте «Алые паруса»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2214720"/>
            <a:ext cx="868680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1-2012 уч.г </a:t>
            </a:r>
            <a:endParaRPr b="1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сьянов Нинолай 6 кл.– сочинение на немецком языке </a:t>
            </a:r>
            <a:r>
              <a:rPr b="1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Mein Lieblingslehrer“</a:t>
            </a:r>
            <a:endParaRPr b="1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арина Анастасия 6 кл.– сочинение на немецком языке </a:t>
            </a:r>
            <a:r>
              <a:rPr b="1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Meine Lieblingslehrerin“</a:t>
            </a:r>
            <a:endParaRPr b="1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темова Елена 6кл. – сочинение на немецком языке </a:t>
            </a:r>
            <a:r>
              <a:rPr b="1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Meine Lieblingslehrerin“</a:t>
            </a:r>
            <a:endParaRPr b="1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2-2013 уч.г.</a:t>
            </a:r>
            <a:endParaRPr b="1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волина Полина 6 кл. – сочинение на нем.языке </a:t>
            </a:r>
            <a:r>
              <a:rPr b="1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Meine Lieblingslehrerin“</a:t>
            </a:r>
            <a:endParaRPr b="1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ремина Яна 6 кл. - сочинение на нем.языке </a:t>
            </a:r>
            <a:r>
              <a:rPr b="1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Meine Lieblingslehrerin“</a:t>
            </a:r>
            <a:endParaRPr b="1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сьянов Николай 7 кл.– проект </a:t>
            </a:r>
            <a:r>
              <a:rPr b="1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in Tagesablauf”</a:t>
            </a:r>
            <a:endParaRPr b="1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нева Александра 9 кл.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Mein Traumberuf”</a:t>
            </a:r>
            <a:endParaRPr b="1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11426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mbria"/>
              </a:rPr>
              <a:t>Участие в олимпиадах 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2011-2012 уч.г. </a:t>
            </a: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кольный этап – 7 участников, 3 победителя</a:t>
            </a: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2012-2013 уч.г.</a:t>
            </a: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кольный этап-  8 участников, 4 победителя</a:t>
            </a: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ый этап – 5 участников, 1 призер (Корнева Саша)</a:t>
            </a: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иональный этап – 1 участник</a:t>
            </a: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1356840"/>
            <a:ext cx="9144000" cy="7146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тиворечия</a:t>
            </a:r>
            <a:endParaRPr b="1" lang="en-US" sz="36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0" y="228600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90000"/>
              </a:lnSpc>
              <a:spcBef>
                <a:spcPts val="550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i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радиционные методы и приемы обучения</a:t>
            </a:r>
            <a:endParaRPr b="1" lang="en-US" sz="2200" spc="-1" strike="noStrike">
              <a:solidFill>
                <a:srgbClr val="000000"/>
              </a:solidFill>
              <a:latin typeface="Garamond"/>
            </a:endParaRPr>
          </a:p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Необходимость использования новой прогрессивной модели обучения</a:t>
            </a:r>
            <a:endParaRPr b="1" lang="en-US" sz="2200" spc="-1" strike="noStrike">
              <a:solidFill>
                <a:srgbClr val="000000"/>
              </a:solidFill>
              <a:latin typeface="Garamond"/>
            </a:endParaRPr>
          </a:p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lnSpc>
                <a:spcPct val="90000"/>
              </a:lnSpc>
              <a:spcBef>
                <a:spcPts val="550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i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озрастающей объективной потребностью общества в компетентной личности</a:t>
            </a:r>
            <a:endParaRPr b="1" lang="en-US" sz="22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Недостаточной возможностью реализации этой  потребности в сельской школе</a:t>
            </a:r>
            <a:endParaRPr b="1" lang="en-US" sz="22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lnSpc>
                <a:spcPct val="90000"/>
              </a:lnSpc>
              <a:spcBef>
                <a:spcPts val="550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озрастание требований к  уровню подготовки учеников</a:t>
            </a:r>
            <a:r>
              <a:rPr b="1" i="1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Garamond"/>
            </a:endParaRPr>
          </a:p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Понижением мотивации к учению</a:t>
            </a:r>
            <a:endParaRPr b="1" lang="en-US" sz="2200" spc="-1" strike="noStrike">
              <a:solidFill>
                <a:srgbClr val="000000"/>
              </a:solidFill>
              <a:latin typeface="Garamond"/>
            </a:endParaRPr>
          </a:p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"/>
          <p:cNvPicPr/>
          <p:nvPr/>
        </p:nvPicPr>
        <p:blipFill>
          <a:blip r:embed="rId1"/>
          <a:stretch/>
        </p:blipFill>
        <p:spPr>
          <a:xfrm>
            <a:off x="500040" y="1428840"/>
            <a:ext cx="3067200" cy="28764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3" descr=""/>
          <p:cNvPicPr/>
          <p:nvPr/>
        </p:nvPicPr>
        <p:blipFill>
          <a:blip r:embed="rId2"/>
          <a:stretch/>
        </p:blipFill>
        <p:spPr>
          <a:xfrm>
            <a:off x="4786200" y="1357200"/>
            <a:ext cx="3071880" cy="27846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4" descr=""/>
          <p:cNvPicPr/>
          <p:nvPr/>
        </p:nvPicPr>
        <p:blipFill>
          <a:blip r:embed="rId3"/>
          <a:stretch/>
        </p:blipFill>
        <p:spPr>
          <a:xfrm>
            <a:off x="428760" y="4643280"/>
            <a:ext cx="3501720" cy="22147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" descr=""/>
          <p:cNvPicPr/>
          <p:nvPr/>
        </p:nvPicPr>
        <p:blipFill>
          <a:blip r:embed="rId4"/>
          <a:stretch/>
        </p:blipFill>
        <p:spPr>
          <a:xfrm>
            <a:off x="5000760" y="4597560"/>
            <a:ext cx="2892240" cy="22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856800"/>
            <a:ext cx="9144000" cy="107172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ыводы</a:t>
            </a:r>
            <a:br>
              <a:rPr sz="4000"/>
            </a:br>
            <a:endParaRPr b="1" lang="en-US" sz="36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0" y="1928880"/>
            <a:ext cx="91440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Эффективность данного проекта подтверждена  результатами. </a:t>
            </a:r>
            <a:endParaRPr b="1" lang="en-US" sz="20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ходе его реализации  происходит:</a:t>
            </a:r>
            <a:endParaRPr b="1" lang="en-US" sz="20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звитие  познавательной активности на уроках иностранного языка за счет использования фильмов на немецком языке, учебных презентаций, аудиокурсов к учебнику, учебных компьютерных игр на немецком языке.</a:t>
            </a:r>
            <a:endParaRPr b="1" lang="en-US" sz="20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ктивизация интереса учащихся к изучению иностранного языка посредствам использования мультфильмов, сказок, клипов, детских песенок на немецком языке и молодежной музыки.</a:t>
            </a:r>
            <a:endParaRPr b="1" lang="en-US" sz="20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Формирование информационной, исследовательской, коммуникативной компетентности учащихся в сфере самостоятельной познавательной деятельности путем участия в проектной деятельности, использования интернет-технологий,   ;</a:t>
            </a:r>
            <a:endParaRPr b="1" lang="en-US" sz="20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Повышение мотивации к изучению предмета и как следствие этого - эффективность учебного процесса через ИКТ</a:t>
            </a:r>
            <a:endParaRPr b="1" lang="en-US" sz="20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1357200"/>
            <a:ext cx="9144000" cy="9288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нформационные ресурсы</a:t>
            </a:r>
            <a:endParaRPr b="1" lang="en-US" sz="32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2214720"/>
            <a:ext cx="822960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Гальскова Н.Д. Современная методика обучения иностранным языкам. - М.: АРКТИ - ГЛОССА. - 2000</a:t>
            </a:r>
            <a:endParaRPr b="1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тайгородская Г.А. Методика интенсивного обучения иностранным языкам.М., 1986 г</a:t>
            </a:r>
            <a:endParaRPr b="1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льруд Р.П., Максимова И.Р. Современные концептуальные принципы коммуникативного обучения иностранному языку / ИЯШ - 2000 - №4.С. 19-14</a:t>
            </a:r>
            <a:endParaRPr b="1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лат Е.С. «Интернет на уроках иностранного языка» // «Иностранные языки в школе» № 2, 3 2001 г.</a:t>
            </a:r>
            <a:endParaRPr b="1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лат Е.С. «Новые педагогические и информационные технологии в системе образования». - М., Академия–2000.</a:t>
            </a:r>
            <a:endParaRPr b="1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ловова, Е.Н. Апальков В.Г. Курсы: «Развитие и контроль коммуникативных умений» // «Первое сентября» №17-24, 2005-2006г.</a:t>
            </a:r>
            <a:endParaRPr b="1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Немецкий онлайн </a:t>
            </a:r>
            <a:r>
              <a:rPr b="1" lang="de-DE" sz="16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http://www.de-online.ru/index/germanija/0-210</a:t>
            </a: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</a:t>
            </a:r>
            <a:endParaRPr b="1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Deutsch  gut lernen, Deutsch so kindisch lernen </a:t>
            </a:r>
            <a:r>
              <a:rPr b="1" lang="en-US" sz="16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/>
              </a:rPr>
              <a:t>http://gut-lernen.blogspot.com.es/</a:t>
            </a:r>
            <a:r>
              <a:rPr b="1" lang="en-US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I:\1111420949.gif"/>
          <p:cNvPicPr/>
          <p:nvPr/>
        </p:nvPicPr>
        <p:blipFill>
          <a:blip r:embed="rId1"/>
          <a:stretch/>
        </p:blipFill>
        <p:spPr>
          <a:xfrm>
            <a:off x="2492280" y="2786040"/>
            <a:ext cx="4722840" cy="271476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3"/>
          <p:cNvSpPr/>
          <p:nvPr/>
        </p:nvSpPr>
        <p:spPr>
          <a:xfrm>
            <a:off x="357120" y="15019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ПАСИБО ЗА ВНИМАНИЕ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0" y="0"/>
            <a:ext cx="9144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1285560"/>
            <a:ext cx="9144000" cy="85716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ктуальность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2214360"/>
            <a:ext cx="8229600" cy="391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</a:t>
            </a:r>
            <a:r>
              <a:rPr b="1" lang="ru-RU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бусловлена обновлением содержания обучения, постановкой задач формирования у школьников приемов самостоятельного приобретения знаний и познавательных интересов, формирования социальных компетентностей, активной жизненной позиции, введением ФГОС нового поколения </a:t>
            </a:r>
            <a:endParaRPr b="1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1357200"/>
            <a:ext cx="9144000" cy="128592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Цель проекта:</a:t>
            </a:r>
            <a:endParaRPr b="1" lang="en-US" sz="40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2928600"/>
            <a:ext cx="8229600" cy="31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звитие познавательных способностей обучающихся  посредством использования ИКТ</a:t>
            </a: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1285920"/>
            <a:ext cx="9144000" cy="128592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ипотеза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2928600"/>
            <a:ext cx="8229600" cy="31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</a:t>
            </a: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цесс развития познавательной активности к обучению учащихся иностранным языкам будет эффективным при использовании ИКТ</a:t>
            </a: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1357200"/>
            <a:ext cx="9144000" cy="100008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дачи проекта</a:t>
            </a:r>
            <a:endParaRPr b="1" lang="en-US" sz="36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2428560"/>
            <a:ext cx="82296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206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зучить необходимую психолого-педагогическую и учебно-методическую литературу по теме </a:t>
            </a:r>
            <a:endParaRPr b="1" lang="en-US" sz="2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206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звивать  познавательную активность с к урокам иностранного языка</a:t>
            </a:r>
            <a:endParaRPr b="1" lang="en-US" sz="2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206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ктивизировать интерес учащихся к изучению иностранного языка</a:t>
            </a:r>
            <a:endParaRPr b="1" lang="en-US" sz="2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206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Формировать информационную, исследовательскую. коммуникативную компетентности учащихся в сфере самостоятельной познавательной деятельности;</a:t>
            </a:r>
            <a:endParaRPr b="1" lang="en-US" sz="2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206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Повысить эффективность учебного процесса </a:t>
            </a:r>
            <a:endParaRPr b="1" lang="en-US" sz="2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206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1000080"/>
            <a:ext cx="9144000" cy="100008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жидаемый результат</a:t>
            </a:r>
            <a:endParaRPr b="1" lang="en-US" sz="3200" spc="-1" strike="noStrike">
              <a:solidFill>
                <a:srgbClr val="f2f2f2"/>
              </a:solidFill>
              <a:latin typeface="Cambria"/>
            </a:endParaRPr>
          </a:p>
        </p:txBody>
      </p:sp>
      <p:pic>
        <p:nvPicPr>
          <p:cNvPr id="110" name="Содержимое 4" descr=""/>
          <p:cNvPicPr/>
          <p:nvPr/>
        </p:nvPicPr>
        <p:blipFill>
          <a:blip r:embed="rId1"/>
          <a:stretch/>
        </p:blipFill>
        <p:spPr>
          <a:xfrm>
            <a:off x="450720" y="2279520"/>
            <a:ext cx="8242560" cy="3853080"/>
          </a:xfrm>
          <a:prstGeom prst="rect">
            <a:avLst/>
          </a:prstGeom>
          <a:ln w="0">
            <a:noFill/>
          </a:ln>
        </p:spPr>
      </p:pic>
      <p:pic>
        <p:nvPicPr>
          <p:cNvPr id="111" name="Схема 5" descr=""/>
          <p:cNvPicPr/>
          <p:nvPr/>
        </p:nvPicPr>
        <p:blipFill>
          <a:blip r:embed="rId2"/>
          <a:stretch/>
        </p:blipFill>
        <p:spPr>
          <a:xfrm>
            <a:off x="993600" y="2114640"/>
            <a:ext cx="765684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1285560"/>
            <a:ext cx="9144000" cy="121428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едущая идея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2642760"/>
            <a:ext cx="8229600" cy="34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Monotype Corsiva"/>
              </a:rPr>
              <a:t>Создание на уроках немецкого языка условий для сознательного, активного участия школьников в творческой деятельности , приносящей радость открытия, преодоления, достижения своей цели, повышение мотивации к предмету. 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2f2f2"/>
              </a:solidFill>
              <a:latin typeface="Cambria"/>
            </a:endParaRPr>
          </a:p>
        </p:txBody>
      </p:sp>
      <p:pic>
        <p:nvPicPr>
          <p:cNvPr id="115" name="Содержимое 3" descr=""/>
          <p:cNvPicPr/>
          <p:nvPr/>
        </p:nvPicPr>
        <p:blipFill>
          <a:blip r:embed="rId1"/>
          <a:stretch/>
        </p:blipFill>
        <p:spPr>
          <a:xfrm>
            <a:off x="450720" y="1554120"/>
            <a:ext cx="8242560" cy="510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4T12:50:33Z</dcterms:created>
  <dc:creator>Лещёва</dc:creator>
  <dc:description/>
  <dc:language>en-US</dc:language>
  <cp:lastModifiedBy>Лещёва</cp:lastModifiedBy>
  <dcterms:modified xsi:type="dcterms:W3CDTF">2013-03-21T15:53:58Z</dcterms:modified>
  <cp:revision>42</cp:revision>
  <dc:subject/>
  <dc:title>МБОУ «Инжавинская СОШ»  Землянский филиа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24061709991</vt:lpwstr>
  </property>
</Properties>
</file>