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move the slide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FF01-9722-41ED-A9E5-F2686CEF55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54AA-9CFC-42C9-A9CC-3DC332BD71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179F-FB71-4136-9E75-631F29A7F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53F9-176C-4A39-A44B-FF74B4430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865-4C6A-4045-82A5-6ED097B4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A81-0AF4-49DE-A345-CF9149BB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06E-7483-4E20-BB88-F42AE82A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04C-6D7D-48C4-B1B1-00CBCC14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FF79-1475-4631-9E65-248DA934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E976-D8CE-48FF-BF4D-9800B7C8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2586-B5ED-482F-83FE-395935C5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3A38-7A73-4EF7-A5F9-B9E7DDD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ACD2-6E1B-474D-8587-9F6EB8B8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E942-F1D9-4E83-AB77-F5DCA7E5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8B50-D72A-4526-825F-EB45AC3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6DC-E0DE-4301-B339-BEF58BF6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8CD8-60B6-4D8E-B933-2A9CFBEA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1EAE-ED54-498C-9CA1-2D02B4EC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D227-7ACD-4910-8BB9-E7F59EA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B479-ACC2-43CE-B61C-87502862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7282-8E0E-47C4-BE8E-E12D38F4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D10-760C-4915-A5FC-CE82562C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D47-3ABB-40E7-AFA6-05E09181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7CE-8152-445E-A8C2-F7E791EC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24B-BBA7-447C-B62A-C891BBEC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5C2-D6CF-434F-A891-C942BC53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C32-A661-4CEC-9940-82328FA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A67-94F0-49F4-B28B-BC07388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86EB-5FF5-4FCB-8F27-3E8FC27A36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C58D-C064-4BB3-AAEF-4AFC2D9425F1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e-online.ru/index/germanija/0-210" TargetMode="External"/><Relationship Id="rId2" Type="http://schemas.openxmlformats.org/officeDocument/2006/relationships/hyperlink" Target="http://www.de-online.ru/index/germanija/0-210" TargetMode="External"/><Relationship Id="rId3" Type="http://schemas.openxmlformats.org/officeDocument/2006/relationships/hyperlink" Target="http://gut-lernen.blogspot.com.es/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8571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Инжавинская СОШ»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емлянский филиал</a:t>
            </a:r>
            <a:endParaRPr b="1" lang="en-US" sz="2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00120" y="2500200"/>
            <a:ext cx="6400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познавательной активности обучающихся   на уроках иностранного языка через использование ИКТ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й проект 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емецкого языка Петрова Н.В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9144000" cy="10713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направлений деятельност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17" name="Содержимое 13" descr=""/>
          <p:cNvPicPr/>
          <p:nvPr/>
        </p:nvPicPr>
        <p:blipFill>
          <a:blip r:embed="rId1"/>
          <a:stretch/>
        </p:blipFill>
        <p:spPr>
          <a:xfrm>
            <a:off x="450720" y="2352600"/>
            <a:ext cx="8242560" cy="452448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верх 15"/>
          <p:cNvSpPr/>
          <p:nvPr/>
        </p:nvSpPr>
        <p:spPr>
          <a:xfrm>
            <a:off x="3929040" y="3429000"/>
            <a:ext cx="484200" cy="1143000"/>
          </a:xfrm>
          <a:prstGeom prst="upArrow">
            <a:avLst>
              <a:gd name="adj1" fmla="val 50000"/>
              <a:gd name="adj2" fmla="val 4999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6"/>
          <p:cNvSpPr/>
          <p:nvPr/>
        </p:nvSpPr>
        <p:spPr>
          <a:xfrm>
            <a:off x="2786040" y="2357280"/>
            <a:ext cx="2857680" cy="1000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8575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оект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Использование на уроках аудиодисков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Использование фильмов о Германии 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Игры на немецком языке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Аутентичные мультфильмы и сказк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Детские песенки на немецком языке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Клипы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Использование самоучителей 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FangSong"/>
              </a:rPr>
              <a:t>Презентаци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Реализация проект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23" name="Содержимое 3" descr="Attachment.gif"/>
          <p:cNvPicPr/>
          <p:nvPr/>
        </p:nvPicPr>
        <p:blipFill>
          <a:blip r:embed="rId1"/>
          <a:stretch/>
        </p:blipFill>
        <p:spPr>
          <a:xfrm>
            <a:off x="428760" y="1714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www.prosv.ru/Attachment.aspx?Id=5117"/>
          <p:cNvPicPr/>
          <p:nvPr/>
        </p:nvPicPr>
        <p:blipFill>
          <a:blip r:embed="rId2"/>
          <a:stretch/>
        </p:blipFill>
        <p:spPr>
          <a:xfrm>
            <a:off x="4643280" y="178596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prosv.ru/Attachment.aspx?Id=5044"/>
          <p:cNvPicPr/>
          <p:nvPr/>
        </p:nvPicPr>
        <p:blipFill>
          <a:blip r:embed="rId3"/>
          <a:stretch/>
        </p:blipFill>
        <p:spPr>
          <a:xfrm>
            <a:off x="6786720" y="178596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www.prosv.ru/Attachment.aspx?Id=9101"/>
          <p:cNvPicPr/>
          <p:nvPr/>
        </p:nvPicPr>
        <p:blipFill>
          <a:blip r:embed="rId4"/>
          <a:stretch/>
        </p:blipFill>
        <p:spPr>
          <a:xfrm>
            <a:off x="5643720" y="3643200"/>
            <a:ext cx="1328760" cy="171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www.prosv.ru/Attachment.aspx?Id=6869"/>
          <p:cNvPicPr/>
          <p:nvPr/>
        </p:nvPicPr>
        <p:blipFill>
          <a:blip r:embed="rId5"/>
          <a:stretch/>
        </p:blipFill>
        <p:spPr>
          <a:xfrm>
            <a:off x="1928880" y="37148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http://www.prosv.ru/Attachment.aspx?Id=5119"/>
          <p:cNvPicPr/>
          <p:nvPr/>
        </p:nvPicPr>
        <p:blipFill>
          <a:blip r:embed="rId6"/>
          <a:stretch/>
        </p:blipFill>
        <p:spPr>
          <a:xfrm>
            <a:off x="2357280" y="1785960"/>
            <a:ext cx="1643400" cy="164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http://www.prosv.ru/Attachment.aspx?Id=8574"/>
          <p:cNvPicPr/>
          <p:nvPr/>
        </p:nvPicPr>
        <p:blipFill>
          <a:blip r:embed="rId7"/>
          <a:stretch/>
        </p:blipFill>
        <p:spPr>
          <a:xfrm>
            <a:off x="3786120" y="3714840"/>
            <a:ext cx="163188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Мозаика. Немецкий язык. Аудиокурс. 3 класс школ с углубленным изучением немецкого языка"/>
          <p:cNvPicPr/>
          <p:nvPr/>
        </p:nvPicPr>
        <p:blipFill>
          <a:blip r:embed="rId8"/>
          <a:stretch/>
        </p:blipFill>
        <p:spPr>
          <a:xfrm>
            <a:off x="7143840" y="3643200"/>
            <a:ext cx="1690560" cy="169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http://skolniku.ucoz.ru/_ld/12/52456833.jpg"/>
          <p:cNvPicPr/>
          <p:nvPr/>
        </p:nvPicPr>
        <p:blipFill>
          <a:blip r:embed="rId9"/>
          <a:stretch/>
        </p:blipFill>
        <p:spPr>
          <a:xfrm>
            <a:off x="428760" y="3786120"/>
            <a:ext cx="12142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Реализация проект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6643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Реализация проект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1523880" y="1571760"/>
            <a:ext cx="60962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9288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анкетирования 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 интересом ли ты учишь немецкий язык ?» </a:t>
            </a:r>
            <a:endParaRPr b="1" lang="en-US" sz="29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37" name="Содержимое 3" descr=""/>
          <p:cNvPicPr/>
          <p:nvPr/>
        </p:nvPicPr>
        <p:blipFill>
          <a:blip r:embed="rId1"/>
          <a:stretch/>
        </p:blipFill>
        <p:spPr>
          <a:xfrm>
            <a:off x="457200" y="2500200"/>
            <a:ext cx="82296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9284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mbria"/>
              </a:rPr>
              <a:t>Качество знаний по предмету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39" name="Содержимое 9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82296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7146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конкурсах</a:t>
            </a: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1-2012 г. Всероссийский конкурс по немецкому языку «Альбус 2012» - 10 учащихся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-2013 г.  Всероссийский конкурс по немецкому языку Мультитест 2012 – 17 учащихся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10004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проекте «Алые паруса»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14720"/>
            <a:ext cx="8686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2 уч.г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ьянов Нинолай 6 кл.– сочинение на немецком 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 Lieblingslehrer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ина Анастасия 6 кл.– сочинение на немецком 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e Lieblingslehrerin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мова Елена 6кл. – сочинение на немецком 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e Lieblingslehrerin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-2013 уч.г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волина Полина 6 кл. – сочинение на нем.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e Lieblingslehrerin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мина Яна 6 кл. - сочинение на нем.языке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Meine Lieblingslehrerin“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ьянов Николай 7 кл.– проект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n Tagesablauf”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ева Александра 9 кл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Mein Traumberuf”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mbria"/>
              </a:rPr>
              <a:t>Участие в олимпиадах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11-2012 уч.г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этап – 7 участников, 3 победител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12-2013 уч.г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й этап-  8 участников, 4 победител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этап – 5 участников, 1 призер (Корнева Саша)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й этап – 1 участник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7146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речия</a:t>
            </a: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диционные методы и приемы обучения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еобходимость использования новой прогрессивной модели обучения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ающей объективной потребностью общества в компетентной личности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едостаточной возможностью реализации этой  потребности в сельской школе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ание требований к  уровню подготовки учеников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нижением мотивации к учению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3067200" cy="287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786200" y="1357200"/>
            <a:ext cx="3071880" cy="278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3501720" cy="221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5000760" y="4597560"/>
            <a:ext cx="28922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071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ы</a:t>
            </a:r>
            <a:br>
              <a:rPr sz="4000"/>
            </a:b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ффективность данного проекта подтверждена  результатам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 его реализации  происходит: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 познавательной активности на уроках иностранного языка за счет использования фильмов на немецком языке, учебных презентаций, аудиокурсов к учебнику, учебных компьютерных игр на немецком языке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ация интереса учащихся к изучению иностранного языка посредствам использования мультфильмов, сказок, клипов, детских песенок на немецком языке и молодежной музык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информационной, исследовательской, коммуникативной компетентности учащихся в сфере самостоятельной познавательной деятельности путем участия в проектной деятельности, использования интернет-технологий,   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вышение мотивации к изучению предмета и как следствие этого - эффективность учебного процесса через ИКТ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9144000" cy="9288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е ресурсы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2147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альскова Н.Д. Современная методика обучения иностранным языкам. - М.: АРКТИ - ГЛОССА. - 2000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йгородская Г.А. Методика интенсивного обучения иностранным языкам.М., 1986 г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ьруд Р.П., Максимова И.Р. Современные концептуальные принципы коммуникативного обучения иностранному языку / ИЯШ - 2000 - №4.С. 19-14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ат Е.С. «Интернет на уроках иностранного языка» // «Иностранные языки в школе» № 2, 3 2001 г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ат Е.С. «Новые педагогические и информационные технологии в системе образования». - М., Академия–2000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ова, Е.Н. Апальков В.Г. Курсы: «Развитие и контроль коммуникативных умений» // «Первое сентября» №17-24, 2005-2006г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Немецкий онлайн </a:t>
            </a:r>
            <a:r>
              <a:rPr b="1" lang="de-DE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de-online.ru/index/germanija/0-210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utsch  gut lernen, Deutsch so kindisch lernen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gut-lernen.blogspot.com.es/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:\1111420949.gif"/>
          <p:cNvPicPr/>
          <p:nvPr/>
        </p:nvPicPr>
        <p:blipFill>
          <a:blip r:embed="rId1"/>
          <a:stretch/>
        </p:blipFill>
        <p:spPr>
          <a:xfrm>
            <a:off x="2492280" y="2786040"/>
            <a:ext cx="4722840" cy="27147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57120" y="150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8571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словлена обновлением содержания обучения, постановкой задач формирования у школьников приемов самостоятельного приобретения знаний и познавательных интересов, формирования социальных компетентностей, активной жизненной позиции, введением ФГОС нового поколения 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9144000" cy="12859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проекта:</a:t>
            </a: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познавательных способностей обучающихся  посредством использования ИКТ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9144000" cy="12859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потеза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 развития познавательной активности к обучению учащихся иностранным языкам будет эффективным при использовании ИКТ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9144000" cy="1000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проекта</a:t>
            </a: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28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необходимую психолого-педагогическую и учебно-методическую литературу по теме 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 познавательную активность с к урокам иностранного языка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ировать интерес учащихся к изучению иностранного языка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информационную, исследовательскую. коммуникативную компетентности учащихся в сфере самостоятельной познавательной деятельности;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высить эффективность учебного процесса 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9144000" cy="1000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жидаемый результат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10" name="Содержимое 4" descr=""/>
          <p:cNvPicPr/>
          <p:nvPr/>
        </p:nvPicPr>
        <p:blipFill>
          <a:blip r:embed="rId1"/>
          <a:stretch/>
        </p:blipFill>
        <p:spPr>
          <a:xfrm>
            <a:off x="450720" y="2279520"/>
            <a:ext cx="8242560" cy="3853080"/>
          </a:xfrm>
          <a:prstGeom prst="rect">
            <a:avLst/>
          </a:prstGeom>
          <a:ln w="0">
            <a:noFill/>
          </a:ln>
        </p:spPr>
      </p:pic>
      <p:pic>
        <p:nvPicPr>
          <p:cNvPr id="111" name="Схема 5" descr=""/>
          <p:cNvPicPr/>
          <p:nvPr/>
        </p:nvPicPr>
        <p:blipFill>
          <a:blip r:embed="rId2"/>
          <a:stretch/>
        </p:blipFill>
        <p:spPr>
          <a:xfrm>
            <a:off x="993600" y="2114640"/>
            <a:ext cx="7656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12142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ущая идея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Monotype Corsiva"/>
              </a:rPr>
              <a:t>Создание на уроках немецкого языка условий для сознательного, активного участия школьников в творческой деятельности , приносящей радость открытия, преодоления, достижения своей цели, повышение мотивации к предмету.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54120"/>
            <a:ext cx="82425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2:50:33Z</dcterms:created>
  <dc:creator>Лещёва</dc:creator>
  <dc:description/>
  <dc:language>en-US</dc:language>
  <cp:lastModifiedBy>Лещёва</cp:lastModifiedBy>
  <dcterms:modified xsi:type="dcterms:W3CDTF">2013-03-21T15:53:58Z</dcterms:modified>
  <cp:revision>42</cp:revision>
  <dc:subject/>
  <dc:title>МБОУ «Инжавинская СОШ»  Землянский филиа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061709991</vt:lpwstr>
  </property>
</Properties>
</file>