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F6B-4878-4DE6-8704-EE72BCC6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375-B9D8-4D36-8327-8F5AB484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B8D-C541-4605-BC08-91649A12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41C-9B76-496F-B7A3-FA630304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C4B-6D2D-418E-AD8B-6B5A1F9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10F-84E2-4D9C-91B0-EA72CF73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D63-E593-4F44-8F69-68007998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EAC-BA73-4C68-8E1D-05B56C75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5FF-F086-446C-8975-368B339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4CA-2A23-4A3E-8228-8DE2947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E63-B0FA-484D-80B7-E81D34F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162-F6B3-4827-A43C-9EB721AE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9C33-3DB5-4DF4-92FD-5C0728F36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dayfun.ru/archives/4875" TargetMode="External"/><Relationship Id="rId3" Type="http://schemas.openxmlformats.org/officeDocument/2006/relationships/hyperlink" Target="http://favoriteflowers.ucoz.ru/forum/15-10-1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6" descr="http://img-fotki.yandex.ru/get/5413/84231248.60/0_698b8_50acc9fa_XL"/>
          <p:cNvPicPr/>
          <p:nvPr/>
        </p:nvPicPr>
        <p:blipFill>
          <a:blip r:embed="rId1"/>
          <a:stretch/>
        </p:blipFill>
        <p:spPr>
          <a:xfrm>
            <a:off x="0" y="-11160"/>
            <a:ext cx="9190080" cy="6869160"/>
          </a:xfrm>
          <a:prstGeom prst="rect">
            <a:avLst/>
          </a:prstGeom>
          <a:ln w="0">
            <a:noFill/>
          </a:ln>
        </p:spPr>
      </p:pic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639720" y="189000"/>
            <a:ext cx="7907400" cy="1573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447840" y="465300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Ростова-на-Д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ышк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Леонид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&amp;kcy;&amp;acy;&amp;kcy; &amp;ncy;&amp;acy;&amp;rcy;&amp;icy;&amp;scy;&amp;ocy;&amp;vcy;&amp;acy;&amp;tcy;&amp;softcy; &amp;tcy;&amp;yucy;&amp;lcy;&amp;softcy;&amp;pcy;&amp;acy;&amp;ncy; &amp;kcy;&amp;acy;&amp;rcy;&amp;acy;&amp;ncy;&amp;dcy;&amp;acy;&amp;shcy;&amp;ocy;&amp;mcy; "/>
          <p:cNvPicPr/>
          <p:nvPr/>
        </p:nvPicPr>
        <p:blipFill>
          <a:blip r:embed="rId2"/>
          <a:stretch/>
        </p:blipFill>
        <p:spPr>
          <a:xfrm>
            <a:off x="1476360" y="907920"/>
            <a:ext cx="3600360" cy="5042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5292720" y="907920"/>
            <a:ext cx="280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лепесток более яркого и насыщенного цв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&amp;kcy;&amp;acy;&amp;kcy; &amp;ncy;&amp;acy;&amp;rcy;&amp;icy;&amp;scy;&amp;ocy;&amp;vcy;&amp;acy;&amp;tcy;&amp;softcy; &amp;tcy;&amp;yucy;&amp;lcy;&amp;softcy;&amp;pcy;&amp;acy;&amp;ncy; &amp;kcy;&amp;acy;&amp;rcy;&amp;acy;&amp;ncy;&amp;dcy;&amp;acy;&amp;shcy;&amp;ocy;&amp;mcy; "/>
          <p:cNvPicPr/>
          <p:nvPr/>
        </p:nvPicPr>
        <p:blipFill>
          <a:blip r:embed="rId2"/>
          <a:stretch/>
        </p:blipFill>
        <p:spPr>
          <a:xfrm>
            <a:off x="1476360" y="907920"/>
            <a:ext cx="3672000" cy="5042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5124600" y="809640"/>
            <a:ext cx="295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ем краски бутону. Стебель делаем темнее, лист внутри также темный, показываем те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&amp;kcy;&amp;acy;&amp;kcy; &amp;rcy;&amp;icy;&amp;scy;&amp;ocy;&amp;vcy;&amp;acy;&amp;tcy;&amp;softcy; &amp;tcy;&amp;yucy;&amp;lcy;&amp;softcy;&amp;pcy;&amp;acy;&amp;ncy;"/>
          <p:cNvPicPr/>
          <p:nvPr/>
        </p:nvPicPr>
        <p:blipFill>
          <a:blip r:embed="rId2"/>
          <a:stretch/>
        </p:blipFill>
        <p:spPr>
          <a:xfrm>
            <a:off x="1476360" y="907920"/>
            <a:ext cx="352728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4788000" y="893880"/>
            <a:ext cx="329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ружи листья сделаем чуть ярче, но не темнее тени внут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&amp;Kcy;&amp;acy;&amp;kcy; &amp;ncy;&amp;acy;&amp;rcy;&amp;icy;&amp;scy;&amp;ocy;&amp;vcy;&amp;acy;&amp;tcy;&amp;softcy; &amp;tcy;&amp;yucy;&amp;lcy;&amp;softcy;&amp;pcy;&amp;acy;&amp;ncy;"/>
          <p:cNvPicPr/>
          <p:nvPr/>
        </p:nvPicPr>
        <p:blipFill>
          <a:blip r:embed="rId2"/>
          <a:stretch/>
        </p:blipFill>
        <p:spPr>
          <a:xfrm>
            <a:off x="1476360" y="868320"/>
            <a:ext cx="453564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666440" y="3789360"/>
            <a:ext cx="44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ayfun.ru/archives/48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favoriteflowers.ucoz.ru/forum/15-10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melissaburford.typepad.com/.a/6a00e5511e75a088330120a946def3970b-800wi"/>
          <p:cNvPicPr/>
          <p:nvPr/>
        </p:nvPicPr>
        <p:blipFill>
          <a:blip r:embed="rId1"/>
          <a:stretch/>
        </p:blipFill>
        <p:spPr>
          <a:xfrm>
            <a:off x="-39600" y="23760"/>
            <a:ext cx="3603600" cy="31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flowerdeliv.com/images/good/2372.jpg"/>
          <p:cNvPicPr/>
          <p:nvPr/>
        </p:nvPicPr>
        <p:blipFill>
          <a:blip r:embed="rId2"/>
          <a:stretch/>
        </p:blipFill>
        <p:spPr>
          <a:xfrm>
            <a:off x="4788000" y="2133720"/>
            <a:ext cx="4690800" cy="426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71280" y="2736720"/>
            <a:ext cx="50338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ый вид и строгий стан –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лнечный тюльпан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клумбе поселился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сною распустилс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юбимый праздник мамин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овёр пестрит цветами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мба прямо под окном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у букет я в дом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-красные тюльпаны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любит моя мама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звонко рассмеётся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м солнцем улыбнётся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476360" y="907920"/>
            <a:ext cx="3743280" cy="5042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5219640" y="1038240"/>
            <a:ext cx="26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ем контур стебля, тонкий и изящный. Очертим форму буто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31680" y="0"/>
            <a:ext cx="90694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512720" y="907920"/>
            <a:ext cx="3706920" cy="5013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003640" y="836640"/>
            <a:ext cx="293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ми линиями намечаем листья тюльпана, широкие, большие. Один пусть будет изогнут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476360" y="907920"/>
            <a:ext cx="3672000" cy="50450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4716360" y="896760"/>
            <a:ext cx="336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исовываем толстый стебель. Делаем более яркими листья. Старательно, плавно, аккурат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403280" y="944640"/>
            <a:ext cx="3384720" cy="4968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4788000" y="947880"/>
            <a:ext cx="322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ем лепесток, сохраняя при этом форму бут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476360" y="907920"/>
            <a:ext cx="3816360" cy="5042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716360" y="930240"/>
            <a:ext cx="346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ем второй лепесток. А за ним, внутри спрятались другие лепестки, и их тоже нужно показ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&amp;kcy;&amp;acy;&amp;kcy; &amp;ncy;&amp;acy;&amp;rcy;&amp;icy;&amp;scy;&amp;ocy;&amp;vcy;&amp;acy;&amp;tcy;&amp;softcy; &amp;tcy;&amp;yucy;&amp;lcy;&amp;softcy;&amp;pcy;&amp;acy;&amp;ncy; &amp;kcy;&amp;acy;&amp;rcy;&amp;acy;&amp;ncy;&amp;dcy;&amp;acy;&amp;shcy;&amp;ocy;&amp;mcy; "/>
          <p:cNvPicPr/>
          <p:nvPr/>
        </p:nvPicPr>
        <p:blipFill>
          <a:blip r:embed="rId2"/>
          <a:stretch/>
        </p:blipFill>
        <p:spPr>
          <a:xfrm>
            <a:off x="1494000" y="957240"/>
            <a:ext cx="3509640" cy="5013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4788000" y="855720"/>
            <a:ext cx="351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ираем карандаши правильного цвета. Пусть у нас будет красный сам цветок. Обрисуем контуры: бутон – алый, стебель и  листья – зеле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&amp;kcy;&amp;acy;&amp;kcy; &amp;ncy;&amp;acy;&amp;rcy;&amp;icy;&amp;scy;&amp;ocy;&amp;vcy;&amp;acy;&amp;tcy;&amp;softcy; &amp;tcy;&amp;yucy;&amp;lcy;&amp;softcy;&amp;pcy;&amp;acy;&amp;ncy; &amp;kcy;&amp;acy;&amp;rcy;&amp;acy;&amp;ncy;&amp;dcy;&amp;acy;&amp;shcy;&amp;ocy;&amp;mcy; "/>
          <p:cNvPicPr/>
          <p:nvPr/>
        </p:nvPicPr>
        <p:blipFill>
          <a:blip r:embed="rId2"/>
          <a:stretch/>
        </p:blipFill>
        <p:spPr>
          <a:xfrm>
            <a:off x="1476360" y="907920"/>
            <a:ext cx="3456000" cy="50421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4919760" y="765000"/>
            <a:ext cx="322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мерно заштриховываем весь рисунок карандашом соответствующего цвета, но без сильного нажима. Чтобы тон получился ровный и достаточно светлый. Штриховать стараемся вдоль кон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2:02:04Z</dcterms:created>
  <dc:creator>Аня</dc:creator>
  <dc:description/>
  <dc:language>en-US</dc:language>
  <cp:lastModifiedBy>Аня</cp:lastModifiedBy>
  <dcterms:modified xsi:type="dcterms:W3CDTF">2013-03-20T15:51:28Z</dcterms:modified>
  <cp:revision>8</cp:revision>
  <dc:subject/>
  <dc:title>Рисуем букет тюльпанов</dc:title>
</cp:coreProperties>
</file>