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8DB-E66D-4785-B85E-982E30C3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FFF-7A1E-4260-ABD5-3D11713E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36E44-4239-499B-A725-C352BC0C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F8FFD-C6D2-4021-B4A8-C3C420B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D0D29-9CFB-431D-BB47-5FA0AE95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8437E-79E6-4D95-9A79-5B4A780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0F571-499A-4B82-B02E-C9377D8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3CCDD-5C5F-49AB-A1E3-61A9709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800CD-3154-49DD-BBBB-B8DCFE3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1EA0-3B65-4818-A23C-2614D8B6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AEF59-6957-4AFC-BD07-66211C92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03071-5EA3-4951-8F48-598638C9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CC2-866D-4BC1-ABCC-91100835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470BE-44BC-4D4E-92CB-174A47F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51A5C-E502-4015-B835-B87F3584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C574B-3BE8-42C2-9D78-51E5740D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B8AD4-7FBD-4D09-BAC9-DB7C96CA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13029-AB1D-4D47-923C-FA39EE4B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7B7BB-F479-49A1-9A17-FE90764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0BBDC-E50D-4716-B00B-0AEDDE9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69A3A-48FF-4B94-A6F7-C08B886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5BF6B-066D-48FF-BA8B-B42D754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C7EBB-3637-43DC-AAB0-744CE63C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11E-E75E-4781-8574-1B2783A7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DC123-AE3A-4D13-9A93-C15061BE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B42B93-D9C1-4B6E-8CEC-E5D2EF5E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C4E23A-B118-4F51-9873-F651D49D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586D74-D3C9-4A10-8880-01582302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79EB28-03E4-4B7D-B3FB-E3745E86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496F1C-AF32-4950-A23F-6155542A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80A164-3C33-4590-BA77-4A560087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93BABF-B1C7-4ECA-847B-53EF259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0BBC90-E045-45ED-9569-B110067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7CE59E-719E-417A-B5CC-579A708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7CCF3-1695-432B-9D33-EFCB714A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8D5FF8-9296-497A-8DD7-35A92D39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4B9B06-15DD-43B5-9C0A-BD3E704A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FFD242-566E-4B37-89C9-A8C68602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B6A50-DB08-42DE-870A-FA8867B8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DCE38-A074-4E40-AAFA-0F4F84DA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F547A-B1CA-4752-8018-0F289D31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AC69B-23EF-4CE4-B57A-6AB6F701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B2FB2-2F98-4854-AB19-00E9E83A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925F9-6691-4310-A3AD-7273DFCD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61EB0-B762-4AD2-BA31-D51AA936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B407B-16C2-4674-9B05-A1526139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F8F80-1051-4509-B192-75C5AD7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85A1C-9ED5-4A6E-B2D2-612070DB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06391-4406-4DCA-B72E-FADE152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DE988-6DCA-4663-A1F0-BF931CD9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28FE0-DD0F-401F-85C0-63A1EAE3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DA7B-662A-441C-A3FD-FA6846D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1247-8581-4E57-8583-AD9296BA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2F6F9-7FB6-4261-AA3C-0106FD3A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193AD-F6A4-4D3F-B0F2-C9FFF42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26C4C-162C-48AC-930C-E48D8DC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250-FFC4-4D4E-B63E-38D483A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51B52-0CAE-41B7-A355-D31AABE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38069-7B5A-40BA-BFB8-BE6E8B4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A9444-EC48-4150-9BEF-A784BA6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F38E9-3325-40B9-BFE4-E6325D4C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F0597-1EC6-40EE-B91C-5548CDAB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5094-1433-4C13-A98B-7BD83373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4084-3338-45B6-972D-2EF3EAAF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E58E-7C2B-4553-B255-A04840CA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216F-FA05-46A3-A680-3F4F3749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860B-6B8C-415F-9639-E3D31400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F8B-5AFE-48B5-B20A-2800643C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C51B-3D49-421D-B9FA-E7798DB6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C386-E6DC-4B9E-A108-CABD680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F7DF-2B4F-40C8-B40D-C9BF352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1511-71EE-4380-A59A-4AF1D07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0D1C-9F6C-45A9-8922-91908B64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FCD6-F20C-4083-808F-81F78F17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5AB9-E9C0-4CFD-90D1-49D67AEB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80249-0454-4054-8959-382D8134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B3168-66D2-45CD-8CF5-FFC80551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40EA8-6663-4BB4-B264-F8ED4CC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3EB-8FEC-408E-8D3C-E4C2A84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681CD-CEFD-42A1-950E-E16B827E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0221C-0244-4D31-8E97-F3D51548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7819F-7803-4369-BBBC-A2DA55FE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39F7E-9373-4557-B644-25DB65C5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665D71-11BC-429C-8E8A-71C9901A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B1711-2293-48E0-9A3B-82B0837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7C3AA-EDE8-4415-B627-D618578E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82F13-FD29-47C5-81EA-7083C749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16648-715E-4987-88B4-D1811795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24511-B0AA-42A2-86A9-A77A642A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373-3C48-4F29-8506-8A56FF8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AC5A-9163-4417-BC59-D2892914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8BF2-39B1-4B37-B1D4-00390ADB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8F0E-EA7E-4BA2-BD63-EE16190A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6B37D-E573-4021-AA4F-F4C63469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3BD7-3CAE-4508-8431-4D593348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6E72B-E8DA-482D-B071-22A5105B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7218-F47F-4395-A5B2-F5A84D3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DFA7-2731-4991-8376-747706FF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B6572-6862-4AFF-ADD6-C40E4B9F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43D2-6E0A-46B5-8ACA-01DC6A31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59C-84F4-47B3-82AA-34975D90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C200-A362-4B64-9E5B-7D57915A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B29A-AF4D-46F2-A5D3-810709BD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CC09-F4CB-4B9F-B58C-9201CB9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687D-C61C-4CE6-A42E-1D5740A3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704EE-89E6-4413-B42C-787A68A0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C40F-9554-47E2-B3B0-F1E5EB3E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A51B-548A-4B5A-A503-AB3004A9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2F72-8BCD-4879-8DDE-C7358A33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D40A1-8E6B-4A75-8BC9-F31384F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0E41E-83A0-4FB8-9E71-3838DB0B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A4A-6744-4A81-B198-CFEFCBB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A9A1-0D12-4E6A-B05F-C8B6560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2CD4-3379-4A8A-9F39-A96460D1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F6AC-6312-42A5-90B4-D0125D67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392A-2034-4341-B2C7-8EE81232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61349-E110-40F2-88CA-BBA2067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19B9-C54B-46F4-B0CF-0379F2E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72A1-15D4-4237-B782-2EED2C61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53FF-66AC-410F-847F-D63DF235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49EF-0851-4180-99A3-3E5944B2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43678-D946-47E7-A401-8061C3F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66E-614D-485A-91D9-0A1FE92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ADE0B-C6B8-49AD-A2AB-B391482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4CFDA-6558-4CCD-82BA-25F6526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235AB-5DAE-42CC-B11C-99B5D649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AF57E-FBCF-409D-A3E1-0CAF46AB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2B0A-698C-4262-9ACF-B3E10AE3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6179-08F4-44F5-AC62-02D9CEEC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78CA7-FAC3-4094-A957-6FF40B3B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DF976-36C7-4B39-A0E2-1E8C249E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E1FFF-79B6-4409-ACC8-C8F53079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93A0-9E34-4E4F-BC09-B566334E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5BB-C6C5-4477-981E-0731113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BF5E4-EF69-403D-AA5A-041E8F5F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4AEE8-075B-418F-9A37-19EFE2B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264DE-9845-4B6A-B474-BBFED29C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36C42-A08C-4E03-8ADA-1913C0E2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0E65B-B84F-404C-82B3-1B8424F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8C72A-EAB4-41CD-9850-61AADC00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DD8AA-3D1C-46CA-912E-296AD52B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FDA2A-712D-4F6C-8C8F-A47FEEC7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C6F09-C171-4AC8-8064-9D75B5F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B7A82-FB4E-42C1-A790-7D25293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556D-EE5F-4302-A576-05F6552BA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5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5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AD69-D75E-41F9-AE04-FD4A5BB66C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7F9D-38C2-40A4-B0EF-F5B04CA2EB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00D3-FC6D-4F01-A2C0-AF023CFD10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7D31-33E9-412A-A2A6-413AD51C9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A614-FB6E-453D-AE14-75BC130677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4D0-2C0A-44DF-9C88-7E8E478D9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0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A3C-81F9-4446-9891-50A74FED6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A062-4E83-4A90-B060-2F188A93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C3EB-0D69-41E5-A18E-AD37C96ACDA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ED2A-8CC9-4A9D-8CD7-05425AF4819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0ABF-BB38-4A26-8B6E-8B61D7E431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Tahoma"/>
              </a:rPr>
              <a:t>Родительское собр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Учитель Матюнькова З. 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ОУООШ № 40 г.Копейс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-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8. После доверительно  поговорите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 сыном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или  дочерью о возможности показаться доктор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9.Никаких угроз или наказаний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10.Не нагнетайте ужаса, т.е. всего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того,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о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   чем мы говорили, должно быть не сли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шком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много. Просто время от времени напоминайте о фактах – к чему приводят наркотики. Посмотрите вместе фильм про наркоманов, чтобы он увидел последствия употребления наркотик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"/>
          <p:cNvSpPr/>
          <p:nvPr/>
        </p:nvSpPr>
        <p:spPr>
          <a:xfrm>
            <a:off x="6281640" y="5537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297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табакокуре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 из вредных привычек- табакокурение. Порой к ней приобщаются дети чуть ли  не с 3 класса. Легко ли отучить ребят от этой дурной привычки? Нет, нелегко. Но в любом случае  надо начинать лечить: здесь любой метод хорош. Есть такое лечение  методом иглотерапии, есть болгарский препарат- табакс, а в Армении выпускают жевательную резинку специально от кур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"/>
          <p:cNvSpPr/>
          <p:nvPr/>
        </p:nvSpPr>
        <p:spPr>
          <a:xfrm>
            <a:off x="6084720" y="587700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003640" y="5589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ужно обязательно всё попробовать, потому что курение очень вредно действует  на слизистую желудка и двенадцатипёрстной кишки. Страдают также и лёгкие. Очень часто никотин действует и на потомство. Девочке надо знать об этом. Обратите внимание на то, что главное в борьбе с курением- любой ценой наладить контакт с ребёнком, попробовать быть с ним на равных; не запугивать, а совершенно спокойно и нейтрально общать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"/>
          <p:cNvSpPr/>
          <p:nvPr/>
        </p:nvSpPr>
        <p:spPr>
          <a:xfrm>
            <a:off x="6066000" y="5465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ешите лечить саму привычку, вначале разберитесь в тех  причинах, которые приводят к этой привы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м будет очень трудно. То, что мы говорим, на них мало действует, потому что система ценностей в переходном возрасте меняется, - их всё равно тянет к сверстни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536400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57600" cy="363528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4140360" y="333360"/>
            <a:ext cx="4752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ы хотите хотя бы как-то воздействовать на своё чадо, станьте  другом его коллектива, приятно вам это или нет. Пусть приходят друзья домой к вам. Не гоните их. Так вы будете узнавать изнутри, кто есть кто, и тогда можно будет что-то противопоставить, понять, откуда и что берё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68360" y="43657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 потеряйте своих детей! Терпеливо находите подходы к н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Я желаю вам успеха! Всего доброг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34320" y="60418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тоги успеваемости за 3 четверт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9640" y="1125360"/>
            <a:ext cx="82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457200" y="1052640"/>
          <a:ext cx="8229600" cy="5721120"/>
        </p:xfrm>
        <a:graphic>
          <a:graphicData uri="http://schemas.openxmlformats.org/drawingml/2006/table">
            <a:tbl>
              <a:tblPr/>
              <a:tblGrid>
                <a:gridCol w="3149640"/>
                <a:gridCol w="817560"/>
                <a:gridCol w="817560"/>
                <a:gridCol w="700200"/>
                <a:gridCol w="788760"/>
                <a:gridCol w="641520"/>
                <a:gridCol w="655560"/>
                <a:gridCol w="658800"/>
              </a:tblGrid>
              <a:tr h="93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амилия, им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. яз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и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л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е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е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и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афурьянов Рам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здина Ма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минская Та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урбатов Ю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атвеева Нас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вчинникова Лю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инжаков Макс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аитов Ва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льманова Ан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имофеева Нат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Шевяков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Ярушин Же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Итоги успеваемости за 3 четверть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457200" y="1052640"/>
          <a:ext cx="8229600" cy="5319720"/>
        </p:xfrm>
        <a:graphic>
          <a:graphicData uri="http://schemas.openxmlformats.org/drawingml/2006/table">
            <a:tbl>
              <a:tblPr/>
              <a:tblGrid>
                <a:gridCol w="2890800"/>
                <a:gridCol w="647640"/>
                <a:gridCol w="720720"/>
                <a:gridCol w="719280"/>
                <a:gridCol w="865080"/>
                <a:gridCol w="792360"/>
                <a:gridCol w="863640"/>
                <a:gridCol w="73008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амилия, им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х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чер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э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афурьянов Рам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здина Ма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минская Та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урбатов Ю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атвеева Нас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вчинникова Лю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инжаков Макс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аитов Ва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льманова Ан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имофеева Нат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Шевяков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Ярушин Же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9" name=""/>
          <p:cNvSpPr/>
          <p:nvPr/>
        </p:nvSpPr>
        <p:spPr>
          <a:xfrm>
            <a:off x="6282000" y="6400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певаемость 8</a:t>
            </a:r>
            <a:r>
              <a:rPr b="1" lang="en-US" sz="4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го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457200" y="1604880"/>
          <a:ext cx="403848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4880"/>
                    <a:ext cx="40384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2340000" y="1413000"/>
          <a:ext cx="4751280" cy="2762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13000"/>
                    <a:ext cx="475128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611280" y="4295880"/>
          <a:ext cx="7999200" cy="1593360"/>
        </p:xfrm>
        <a:graphic>
          <a:graphicData uri="http://schemas.openxmlformats.org/drawingml/2006/table">
            <a:tbl>
              <a:tblPr/>
              <a:tblGrid>
                <a:gridCol w="1058760"/>
                <a:gridCol w="1058760"/>
                <a:gridCol w="1057320"/>
                <a:gridCol w="1058760"/>
                <a:gridCol w="1235160"/>
                <a:gridCol w="1059120"/>
                <a:gridCol w="1471320"/>
              </a:tblGrid>
              <a:tr h="77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 1ой "3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3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 "4" и "5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ч-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бсолю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,333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6" name=""/>
          <p:cNvSpPr/>
          <p:nvPr/>
        </p:nvSpPr>
        <p:spPr>
          <a:xfrm>
            <a:off x="6642360" y="6184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нкета для следующего собр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ете ли друзей своего ребёнка? Назовите и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вы формы их общ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вы относитесь к его друзья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кому больше всего тянет ваших детей? (Пол, возраст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льзуется ли ваш ребёнок авторитетом в компании друзе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560920" y="5969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ГОВОРИМ О ДУРНЫХ   ПРИВЫЧКАХ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3348000" y="343044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852560" cy="290844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3"/>
          <a:stretch/>
        </p:blipFill>
        <p:spPr>
          <a:xfrm>
            <a:off x="6643800" y="1916280"/>
            <a:ext cx="19317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9" dur="1230" fill="hold"/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0" dur="123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2" dur="123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Вступительное сл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Мои сов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О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табакокур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11280" y="3357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тоги успеваемости за 3 четвер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964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69360" y="3892680"/>
            <a:ext cx="62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кета для следующего собр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ВСТУПИТЕЛЬНОЕ СЛО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627280" y="1197000"/>
            <a:ext cx="59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, это слишком мягкое название для таких привычек у наших подрост-ков, как пьянство, курение, токсикома-ния, наркомания. Откуда взялись эти напаст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6877080" y="602136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8360" y="335772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ые люди, кажется, всегда курили и пили вино, дети это видели, но им и в голову, наверное, не прихо-дило, что курить и пить можно и им. Были, как говорит-ся, отдельные случаи, тайком покуривали мальчики, тайком пробовали вино. А сейчас не только мальчики, но и девочки покуривают и даже потягивают рюмочку в компа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команию мы с вами, дорогие родители, конечно, слышали, но сомневаемся, чтобы кто-то из вас видел это в период своего отрочества. О токсикомании тогда вообще и речи  не было. А сейчас! Сейчас это настоящее бедствие, и одурманенные опасным зельем юные головы далеко не редкость. Тут мы старшие, уж никак не могли подать детям дурной прим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чит дело, видимо, не в плохом пример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ссы, долгое время происходившие в нашем обществе, изменили нашу психологию, нашу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>
            <a:hlinkClick r:id="rId2" action="ppaction://hlinksldjump"/>
          </p:cNvPr>
          <p:cNvSpPr/>
          <p:nvPr/>
        </p:nvSpPr>
        <p:spPr>
          <a:xfrm>
            <a:off x="6659640" y="566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85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хочу вам зачитать одно письмо из  газеты «Копейский рабочий». «Я учусь в 8 классе и уже не вижу для себя в будущем ничего. Я и мои сверстники употребляем наркотики. Мне дали в 7 классе что-то такое, что захотелось повторить. Поначалу было просто приятное ощущение, теперь- необходимость. У нас в классе 25 челове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92720" y="5373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003640" y="5589720"/>
            <a:ext cx="646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>
            <a:hlinkClick r:id="rId2" action="ppaction://hlinksldjump"/>
          </p:cNvPr>
          <p:cNvSpPr/>
          <p:nvPr/>
        </p:nvSpPr>
        <p:spPr>
          <a:xfrm>
            <a:off x="6084720" y="5589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9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них только семеро не пробовали дурмана. На это надо деньги. У нас создалась своя компания, где каждый поможет другому. Уйти из этого круга нельзя: тебя держат долги, страх за то, что ты сделал. Мама с отцом ничего не знают. Кто мне поможет? Спасите, я очень прошу!» Вот он, крик о помощи. Страшно становится. А что он сделал сам, чтобы спастись? Что можем сделать мы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37280" y="52484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9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Мои совет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Я, к счастью, пока от наших детей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акое не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слышала, но предупредить это несчастье -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ш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долг, потому я и говорю с вами. Примите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ои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советы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1. Наркоманы, как и токсикоманы, приобщаются к пагубной привычке в группах себе подобных -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так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легче добыть желаемое, получить информ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цию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. Поэтому всех вас должна насторожить ча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ая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и беспричинная смена друз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2. Проводите наблюдение за досугом своих дет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3. Сделайте всё возможное, чтобы у подростков было меньше свободного времени. Заполняйте его хоро-шим, интересным для вашего ребёнка содержание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"/>
          <p:cNvSpPr/>
          <p:nvPr/>
        </p:nvSpPr>
        <p:spPr>
          <a:xfrm>
            <a:off x="5651640" y="5877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780000" y="26028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549360"/>
            <a:ext cx="608472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Присматривайтесь 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бёнку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Заметили, что у нег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ткая походка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Что он какой-то странный,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у него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почему-то дрожат руки. что он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-т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ьяный, но запаха нет - принима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мер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Только не торопитесь делать вы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Вначале ещё раз проверьте свои наблю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. Затем сходите в наркологический диспансер, опишите врачу состояние вашего ребёнка и спросите, обоснованны ли ваши подо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012000" y="609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 action="ppaction://hlinksldjump"/>
              </a:rPr>
              <a:t>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1:07:26Z</dcterms:created>
  <dc:creator>Андрюха</dc:creator>
  <dc:description/>
  <dc:language>en-US</dc:language>
  <cp:lastModifiedBy>Андрюха</cp:lastModifiedBy>
  <dcterms:modified xsi:type="dcterms:W3CDTF">2006-01-31T20:41:13Z</dcterms:modified>
  <cp:revision>5</cp:revision>
  <dc:subject/>
  <dc:title>Слайд 1</dc:title>
</cp:coreProperties>
</file>