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wmf" ContentType="image/x-wmf"/>
  <Override PartName="/ppt/media/image7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A5E-A5F8-49A7-9BE1-BC75AFB8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EB5-59F7-4091-954F-B5333F12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DAB14-309A-4BA9-AA81-B49364ED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72C11-65F3-4910-B566-B2A4A296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29595-3C5B-41FF-B64D-E3D3E8D8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B5730-91F0-4571-AA22-0E0B1BBB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79A63-0793-476A-995C-0E3CF359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DFF48-9BB8-4E2C-8F3F-7EC7C4A0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5495E-91CE-4163-9456-7A5D1ABC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8AE38-02EC-44D1-8622-72D0051A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CA67B-0351-49DC-A21D-A2892FA5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EF5DC-A95D-4276-99EC-A3F30046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646-66E0-4958-8A19-D9329583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1EFBB-CB17-48BA-9D7E-6D642592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C144D-BF4A-4DD6-B6E0-18D80FAD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BD9FA-95ED-46A9-8BEA-F26F22AE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D1948-60C1-4EC0-843F-1EBE730A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A6414-E8A1-49E1-9D95-82D4B4FA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9D4A4-E172-40F3-AEE0-DB8568E3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0E62B-63AC-4B6B-A8A1-C20BF67D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F82D6-410D-464A-BA3A-15E92828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C26EF-D44B-441F-A57B-0668FFC0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3E8F4-434F-435D-B2AD-21D12BE6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CFB-BCAD-4F9C-8BC4-53257785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5B9AB-1FB0-449C-B2D9-1225CF1F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DDCE64-5E30-4736-A741-FA46D14A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0BBD2C-1E95-470D-9C1B-BF9497B0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AF006E-867B-4CA1-95D5-26A95217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0C5616-FA7D-465C-A864-EC04513F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7716A8-3D45-44CA-8911-187DC206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477366-3EE6-4AEB-A867-44B3C87C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6A34F3-55B3-4919-8074-2938F7D2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D70425-4594-4963-B12C-8502E11F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2A485E-9A03-42DD-BB12-118EE2D2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59623-BAE5-4090-8D98-28ED53B0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CC8554-027B-4821-8F75-7FA49FB9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DC1452-D6B2-49A3-B754-63F4D2F2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237527-AE26-4A8B-86B7-A2ECA312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323A9-7C45-4564-94FC-1D71857C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4F845-226C-48FF-9A8D-00E7558D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84ACB-784D-4205-ABDD-E9886C9A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8BFA9-36A9-4910-8D90-D0CE337E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467E7-568A-4B28-BFB0-F42CB935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E2F5F-650B-49AB-B7E4-DB114E33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B3F92-7615-4490-A9DD-E6CDFE0C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9918E-6063-4358-A9E9-E9203154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8705F-ABF3-4BB9-92DE-9DDE2A23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D0561-D254-4B33-A7E2-BFB8FA76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BEBC6-FFB4-4837-B38E-4AFEC257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A78AB-3CF6-4567-BE21-0F32D007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4E97B-FE8C-407E-B2C3-F8C48033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3AF5E-7453-43BD-AC36-459C7FC8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BBED5-3D46-4FF1-B5B8-7A8B7D52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762A5-DB39-405A-830F-0F042F6A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2E623-D229-4B0E-93EA-969C2875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A59C3-6F2B-43CD-8088-B293E2EF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870-EBBC-4591-A427-42D6FFDC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96819-6ACB-4D12-96E6-6FACB2AB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23AD2-BD25-4CB4-A91B-FE8B8E97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EB91D-5A8A-4D65-86F3-8149DB6F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03CB4-99AE-439E-B01E-AAB3DB98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CFD47-DA7D-41E0-A8B9-67084DD7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37626-9F9C-4395-90C8-E0F9D05E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59BC-5B3D-4990-9290-44BCEA35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43FC1-B6EE-47D1-87D1-9356CB3A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8B25F-C116-4AFC-A60E-B143FE65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D37E5-CCE6-4E61-BF3A-BA53FB3B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1D2-41AF-4D91-BFD9-3DD4F336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E13B-F669-4A7A-B738-1661B3D5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74B05-250A-4183-BC1D-BEBBD606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3FAE-53CE-461D-9EFF-952A909E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C8DD-4B88-41C0-B61A-3929BE82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5C1A-E57A-460F-8D29-C3F91857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4E99-E0C0-4020-A411-DD452888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3A614-498E-4247-8B3C-2095129C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4F604-AFB6-44CD-9556-65A7D4D8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05D8A-0DCE-4146-8333-5C9A1C15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E4E192-CF8D-446B-9E90-BB1A8418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527-F336-4490-8B73-21AB62D1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8CD04A-F82D-4585-8577-7E98A26B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5BB6B-7CF8-4AF8-BFF1-44D28CFD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13FC8-6A8C-4210-AD7B-7269F638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5740C-65D7-4698-9FD2-D7D67709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53E67-0470-46EC-A6F1-875E7358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2EE46-EBB2-4B8C-8DC9-9516D12C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043913-83E1-4D50-8B6A-23468707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FC377-9CA3-4175-A7B5-DF36201D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3F063A-36ED-4895-9020-1DD6BE96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95F52-C350-41B6-AE77-88AE9DB0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BD6-E9C4-406C-93D2-8DB4B47A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6A7F5-769E-4119-90EB-465BFFC8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71815-99E9-4BA0-B0AC-4E65F249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385AE-C5EC-4287-8B4D-184F45FB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C09B3-EFD5-403B-B653-747E83AF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97807-B02B-406E-ADB6-845C5F9B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2E06-65EE-4F77-9BFF-2A001D7A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A4B0D-3A56-41F8-8DD8-764E89A9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3690-1BBC-4354-B37C-1AAC9F87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F5BB4-A6B3-4B31-8155-769A9989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BB32D-6618-4AB3-BEC4-958811BB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FB6-060A-4FE2-8D44-A6A31C9E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5081F-D750-4479-A5E5-B5D8C219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D9D40-ECE0-4C20-83E7-C377A51C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AFCE2-E823-48A1-BCAC-91204B77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72727-4B58-443A-B5F1-5550A7A4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DCDF-9990-4BBF-B389-4BE00C66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EF997-7662-4788-ABBC-EAC1F94C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794C3-505C-4E3D-B8A4-7D434F73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74FF2-4D97-44E6-B41F-072C6BAC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AFB30-0B8F-4845-BBEB-6993687D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E6352-3EAA-4D2B-901C-1D2B1D75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E8A4-4FCB-4330-B716-5763DFBC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029F1-9915-48EC-87DF-6635F0C4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64F92-9005-45E2-9186-187A099F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2562E-2770-48A0-9580-4B50FA69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CC6ED-C41E-48E2-B529-E62BE8D6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D9D46-BF11-483D-AE53-B151BFC9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6A830-08C2-48B1-B17E-3B7E864F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871C6-D1A0-4239-8EEE-4A66A414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7B83A-FAC6-40BB-B2D5-B8A781F8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1581B-D234-4BCD-A29A-C420A6D4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517C2-E915-422E-9663-4A5137CB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649-49B2-4187-BF98-7244505A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58AEF-858A-49C7-981E-C6783CBF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AB68B-9583-4FFD-AE4D-D0B987C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57E12-2454-46BE-971D-1DDA055F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D81F2-80B9-4878-9C04-7FD5F9A9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D91A9-747A-4847-8508-DECB8A65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27041-8344-444D-A30B-DD5B11D2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6ABE8-5E1F-44FD-A484-E76BAF00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088F1-B991-41EC-B353-F7C97807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D3F96-0B65-440B-9649-3350194C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7F19E-6FAE-42B8-80B4-26F23F9A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7C8-B146-434A-AB44-C25D9699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50C84-2DBF-4AFD-A79E-BE7C8E7A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F80D1-929C-4954-B311-5A6D5612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122E4-023D-433B-8E6A-8414DD40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AC5DF-B9B7-4FF7-BDB9-9FD90071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0A60E-215E-474B-A3CD-0AC8147B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C24BA-68E1-44F7-AFB9-8D3B3A7B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1BBCB-3D5E-4FCB-AB46-F91B9F16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B893B-972C-4619-9F27-BA7BB5CE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5250A-BD71-4CED-9F8A-A81424AE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6CBAB-E58F-4B10-A2FB-BB770FA1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6CAB-2DE4-4699-AE8B-C285BDF37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5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5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9D23-93CC-4397-8303-5544006BF6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2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83D3-FDCC-473B-8F51-3466155A88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06BA-C25B-444A-8EE3-B9A1A2303A6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F581-7A16-4DD1-A951-7E28F3B86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5303-B16A-4F22-9A02-B0A2438171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C3D1-862A-476D-A778-B9CAEC6968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0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91C4-8B1F-423E-B96E-B1055841A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A74C-DDB9-4A19-8B9E-F648F46FD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2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D6E3-2614-4D21-90E6-53358AF0D6F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0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0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1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33E9-49E3-46B8-BAB1-08BB22C24E5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B85-CAE7-496E-8A57-EDEB402C6E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Tahoma"/>
              </a:rPr>
              <a:t>Родительское собра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Учитель Матюнькова З. 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ОУООШ № 40 г.Копейс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-6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8. После доверительно  поговорите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с сыном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или  дочерью о возможности показаться доктор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9.Никаких угроз или наказаний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10.Не нагнетайте ужаса, т.е. всего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того,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о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   чем мы говорили, должно быть не сли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шком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много. Просто время от времени напоминайте о фактах – к чему приводят наркотики. Посмотрите вместе фильм про наркоманов, чтобы он увидел последствия употребления наркотик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9" name=""/>
          <p:cNvSpPr/>
          <p:nvPr/>
        </p:nvSpPr>
        <p:spPr>
          <a:xfrm>
            <a:off x="6281640" y="55371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17040" y="382680"/>
            <a:ext cx="79297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табакокуре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 из вредных привычек- табакокурение. Порой к ней приобщаются дети чуть ли  не с 3 класса. Легко ли отучить ребят от этой дурной привычки? Нет, нелегко. Но в любом случае  надо начинать лечить: здесь любой метод хорош. Есть такое лечение  методом иглотерапии, есть болгарский препарат- табакс, а в Армении выпускают жевательную резинку специально от кур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"/>
          <p:cNvSpPr/>
          <p:nvPr/>
        </p:nvSpPr>
        <p:spPr>
          <a:xfrm>
            <a:off x="6084720" y="5877000"/>
            <a:ext cx="19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003640" y="5589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ужно обязательно всё попробовать, потому что курение очень вредно действует  на слизистую желудка и двенадцатипёрстной кишки. Страдают также и лёгкие. Очень часто никотин действует и на потомство. Девочке надо знать об этом. Обратите внимание на то, что главное в борьбе с курением- любой ценой наладить контакт с ребёнком, попробовать быть с ним на равных; не запугивать, а совершенно спокойно и нейтрально общать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"/>
          <p:cNvSpPr/>
          <p:nvPr/>
        </p:nvSpPr>
        <p:spPr>
          <a:xfrm>
            <a:off x="6066000" y="54658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ешите лечить саму привычку, вначале разберитесь в тех  причинах, которые приводят к этой привыч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м будет очень трудно. То, что мы говорим, на них мало действует, потому что система ценностей в переходном возрасте меняется, - их всё равно тянет к сверстник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"/>
          <p:cNvSpPr/>
          <p:nvPr/>
        </p:nvSpPr>
        <p:spPr>
          <a:xfrm>
            <a:off x="536400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0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6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657600" cy="363528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4140360" y="333360"/>
            <a:ext cx="47527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вы хотите хотя бы как-то воздействовать на своё чадо, станьте  другом его коллектива, приятно вам это или нет. Пусть приходят друзья домой к вам. Не гоните их. Так вы будете узнавать изнутри, кто есть кто, и тогда можно будет что-то противопоставить, понять, откуда и что берё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68360" y="436572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е потеряйте своих детей! Терпеливо находите подходы к н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Я желаю вам успеха! Всего доброг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34320" y="60418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Итоги успеваемости за 3 четверть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9640" y="1125360"/>
            <a:ext cx="82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457200" y="1052640"/>
          <a:ext cx="8229600" cy="5721120"/>
        </p:xfrm>
        <a:graphic>
          <a:graphicData uri="http://schemas.openxmlformats.org/drawingml/2006/table">
            <a:tbl>
              <a:tblPr/>
              <a:tblGrid>
                <a:gridCol w="3149640"/>
                <a:gridCol w="817560"/>
                <a:gridCol w="817560"/>
                <a:gridCol w="700200"/>
                <a:gridCol w="788760"/>
                <a:gridCol w="641520"/>
                <a:gridCol w="655560"/>
                <a:gridCol w="658800"/>
              </a:tblGrid>
              <a:tr h="934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амилия, им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. яз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ли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л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е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е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би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афурьянов Рами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здина Ма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аминская Та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урбатов Юр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атвеева Наст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вчинникова Лю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инжаков Макс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аитов Вад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ельманова Ан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имофеева Нат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Шевяков С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Ярушин Же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Итоги успеваемости за 3 четверть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457200" y="1052640"/>
          <a:ext cx="8229600" cy="5319720"/>
        </p:xfrm>
        <a:graphic>
          <a:graphicData uri="http://schemas.openxmlformats.org/drawingml/2006/table">
            <a:tbl>
              <a:tblPr/>
              <a:tblGrid>
                <a:gridCol w="2890800"/>
                <a:gridCol w="647640"/>
                <a:gridCol w="720720"/>
                <a:gridCol w="719280"/>
                <a:gridCol w="865080"/>
                <a:gridCol w="792360"/>
                <a:gridCol w="863640"/>
                <a:gridCol w="730080"/>
              </a:tblGrid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амилия, им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х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чер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-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э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афурьянов Рами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здина Мар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аминская Та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урбатов Юр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атвеева Наст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вчинникова Лю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инжаков Макс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аитов Вад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ельманова Ан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имофеева Нат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Шевяков С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Ярушин Же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9" name=""/>
          <p:cNvSpPr/>
          <p:nvPr/>
        </p:nvSpPr>
        <p:spPr>
          <a:xfrm>
            <a:off x="6282000" y="6400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певаемость 8</a:t>
            </a:r>
            <a:r>
              <a:rPr b="1" lang="en-US" sz="4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го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457200" y="1604880"/>
          <a:ext cx="403848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4880"/>
                    <a:ext cx="403848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"/>
          <p:cNvGraphicFramePr/>
          <p:nvPr/>
        </p:nvGraphicFramePr>
        <p:xfrm>
          <a:off x="2340000" y="1413000"/>
          <a:ext cx="4751280" cy="2762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413000"/>
                    <a:ext cx="475128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"/>
          <p:cNvGraphicFramePr/>
          <p:nvPr/>
        </p:nvGraphicFramePr>
        <p:xfrm>
          <a:off x="611280" y="4295880"/>
          <a:ext cx="7999200" cy="1593360"/>
        </p:xfrm>
        <a:graphic>
          <a:graphicData uri="http://schemas.openxmlformats.org/drawingml/2006/table">
            <a:tbl>
              <a:tblPr/>
              <a:tblGrid>
                <a:gridCol w="1058760"/>
                <a:gridCol w="1058760"/>
                <a:gridCol w="1057320"/>
                <a:gridCol w="1058760"/>
                <a:gridCol w="1235160"/>
                <a:gridCol w="1059120"/>
                <a:gridCol w="1471320"/>
              </a:tblGrid>
              <a:tr h="77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 1ой "3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3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 "4" и "5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ач-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бсолю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3,3333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6" name=""/>
          <p:cNvSpPr/>
          <p:nvPr/>
        </p:nvSpPr>
        <p:spPr>
          <a:xfrm>
            <a:off x="6642360" y="6184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нкета для следующего собр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наете ли друзей своего ребёнка? Назовите и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овы формы их общен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вы относитесь к его друзья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 кому больше всего тянет ваших детей? (Пол, возраст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льзуется ли ваш ребёнок авторитетом в компании друзе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560920" y="59691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ГОВОРИМ О ДУРНЫХ   ПРИВЫЧКАХ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3348000" y="3430440"/>
            <a:ext cx="2736720" cy="230364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1852560" cy="2908440"/>
          </a:xfrm>
          <a:prstGeom prst="rect">
            <a:avLst/>
          </a:prstGeom>
          <a:ln w="0">
            <a:noFill/>
          </a:ln>
        </p:spPr>
      </p:pic>
      <p:pic>
        <p:nvPicPr>
          <p:cNvPr id="957" name="" descr=""/>
          <p:cNvPicPr/>
          <p:nvPr/>
        </p:nvPicPr>
        <p:blipFill>
          <a:blip r:embed="rId3"/>
          <a:stretch/>
        </p:blipFill>
        <p:spPr>
          <a:xfrm>
            <a:off x="6643800" y="1916280"/>
            <a:ext cx="19317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9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9" dur="1230" fill="hold"/>
                                        <p:tgtEl>
                                          <p:spTgt spid="95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0" dur="123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2" dur="123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Вступительное сло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Мои сове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О 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табакокур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11280" y="3357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тоги успеваемости за 3 четвер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9640" y="4365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69360" y="3892680"/>
            <a:ext cx="62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нкета для следующего собр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ВСТУПИТЕЛЬНОЕ СЛО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2627280" y="1197000"/>
            <a:ext cx="59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, это слишком мягкое название для таких привычек у наших подрост-ков, как пьянство, курение, токсикома-ния, наркомания. Откуда взялись эти напаст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>
            <a:hlinkClick r:id="rId3" action="ppaction://hlinksldjump"/>
          </p:cNvPr>
          <p:cNvSpPr/>
          <p:nvPr/>
        </p:nvSpPr>
        <p:spPr>
          <a:xfrm>
            <a:off x="6877080" y="602136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68360" y="335772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ослые люди, кажется, всегда курили и пили вино, дети это видели, но им и в голову, наверное, не прихо-дило, что курить и пить можно и им. Были, как говорит-ся, отдельные случаи, тайком покуривали мальчики, тайком пробовали вино. А сейчас не только мальчики, но и девочки покуривают и даже потягивают рюмочку в компан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команию мы с вами, дорогие родители, конечно, слышали, но сомневаемся, чтобы кто-то из вас видел это в период своего отрочества. О токсикомании тогда вообще и речи  не было. А сейчас! Сейчас это настоящее бедствие, и одурманенные опасным зельем юные головы далеко не редкость. Тут мы старшие, уж никак не могли подать детям дурной прим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начит дело, видимо, не в плохом пример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цессы, долгое время происходившие в нашем обществе, изменили нашу психологию, нашу жиз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>
            <a:hlinkClick r:id="rId2" action="ppaction://hlinksldjump"/>
          </p:cNvPr>
          <p:cNvSpPr/>
          <p:nvPr/>
        </p:nvSpPr>
        <p:spPr>
          <a:xfrm>
            <a:off x="6659640" y="5661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85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05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848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хочу вам зачитать одно письмо из  газеты «Копейский рабочий». «Я учусь в 8 классе и уже не вижу для себя в будущем ничего. Я и мои сверстники употребляем наркотики. Мне дали в 7 классе что-то такое, что захотелось повторить. Поначалу было просто приятное ощущение, теперь- необходимость. У нас в классе 25 челове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92720" y="537372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5003640" y="5589720"/>
            <a:ext cx="646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>
            <a:hlinkClick r:id="rId2" action="ppaction://hlinksldjump"/>
          </p:cNvPr>
          <p:cNvSpPr/>
          <p:nvPr/>
        </p:nvSpPr>
        <p:spPr>
          <a:xfrm>
            <a:off x="6084720" y="55897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 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9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них только семеро не пробовали дурмана. На это надо деньги. У нас создалась своя компания, где каждый поможет другому. Уйти из этого круга нельзя: тебя держат долги, страх за то, что ты сделал. Мама с отцом ничего не знают. Кто мне поможет? Спасите, я очень прошу!» Вот он, крик о помощи. Страшно становится. А что он сделал сам, чтобы спастись? Что можем сделать мы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37280" y="52484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 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9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Мои советы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Я, к счастью, пока от наших детей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такое не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 слышала, но предупредить это несчастье -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ш 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долг, потому я и говорю с вами. Примите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ои 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советы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1. Наркоманы, как и токсикоманы, приобщаются к пагубной привычке в группах себе подобных -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так 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легче добыть желаемое, получить информ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ацию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. Поэтому всех вас должна насторожить час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тая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 и беспричинная смена друзе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2. Проводите наблюдение за досугом своих дете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3. Сделайте всё возможное, чтобы у подростков было меньше свободного времени. Заполняйте его хоро-шим, интересным для вашего ребёнка содержание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1" name=""/>
          <p:cNvSpPr/>
          <p:nvPr/>
        </p:nvSpPr>
        <p:spPr>
          <a:xfrm>
            <a:off x="5651640" y="5877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3780000" y="26028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059280" y="549360"/>
            <a:ext cx="608472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.Присматривайтесь 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бёнку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Заметили, что у нег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аткая походка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Что он какой-то странный,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у него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почему-то дрожат руки. что он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й-то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ьяный, но запаха нет - принима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мер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. Только не торопитесь делать выв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.Вначале ещё раз проверьте свои наблю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. Затем сходите в наркологический диспансер, опишите врачу состояние вашего ребёнка и спросите, обоснованны ли ваши подоз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012000" y="609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2" action="ppaction://hlinksldjump"/>
              </a:rPr>
              <a:t> 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11:07:26Z</dcterms:created>
  <dc:creator>Андрюха</dc:creator>
  <dc:description/>
  <dc:language>en-US</dc:language>
  <cp:lastModifiedBy>Андрюха</cp:lastModifiedBy>
  <dcterms:modified xsi:type="dcterms:W3CDTF">2006-01-31T20:41:13Z</dcterms:modified>
  <cp:revision>5</cp:revision>
  <dc:subject/>
  <dc:title>Слайд 1</dc:title>
</cp:coreProperties>
</file>