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D945-EE63-4A71-879B-0A5D0D76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AD2E-6F06-44F1-99EC-50DCF86F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706C-9FDD-42F1-977D-7C5B9E54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F8AB-7169-4097-A2A3-3E8038B2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28EF-CA88-4BFB-B46E-EDF09600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E02D-9B15-49ED-AB9B-2B833050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0665-9836-40AD-BBDE-42AE9099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A95C-B58A-4FDB-ABBC-6B8CA9F0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C0C6-B560-4F7F-B490-4CC54D8B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09F6-21AC-4D2E-B9E7-6FE93984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F5B3-2CA7-48B1-9428-9EB393E9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7CE3-D90C-41D7-9795-B6CB3CE8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786F-893C-400E-8DE8-BB728A30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482E-1D9D-4636-B3CA-0A969AFE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8D3E-382B-4E1F-8BEE-58A809DC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DEAB-F3FB-4A73-A5BB-E0597543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8787-A5C1-4D99-89B6-C0D4AB28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E81D-0B27-4311-808B-EF843A10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6D63-DD2B-40B7-8EDD-C2EF8036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9989-D5DC-45A3-8C7D-0159FCA1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BE9D-C246-4C01-B2DB-B3DDC47C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FD2E-68F4-4CDB-87CF-0770A2F2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20BA-3FC7-4D95-B7FA-377BB6CC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F6EC-1B52-458F-A937-EDAB9323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3B70-DF42-4744-B7E5-B981F088D0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86F3-3232-4A50-BA20-2BE19BE9E7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 днём 8 Марта 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ки 2 «В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кола № 6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сегда с мамой вместе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63480" y="1600200"/>
            <a:ext cx="3625920" cy="4530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60960" y="1600200"/>
            <a:ext cx="3013200" cy="4530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Любимая моя мама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69920" y="191448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4120" y="277920"/>
            <a:ext cx="7835760" cy="58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аша дружная семья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22400" y="277920"/>
            <a:ext cx="7099200" cy="58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Любимая моя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46044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ы вдвоём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Моя милая мамочка !Самая лучшая на свете 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праздником весны Вас поздравля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частья, здоровья, веселья жела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эта весна принесёт для теб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о улыбок, тепла и добр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16720" y="3789360"/>
            <a:ext cx="210492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Мы очень Вас любим, дорогие наши мамы и бабушки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620800" y="277920"/>
            <a:ext cx="3902400" cy="5852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76360" y="27792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ма,моя самая близкая подруга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63960" y="1600200"/>
            <a:ext cx="3014640" cy="4530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81160" y="1122480"/>
            <a:ext cx="3181680" cy="4162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7:01:24Z</dcterms:created>
  <dc:creator>Soul</dc:creator>
  <dc:description/>
  <dc:language>en-US</dc:language>
  <cp:lastModifiedBy>Soul</cp:lastModifiedBy>
  <dcterms:modified xsi:type="dcterms:W3CDTF">2013-03-21T18:13:12Z</dcterms:modified>
  <cp:revision>4</cp:revision>
  <dc:subject/>
  <dc:title>С днём 8 Марта !</dc:title>
</cp:coreProperties>
</file>