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EA3B-3098-468C-AAAF-6C11BE60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F295-79FC-4637-B142-8C08D9F3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3399-0FF6-4A3A-8213-5A44E92C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538F-C414-405A-BD1F-A5B6F35F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F7DE-BAA6-40B8-9F95-464B27D6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0718-802C-473A-8608-2E8649A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A4F8-FBF2-44B7-BF11-D83995BC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B9BE-B1FB-4811-8895-286CA5BD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B28C-CDD9-4108-A273-6C7C7208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1066-5F0F-4378-A33A-B139A7E9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2047-EF6B-44DD-A1D1-449C0F1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851E-122F-4C62-89EA-6DFE6578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4FD8-D075-4AF8-B08A-88474AC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74B9-4D0A-42D1-9366-E3976A0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9B3F-707C-4C0A-AA0A-0A890249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4585-4669-4CC7-9D4D-59F81048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6D49-7F66-486C-B8DF-3A31D863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16A2-B860-438B-8142-9A60B8AB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1C68-E3F7-4F3D-BE0C-91E5E86B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D5B0-420B-44B2-9D8B-FA44139C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F139-624B-46C6-BF5F-247434E8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D496-B38B-4A14-A385-0661C30F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0DA9-32E3-4BEF-94F2-03D41138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AB6C-78E5-430D-9E33-EE55F4A9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A898-5E4C-44AF-B1FE-F00FDAAEC2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A4D8-902B-4508-B1AB-1797034D4E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 днём 8 Марта 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ки 2 «В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кола № 6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сегда с мамой вместе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3480" y="1600200"/>
            <a:ext cx="3625920" cy="4530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60960" y="1600200"/>
            <a:ext cx="3013200" cy="4530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юбимая моя мама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69920" y="191448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4120" y="277920"/>
            <a:ext cx="7835760" cy="58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ша дружная семья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22400" y="277920"/>
            <a:ext cx="7099200" cy="58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юбимая моя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46044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ы вдвоём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оя милая мамочка !Самая лучшая на свете 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праздником весны Вас поздравля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частья, здоровья, веселья жела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эта весна принесёт для т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о улыбок, тепла и добр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16720" y="3789360"/>
            <a:ext cx="210492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ы очень Вас любим, дорогие наши мамы и бабушки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20800" y="277920"/>
            <a:ext cx="3902400" cy="5852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ма,моя самая близкая подруга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63960" y="1600200"/>
            <a:ext cx="3014640" cy="4530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81160" y="1122480"/>
            <a:ext cx="3181680" cy="4162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7:01:24Z</dcterms:created>
  <dc:creator>Soul</dc:creator>
  <dc:description/>
  <dc:language>en-US</dc:language>
  <cp:lastModifiedBy>Soul</cp:lastModifiedBy>
  <dcterms:modified xsi:type="dcterms:W3CDTF">2013-03-21T18:13:12Z</dcterms:modified>
  <cp:revision>4</cp:revision>
  <dc:subject/>
  <dc:title>С днём 8 Марта !</dc:title>
</cp:coreProperties>
</file>