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  <p:custShowLst>
    <p:custShow name="Произвольный показ 1" id="0">
      <p:sldLst>
        <p:sld r:id="rId3"/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9006-C598-4115-9065-C1E6304F5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2949-ABB4-4593-B0E8-09E85DC1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B18F-88F1-4A0C-9C38-8EDBDB2C6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8CA5-34BC-4941-AB02-D14891D23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453E-8A69-4CDF-8C9E-9246B03C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9F0D-0E7D-48C6-B11B-92B6C86D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61DA-0367-405D-87C3-863136E1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9DAC-7104-427E-B2CE-BE859EBC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3D24-8A05-4055-98AF-1B577B28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CF1D-F7E3-40FA-AC4B-C8A63EBD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20BD-F187-4145-8C3F-EFECB1CA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2CBB-35EC-4A28-82AF-823475D8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5C7D-6BE4-48EB-9CCD-14A008CEDA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ASONS AND MON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л: учитель английского языка МБОУ СОШ №1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сонова Надежда Никола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Summer months are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497800" cy="45849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1615320" y="2069280"/>
            <a:ext cx="215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Jun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 flipV="1" rot="10847400">
            <a:off x="3132000" y="3355920"/>
            <a:ext cx="23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Jul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4500720" y="4639320"/>
            <a:ext cx="32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Augus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Autumn months are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68360" y="1700280"/>
            <a:ext cx="8353440" cy="48243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395280" y="1773720"/>
            <a:ext cx="489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Septemb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1835280" y="3643920"/>
            <a:ext cx="511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Octob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419640" y="4941000"/>
            <a:ext cx="7407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Novembe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Questions</a:t>
            </a: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ru-RU" sz="5400" spc="-1" strike="noStrike">
                <a:solidFill>
                  <a:srgbClr val="000000"/>
                </a:solidFill>
                <a:latin typeface="Arial Black"/>
              </a:rPr>
              <a:t>1.</a:t>
            </a: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When is your              birthday</a:t>
            </a:r>
            <a:r>
              <a:rPr b="0" lang="ru-RU" sz="54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y birthday is in 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357120" y="500040"/>
            <a:ext cx="1871640" cy="1905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2"/>
          <a:stretch/>
        </p:blipFill>
        <p:spPr>
          <a:xfrm>
            <a:off x="5715000" y="4286160"/>
            <a:ext cx="31431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Questions</a:t>
            </a: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28400" y="1900080"/>
            <a:ext cx="808668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What colour is    Spring 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Summer, Winter,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utum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5572080" y="3857760"/>
            <a:ext cx="2857680" cy="2786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285840" y="357120"/>
            <a:ext cx="2500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Questions</a:t>
            </a: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What are Spring month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pring months are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2428920" cy="2214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"/>
          <p:cNvPicPr/>
          <p:nvPr/>
        </p:nvPicPr>
        <p:blipFill>
          <a:blip r:embed="rId2"/>
          <a:stretch/>
        </p:blipFill>
        <p:spPr>
          <a:xfrm>
            <a:off x="6786720" y="4357800"/>
            <a:ext cx="19285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Познакомить учащихся с новыми лексическими единицами по теме «Времена года и месяц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Активизировать употребление изученных лексических единиц с опорой на визуальную нагляд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UTUM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NTER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P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95280" y="476280"/>
          <a:ext cx="8445600" cy="5580000"/>
        </p:xfrm>
        <a:graphic>
          <a:graphicData uri="http://schemas.openxmlformats.org/drawingml/2006/table">
            <a:tbl>
              <a:tblPr/>
              <a:tblGrid>
                <a:gridCol w="4222800"/>
                <a:gridCol w="4222800"/>
              </a:tblGrid>
              <a:tr h="28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pring is green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7e34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utumn is yellow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40a"/>
                    </a:solidFill>
                  </a:tcPr>
                </a:tc>
              </a:tr>
              <a:tr h="27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ummer is bright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1a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Winter is white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Winter months are…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79280" y="1682640"/>
            <a:ext cx="8425080" cy="51753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468360" y="1823040"/>
            <a:ext cx="45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December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2411280" y="343296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Januar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4211640" y="4769640"/>
            <a:ext cx="439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February</a:t>
            </a: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Spring  months are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777080" cy="49813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684360" y="2205000"/>
            <a:ext cx="36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M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AR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348000" y="3529800"/>
            <a:ext cx="31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PRIL</a:t>
            </a: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5796000" y="475056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M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8:06Z</dcterms:created>
  <dc:creator>Loner-XP</dc:creator>
  <dc:description/>
  <dc:language>en-US</dc:language>
  <cp:lastModifiedBy>Надежда</cp:lastModifiedBy>
  <dcterms:modified xsi:type="dcterms:W3CDTF">2013-03-21T15:20:48Z</dcterms:modified>
  <cp:revision>17</cp:revision>
  <dc:subject/>
  <dc:title>SEASONS AND MONTHS</dc:title>
</cp:coreProperties>
</file>