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  <p:custShowLst>
    <p:custShow name="Произвольный показ 1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FED-2CD0-40D2-BE64-39109CE2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4E8-79B0-44F6-80B8-93ADF812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9C6-A864-4BCC-83AD-16260877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B27-314C-4EA2-B929-D9EFB848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C680-B8C5-406B-9442-1338BDDB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1DF0-1D0D-496D-8C0C-0FD4B53E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58DB-90DD-4644-91C0-EC19B0A4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56F-6AD4-42C0-9FA1-2EAFF3C7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6FD-646C-4010-93AC-D508D683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B361-7EA3-4903-9814-8C6AD923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F75-023D-436E-BEA6-C0BA4695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3AA-2650-4CDF-90EE-4FD75D32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7ACE-4A53-4506-93A0-CAA6EA5AB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SONS AND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: учитель английского языка МБОУ СОШ №1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сонова Надежд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Summer months ar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497800" cy="45849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1615320" y="2069280"/>
            <a:ext cx="215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Jun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 flipV="1" rot="10847400">
            <a:off x="3132000" y="335592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Ju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500720" y="463932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Augus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Autumn months ar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8360" y="1700280"/>
            <a:ext cx="8353440" cy="4824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95280" y="1773720"/>
            <a:ext cx="489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Septemb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835280" y="3643920"/>
            <a:ext cx="51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Octob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419640" y="4941000"/>
            <a:ext cx="740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Novembe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Questions</a:t>
            </a: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1.</a:t>
            </a: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When is your              birthday</a:t>
            </a: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y birthday is in 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187164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5715000" y="4286160"/>
            <a:ext cx="31431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Questions</a:t>
            </a: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400" y="1900080"/>
            <a:ext cx="808668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What colour is    Spring 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Summer, Winter,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utum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5572080" y="3857760"/>
            <a:ext cx="2857680" cy="278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Questions</a:t>
            </a: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What are Spring month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pring months ar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2428920" cy="2214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6786720" y="4357800"/>
            <a:ext cx="1928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ознакомить учащихся с новыми лексическими единицами по теме «Времена года и месяц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Активизировать употребление изученных лексических единиц с опорой на визуальную нагляд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UTUM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NTER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476280"/>
          <a:ext cx="8445600" cy="5580000"/>
        </p:xfrm>
        <a:graphic>
          <a:graphicData uri="http://schemas.openxmlformats.org/drawingml/2006/table">
            <a:tbl>
              <a:tblPr/>
              <a:tblGrid>
                <a:gridCol w="4222800"/>
                <a:gridCol w="4222800"/>
              </a:tblGrid>
              <a:tr h="28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pring is green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7e34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utumn is yellow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40a"/>
                    </a:solidFill>
                  </a:tcPr>
                </a:tc>
              </a:tr>
              <a:tr h="27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ummer is bright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1a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inter is white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Winter months are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79280" y="1682640"/>
            <a:ext cx="8425080" cy="5175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468360" y="182304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December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411280" y="343296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Janua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211640" y="476964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February</a:t>
            </a: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Spring  months ar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777080" cy="4981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684360" y="220500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AR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348000" y="352980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PRIL</a:t>
            </a: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5796000" y="475056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8:06Z</dcterms:created>
  <dc:creator>Loner-XP</dc:creator>
  <dc:description/>
  <dc:language>en-US</dc:language>
  <cp:lastModifiedBy>Надежда</cp:lastModifiedBy>
  <dcterms:modified xsi:type="dcterms:W3CDTF">2013-03-21T15:20:48Z</dcterms:modified>
  <cp:revision>17</cp:revision>
  <dc:subject/>
  <dc:title>SEASONS AND MONTHS</dc:title>
</cp:coreProperties>
</file>