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24FF-BD93-450C-BB17-6DD556AAF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6C16-FD6B-4224-9253-FDA84F2DC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2E6-13C3-4E9F-9F76-5860D076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C40-2C56-4A56-B3D2-6EE18C2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1D2-6C3A-4A67-A0BD-0F90B1EA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45C-51E8-4451-A520-B24530D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1F4-693E-40B5-B237-1CAAC2C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160-6933-435E-8362-34EB333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B01-9514-4CF7-97F3-87CB7D3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C84-D8D6-4A46-A575-44AE6B1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858-4C40-4C17-8544-0950596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781-8D94-4674-A963-5F2D682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E1C-A8EF-421E-96E2-BAE19F5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1BF-3397-4658-A211-EF1CD2C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606A-B345-43B0-8B3A-B9D42DA1B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8120"/>
            <a:ext cx="741672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Влияние шумового загрязнения 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на  школьную аудитор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00720" y="3370320"/>
            <a:ext cx="4174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Авторы: Донская А. Голованёва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Учениц 9 «А»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БОУ «Яндыковской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Руководитель: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Чичерина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Учитель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50920" y="1557360"/>
            <a:ext cx="208908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Последствия действия шума на учащихс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8436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4328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732720" y="1557360"/>
            <a:ext cx="1944720" cy="4105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2556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ahoma"/>
              </a:rPr>
              <a:t>Пр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Шумовой ф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або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аудиоаппа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азговор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реч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Превыш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уровн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шума на 14 д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268360" y="1557360"/>
            <a:ext cx="2170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ahoma"/>
              </a:rPr>
              <a:t>Следстви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Напряж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органа слу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Сниж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уровн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информац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Чтени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Слушание реч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Внимани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запомин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4500720" y="1557360"/>
            <a:ext cx="2141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Verdana"/>
              </a:rPr>
              <a:t>Следствие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велич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громкости ре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велич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выдел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адренал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в кров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659640" y="162864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Verdana"/>
              </a:rPr>
              <a:t>Результ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Сниж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каче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учебной рабо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7" descr="P1130619"/>
          <p:cNvPicPr/>
          <p:nvPr/>
        </p:nvPicPr>
        <p:blipFill>
          <a:blip r:embed="rId2"/>
          <a:stretch/>
        </p:blipFill>
        <p:spPr>
          <a:xfrm>
            <a:off x="4788000" y="4105440"/>
            <a:ext cx="3744720" cy="27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36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8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4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76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2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2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68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4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32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6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24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119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52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56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4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84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120"/>
                            </p:stCondLst>
                            <p:childTnLst>
                              <p:par>
                                <p:cTn id="3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12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4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8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Человек  всегда жил в мире звуков. Ещё в давние времена шелест листьев, журчание ручья наполняли душу нашего предка спокойствием, в то время как рёв зверя предупреждал об опасности. В природе любые громкие звуки являются сигналами тревоги, они приводят организм в состояние повышенной возбудимости. Сегодня как никогда человек ценит тишину, которую часто называют целебной. Многие выдающиеся деятели считали тишину источника вдохновения. Великий Гёте убеждал, что «талантливое рождается в тиши…»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Физическое и духовное здоровье граждан – основа эффективного развития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Каждый молодой человек должен осознать, что здоровый образ жизни – это успех, его личный успе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…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Эффективность работы с национальными проектами - в сохранении и  укреплении здоровья России.                                               В.В. Пу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37"/>
          <p:cNvSpPr/>
          <p:nvPr/>
        </p:nvSpPr>
        <p:spPr>
          <a:xfrm>
            <a:off x="4648320" y="394164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4863960" y="4437000"/>
            <a:ext cx="860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4863960" y="4157640"/>
            <a:ext cx="40388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6156360" y="1413000"/>
            <a:ext cx="16524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5079960" y="4869000"/>
            <a:ext cx="355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4"/>
          <p:cNvSpPr/>
          <p:nvPr/>
        </p:nvSpPr>
        <p:spPr>
          <a:xfrm>
            <a:off x="5079960" y="5013360"/>
            <a:ext cx="10047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5079960" y="5013360"/>
            <a:ext cx="13636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8"/>
          <p:cNvSpPr/>
          <p:nvPr/>
        </p:nvSpPr>
        <p:spPr>
          <a:xfrm>
            <a:off x="5079960" y="4653000"/>
            <a:ext cx="14367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7" descr="P1010097"/>
          <p:cNvPicPr/>
          <p:nvPr/>
        </p:nvPicPr>
        <p:blipFill>
          <a:blip r:embed="rId2"/>
          <a:stretch/>
        </p:blipFill>
        <p:spPr>
          <a:xfrm>
            <a:off x="468360" y="4724280"/>
            <a:ext cx="2376360" cy="1757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9" descr="logo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header"/>
          <p:cNvPicPr/>
          <p:nvPr/>
        </p:nvPicPr>
        <p:blipFill>
          <a:blip r:embed="rId4"/>
          <a:stretch/>
        </p:blipFill>
        <p:spPr>
          <a:xfrm>
            <a:off x="2268360" y="260280"/>
            <a:ext cx="619308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то 2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ычапвр"/>
          <p:cNvPicPr/>
          <p:nvPr/>
        </p:nvPicPr>
        <p:blipFill>
          <a:blip r:embed="rId3"/>
          <a:stretch/>
        </p:blipFill>
        <p:spPr>
          <a:xfrm>
            <a:off x="0" y="0"/>
            <a:ext cx="1547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2556000" y="5516640"/>
            <a:ext cx="3456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380880"/>
            <a:ext cx="61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Здоровье – это не всё, но без здоровья</a:t>
            </a: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всё – ничто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835280" y="1916280"/>
            <a:ext cx="561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Шумовое загрязнение является серьёзной современной проблем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По степени вредности воздействия шуму принадлежит втор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после химического загряз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Школьная обстановка оказывает  влияние на учащихся и педагогов, которые в стенах школы проводят значительную часть сво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времени.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260280"/>
            <a:ext cx="8785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468360" y="1386000"/>
            <a:ext cx="8207280" cy="5472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Цель исследовательской работы: установить уровен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шумового загрязнения и определить его влияние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учеников и педагог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Определить уровень шумового фона в помещ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школы и сравнить его с норм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ыработать рекомендации для профилакти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озможного воздействия шумового загрязнени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Предмет исследования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– уровень шумового фона шко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Verdana"/>
              </a:rPr>
              <a:t>Влияние шумового загрязнения на  школьную аудитор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 в учебных кабинетах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В нашей школе уровень шума в кабинетах превышает норму (40 дБ). Шумовой фон выше допустимого на 17 дБ. Из данной диаграммы видно, что первое место по шумовому загрязнению занимает спортзал, второе- кабинет музыки, третье- столовая, и наконец четвертое – кабинет  технического тр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Диаграмма 5" descr=""/>
          <p:cNvPicPr/>
          <p:nvPr/>
        </p:nvPicPr>
        <p:blipFill>
          <a:blip r:embed="rId2"/>
          <a:stretch/>
        </p:blipFill>
        <p:spPr>
          <a:xfrm>
            <a:off x="0" y="1857240"/>
            <a:ext cx="578628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в коридора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В коридорах нашей школы уровень шума превышает норму 60 дБ.. Предполагаемые причины превышения  нормы допустимого шума: разные материалы полового покрытия (деревянное, бетонное, линолеум); разный объём помещения; широкие рекреации; узкие коридо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Рисунок 5" descr="1312402695_zvukovaya-dorozhka.jpg"/>
          <p:cNvPicPr/>
          <p:nvPr/>
        </p:nvPicPr>
        <p:blipFill>
          <a:blip r:embed="rId2"/>
          <a:stretch/>
        </p:blipFill>
        <p:spPr>
          <a:xfrm>
            <a:off x="689040" y="2567160"/>
            <a:ext cx="383364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Уровень шума в столово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76720" y="1628280"/>
            <a:ext cx="3851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В столовой нашей  школы наблюдается превышение уровня шума. Шумовой фон зависит от количества детей, их возраста, от динамики нервной сис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Рисунок 5" descr="d0b3d0bed180d18fd187d0b5d0b5-d0bfd0b8d182d0b0d0bdd0b8d0b5.jpg"/>
          <p:cNvPicPr/>
          <p:nvPr/>
        </p:nvPicPr>
        <p:blipFill>
          <a:blip r:embed="rId2"/>
          <a:stretch/>
        </p:blipFill>
        <p:spPr>
          <a:xfrm>
            <a:off x="476280" y="1994040"/>
            <a:ext cx="4492440" cy="67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Самооценка  влияния шума на интеллектуальную деятельность учащихс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AutoShape 6"/>
          <p:cNvSpPr/>
          <p:nvPr/>
        </p:nvSpPr>
        <p:spPr>
          <a:xfrm rot="21459000">
            <a:off x="178920" y="1700280"/>
            <a:ext cx="8223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132440" y="2027160"/>
            <a:ext cx="666720" cy="1284480"/>
          </a:xfrm>
          <a:prstGeom prst="pie">
            <a:avLst/>
          </a:prstGeom>
          <a:solidFill>
            <a:srgbClr val="1a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4799160" y="2579760"/>
            <a:ext cx="1884240" cy="731880"/>
          </a:xfrm>
          <a:prstGeom prst="pie">
            <a:avLst/>
          </a:prstGeom>
          <a:solidFill>
            <a:srgbClr val="1a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4132440" y="1979640"/>
            <a:ext cx="2560320" cy="828720"/>
          </a:xfrm>
          <a:prstGeom prst="pie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3"/>
          <p:cNvSpPr/>
          <p:nvPr/>
        </p:nvSpPr>
        <p:spPr>
          <a:xfrm>
            <a:off x="2124000" y="2960640"/>
            <a:ext cx="505080" cy="1065240"/>
          </a:xfrm>
          <a:prstGeom prst="pie">
            <a:avLst/>
          </a:prstGeom>
          <a:solidFill>
            <a:srgbClr val="808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Freeform 14"/>
          <p:cNvSpPr/>
          <p:nvPr/>
        </p:nvSpPr>
        <p:spPr>
          <a:xfrm>
            <a:off x="2629080" y="2960640"/>
            <a:ext cx="1455480" cy="1055880"/>
          </a:xfrm>
          <a:prstGeom prst="pie">
            <a:avLst/>
          </a:prstGeom>
          <a:solidFill>
            <a:srgbClr val="808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2124000" y="2205000"/>
            <a:ext cx="1960560" cy="1303200"/>
          </a:xfrm>
          <a:prstGeom prst="pie">
            <a:avLst/>
          </a:prstGeom>
          <a:solidFill>
            <a:srgbClr val="ff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Freeform 16"/>
          <p:cNvSpPr/>
          <p:nvPr/>
        </p:nvSpPr>
        <p:spPr>
          <a:xfrm>
            <a:off x="3352680" y="3179880"/>
            <a:ext cx="3426120" cy="1341360"/>
          </a:xfrm>
          <a:prstGeom prst="pie">
            <a:avLst/>
          </a:prstGeom>
          <a:solidFill>
            <a:srgbClr val="3366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17"/>
          <p:cNvSpPr/>
          <p:nvPr/>
        </p:nvSpPr>
        <p:spPr>
          <a:xfrm>
            <a:off x="3352680" y="2951280"/>
            <a:ext cx="3426120" cy="1065240"/>
          </a:xfrm>
          <a:prstGeom prst="pie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50920" y="3933720"/>
            <a:ext cx="33084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62 % учащихся 5  - 7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Мешает читать, мысл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5435640" y="4502160"/>
            <a:ext cx="4021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95 % учащихся начальных 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Мешает сосредоточи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Выполнять домашние зад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592240" y="1413000"/>
            <a:ext cx="312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85 % учащихся 8-11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Мешает реш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математические 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3564000" y="314172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1" descr="P113060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78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ahoma"/>
              </a:rPr>
              <a:t>Отрицательное воздействие шума на </a:t>
            </a:r>
            <a:r>
              <a:rPr b="1" lang="en-US" sz="3200" spc="-1" strike="noStrike">
                <a:solidFill>
                  <a:srgbClr val="993300"/>
                </a:solidFill>
                <a:latin typeface="Tahoma"/>
              </a:rPr>
              <a:t>здоровье</a:t>
            </a:r>
            <a:r>
              <a:rPr b="1" lang="en-US" sz="2800" spc="-1" strike="noStrike">
                <a:solidFill>
                  <a:srgbClr val="993300"/>
                </a:solidFill>
                <a:latin typeface="Tahoma"/>
              </a:rPr>
              <a:t> педагогов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26792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величение порога слышимости  сл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величение громкости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овышенную реакцию на слуховые раздражите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3280" y="4292280"/>
            <a:ext cx="4321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онижение уровня слу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Перенапряжение нервно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Утомляемость, стр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443640" y="4437000"/>
            <a:ext cx="21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900000" y="2852640"/>
            <a:ext cx="16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ound"/>
          <p:cNvSpPr/>
          <p:nvPr/>
        </p:nvSpPr>
        <p:spPr>
          <a:xfrm rot="8023800">
            <a:off x="6155640" y="148392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3" descr="P1130634"/>
          <p:cNvPicPr/>
          <p:nvPr/>
        </p:nvPicPr>
        <p:blipFill>
          <a:blip r:embed="rId2"/>
          <a:stretch/>
        </p:blipFill>
        <p:spPr>
          <a:xfrm>
            <a:off x="611280" y="4218120"/>
            <a:ext cx="3313080" cy="248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4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4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4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39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4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0:41:11Z</dcterms:created>
  <dc:creator>босс</dc:creator>
  <dc:description/>
  <dc:language>en-US</dc:language>
  <cp:lastModifiedBy>acer</cp:lastModifiedBy>
  <dcterms:modified xsi:type="dcterms:W3CDTF">2013-03-21T08:52:59Z</dcterms:modified>
  <cp:revision>201</cp:revision>
  <dc:subject/>
  <dc:title>Урок сообщения новых знаний.</dc:title>
</cp:coreProperties>
</file>