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4EDC-176C-419D-AC6F-9FFD3EFC4B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09CC-31F9-4113-9532-3D28B78B3C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813-A3E4-4060-943D-6B5D6D3E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FFD4-8958-4ADA-9747-ACA03C15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296-F68B-4612-B119-44E4A197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8B5-EE90-44C2-B354-92545226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294E-0AE6-431E-AE06-D0014CE7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10E-3949-464E-B37C-D885448A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1A4-C7E7-419B-8708-DFFC972B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232A-7BCA-474B-8771-D6F8DAF8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3ED-82FD-44E8-B804-2B64B361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792-4128-40CA-942F-BA074EBF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267-949B-4E8A-B397-DDA35953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113-37D3-4B79-BDED-121C9FAE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C3DF-42E2-4A38-92F5-2BA936F253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98120"/>
            <a:ext cx="741672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ahoma"/>
              </a:rPr>
              <a:t>Влияние шумового загрязнения </a:t>
            </a:r>
            <a:br>
              <a:rPr sz="3600"/>
            </a:br>
            <a:r>
              <a:rPr b="1" lang="en-US" sz="3600" spc="-1" strike="noStrike">
                <a:solidFill>
                  <a:srgbClr val="993300"/>
                </a:solidFill>
                <a:latin typeface="Tahoma"/>
              </a:rPr>
              <a:t>на  школьную аудитор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500720" y="3370320"/>
            <a:ext cx="4174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Авторы: Донская А. Голованёва 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Учениц 9 «А»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БОУ «Яндыковской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Руководитель: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Чичерина Н.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Учитель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физической культу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50920" y="1557360"/>
            <a:ext cx="2089080" cy="4105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ahoma"/>
              </a:rPr>
              <a:t>Последствия действия шума на учащихс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484360" y="1557360"/>
            <a:ext cx="1944720" cy="4105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643280" y="1557360"/>
            <a:ext cx="1944720" cy="4105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732720" y="1557360"/>
            <a:ext cx="1944720" cy="4105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181080" y="1557000"/>
            <a:ext cx="25560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6600"/>
                </a:solidFill>
                <a:uFillTx/>
                <a:latin typeface="Tahoma"/>
              </a:rPr>
              <a:t>Причи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Шумовой ф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Работ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аудиоаппаратур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Разговор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реч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Превыш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уровн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шума на 14 дБ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2268360" y="1557360"/>
            <a:ext cx="2170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6600"/>
                </a:solidFill>
                <a:uFillTx/>
                <a:latin typeface="Tahoma"/>
              </a:rPr>
              <a:t>Следствие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Напряжени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органа слух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Снижени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уровн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восприят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информаци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Чтение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Слушание реч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Внимание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запомина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4500720" y="1557360"/>
            <a:ext cx="214128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6600"/>
                </a:solidFill>
                <a:uFillTx/>
                <a:latin typeface="Verdana"/>
              </a:rPr>
              <a:t>Следствие</a:t>
            </a: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 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Увелич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громкости реч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Увеличени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выдел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адреналин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в кров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6659640" y="1628640"/>
            <a:ext cx="214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6600"/>
                </a:solidFill>
                <a:uFillTx/>
                <a:latin typeface="Verdana"/>
              </a:rPr>
              <a:t>Результа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Сниж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каче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учебной работ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7" descr="P1130619"/>
          <p:cNvPicPr/>
          <p:nvPr/>
        </p:nvPicPr>
        <p:blipFill>
          <a:blip r:embed="rId2"/>
          <a:stretch/>
        </p:blipFill>
        <p:spPr>
          <a:xfrm>
            <a:off x="4788000" y="4105440"/>
            <a:ext cx="3744720" cy="2752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44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72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36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84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4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48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76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200"/>
                            </p:stCondLst>
                            <p:childTnLst>
                              <p:par>
                                <p:cTn id="2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2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68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4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32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6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24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56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119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52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56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140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184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2120"/>
                            </p:stCondLst>
                            <p:childTnLst>
                              <p:par>
                                <p:cTn id="3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312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348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84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Человек  всегда жил в мире звуков. Ещё в давние времена шелест листьев, журчание ручья наполняли душу нашего предка спокойствием, в то время как рёв зверя предупреждал об опасности. В природе любые громкие звуки являются сигналами тревоги, они приводят организм в состояние повышенной возбудимости. Сегодня как никогда человек ценит тишину, которую часто называют целебной. Многие выдающиеся деятели считали тишину источника вдохновения. Великий Гёте убеждал, что «талантливое рождается в тиши…»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Спасибо за внимание!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…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Физическое и духовное здоровье граждан – основа эффективного развития государ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    …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Каждый молодой человек должен осознать, что здоровый образ жизни – это успех, его личный успех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    …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Эффективность работы с национальными проектами - в сохранении и  укреплении здоровья России.                                               В.В. Пут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37"/>
          <p:cNvSpPr/>
          <p:nvPr/>
        </p:nvSpPr>
        <p:spPr>
          <a:xfrm>
            <a:off x="4648320" y="3941640"/>
            <a:ext cx="40384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38"/>
          <p:cNvSpPr/>
          <p:nvPr/>
        </p:nvSpPr>
        <p:spPr>
          <a:xfrm>
            <a:off x="4863960" y="4437000"/>
            <a:ext cx="860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39"/>
          <p:cNvSpPr/>
          <p:nvPr/>
        </p:nvSpPr>
        <p:spPr>
          <a:xfrm>
            <a:off x="4863960" y="4157640"/>
            <a:ext cx="40388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40"/>
          <p:cNvSpPr/>
          <p:nvPr/>
        </p:nvSpPr>
        <p:spPr>
          <a:xfrm>
            <a:off x="6156360" y="1413000"/>
            <a:ext cx="16524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42"/>
          <p:cNvSpPr/>
          <p:nvPr/>
        </p:nvSpPr>
        <p:spPr>
          <a:xfrm>
            <a:off x="5079960" y="4869000"/>
            <a:ext cx="3556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44"/>
          <p:cNvSpPr/>
          <p:nvPr/>
        </p:nvSpPr>
        <p:spPr>
          <a:xfrm>
            <a:off x="5079960" y="5013360"/>
            <a:ext cx="100476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46"/>
          <p:cNvSpPr/>
          <p:nvPr/>
        </p:nvSpPr>
        <p:spPr>
          <a:xfrm>
            <a:off x="5079960" y="5013360"/>
            <a:ext cx="136368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Rectangle 48"/>
          <p:cNvSpPr/>
          <p:nvPr/>
        </p:nvSpPr>
        <p:spPr>
          <a:xfrm>
            <a:off x="5079960" y="4653000"/>
            <a:ext cx="14367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57" descr="P1010097"/>
          <p:cNvPicPr/>
          <p:nvPr/>
        </p:nvPicPr>
        <p:blipFill>
          <a:blip r:embed="rId2"/>
          <a:stretch/>
        </p:blipFill>
        <p:spPr>
          <a:xfrm>
            <a:off x="468360" y="4724280"/>
            <a:ext cx="2376360" cy="1757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59" descr="logo"/>
          <p:cNvPicPr/>
          <p:nvPr/>
        </p:nvPicPr>
        <p:blipFill>
          <a:blip r:embed="rId3"/>
          <a:stretch/>
        </p:blipFill>
        <p:spPr>
          <a:xfrm>
            <a:off x="468360" y="260280"/>
            <a:ext cx="1511280" cy="113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0" descr="header"/>
          <p:cNvPicPr/>
          <p:nvPr/>
        </p:nvPicPr>
        <p:blipFill>
          <a:blip r:embed="rId4"/>
          <a:stretch/>
        </p:blipFill>
        <p:spPr>
          <a:xfrm>
            <a:off x="2268360" y="260280"/>
            <a:ext cx="619308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Фото 2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ычапвр"/>
          <p:cNvPicPr/>
          <p:nvPr/>
        </p:nvPicPr>
        <p:blipFill>
          <a:blip r:embed="rId3"/>
          <a:stretch/>
        </p:blipFill>
        <p:spPr>
          <a:xfrm>
            <a:off x="0" y="0"/>
            <a:ext cx="15476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2556000" y="5516640"/>
            <a:ext cx="3456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2920" y="380880"/>
            <a:ext cx="619308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ahoma"/>
              </a:rPr>
              <a:t>Здоровье – это не всё, но без здоровья</a:t>
            </a: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Tahoma"/>
              </a:rPr>
              <a:t>всё – ничто!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1835280" y="1916280"/>
            <a:ext cx="5616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Шумовое загрязнение является серьёзной современной проблемо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По степени вредности воздействия шуму принадлежит второе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после химического загряз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Школьная обстановка оказывает  влияние на учащихся и педагогов, которые в стенах школы проводят значительную часть свое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времени.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79280" y="260280"/>
            <a:ext cx="87854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AutoShape 24"/>
          <p:cNvSpPr/>
          <p:nvPr/>
        </p:nvSpPr>
        <p:spPr>
          <a:xfrm>
            <a:off x="468360" y="1386000"/>
            <a:ext cx="8207280" cy="54720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Цель исследовательской работы: установить уровен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шумового загрязнения и определить его влияние 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учеников и педагог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Определить уровень шумового фона в помещени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школы и сравнить его с норм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Выработать рекомендации для профилакти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возможного воздействия шумового загрязнения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Предмет исследования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– уровень шумового фона шко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25"/>
          <p:cNvSpPr/>
          <p:nvPr/>
        </p:nvSpPr>
        <p:spPr>
          <a:xfrm>
            <a:off x="468360" y="18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Verdana"/>
              </a:rPr>
              <a:t>Влияние шумового загрязнения на  школьную аудитори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ahoma"/>
              </a:rPr>
              <a:t>Уровень шума  в учебных кабинетах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В нашей школе уровень шума в кабинетах превышает норму (40 дБ). Шумовой фон выше допустимого на 17 дБ. Из данной диаграммы видно, что первое место по шумовому загрязнению занимает спортзал, второе- кабинет музыки, третье- столовая, и наконец четвертое – кабинет  технического тру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Диаграмма 5" descr=""/>
          <p:cNvPicPr/>
          <p:nvPr/>
        </p:nvPicPr>
        <p:blipFill>
          <a:blip r:embed="rId2"/>
          <a:stretch/>
        </p:blipFill>
        <p:spPr>
          <a:xfrm>
            <a:off x="0" y="1857240"/>
            <a:ext cx="5786280" cy="36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ahoma"/>
              </a:rPr>
              <a:t>Уровень шума в коридорах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В коридорах нашей школы уровень шума превышает норму 60 дБ.. Предполагаемые причины превышения  нормы допустимого шума: разные материалы полового покрытия (деревянное, бетонное, линолеум); разный объём помещения; широкие рекреации; узкие коридо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Рисунок 5" descr="1312402695_zvukovaya-dorozhka.jpg"/>
          <p:cNvPicPr/>
          <p:nvPr/>
        </p:nvPicPr>
        <p:blipFill>
          <a:blip r:embed="rId2"/>
          <a:stretch/>
        </p:blipFill>
        <p:spPr>
          <a:xfrm>
            <a:off x="689040" y="2567160"/>
            <a:ext cx="3833640" cy="618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ahoma"/>
              </a:rPr>
              <a:t>Уровень шума в столово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76720" y="1628280"/>
            <a:ext cx="38512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В столовой нашей  школы наблюдается превышение уровня шума. Шумовой фон зависит от количества детей, их возраста, от динамики нервной сист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Рисунок 5" descr="d0b3d0bed180d18fd187d0b5d0b5-d0bfd0b8d182d0b0d0bdd0b8d0b5.jpg"/>
          <p:cNvPicPr/>
          <p:nvPr/>
        </p:nvPicPr>
        <p:blipFill>
          <a:blip r:embed="rId2"/>
          <a:stretch/>
        </p:blipFill>
        <p:spPr>
          <a:xfrm>
            <a:off x="476280" y="1994040"/>
            <a:ext cx="4492440" cy="67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ahoma"/>
              </a:rPr>
              <a:t>Самооценка  влияния шума на интеллектуальную деятельность учащихс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AutoShape 6"/>
          <p:cNvSpPr/>
          <p:nvPr/>
        </p:nvSpPr>
        <p:spPr>
          <a:xfrm rot="21459000">
            <a:off x="178920" y="1700280"/>
            <a:ext cx="82234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Freeform 8"/>
          <p:cNvSpPr/>
          <p:nvPr/>
        </p:nvSpPr>
        <p:spPr>
          <a:xfrm>
            <a:off x="4132440" y="2027160"/>
            <a:ext cx="666720" cy="1284480"/>
          </a:xfrm>
          <a:prstGeom prst="pie">
            <a:avLst/>
          </a:prstGeom>
          <a:solidFill>
            <a:srgbClr val="1a66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Freeform 9"/>
          <p:cNvSpPr/>
          <p:nvPr/>
        </p:nvSpPr>
        <p:spPr>
          <a:xfrm>
            <a:off x="4799160" y="2579760"/>
            <a:ext cx="1884240" cy="731880"/>
          </a:xfrm>
          <a:prstGeom prst="pie">
            <a:avLst/>
          </a:prstGeom>
          <a:solidFill>
            <a:srgbClr val="1a66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Freeform 10"/>
          <p:cNvSpPr/>
          <p:nvPr/>
        </p:nvSpPr>
        <p:spPr>
          <a:xfrm>
            <a:off x="4132440" y="1979640"/>
            <a:ext cx="2560320" cy="828720"/>
          </a:xfrm>
          <a:prstGeom prst="pie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Freeform 13"/>
          <p:cNvSpPr/>
          <p:nvPr/>
        </p:nvSpPr>
        <p:spPr>
          <a:xfrm>
            <a:off x="2124000" y="2960640"/>
            <a:ext cx="505080" cy="1065240"/>
          </a:xfrm>
          <a:prstGeom prst="pie">
            <a:avLst/>
          </a:prstGeom>
          <a:solidFill>
            <a:srgbClr val="8080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Freeform 14"/>
          <p:cNvSpPr/>
          <p:nvPr/>
        </p:nvSpPr>
        <p:spPr>
          <a:xfrm>
            <a:off x="2629080" y="2960640"/>
            <a:ext cx="1455480" cy="1055880"/>
          </a:xfrm>
          <a:prstGeom prst="pie">
            <a:avLst/>
          </a:prstGeom>
          <a:solidFill>
            <a:srgbClr val="8080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Freeform 15"/>
          <p:cNvSpPr/>
          <p:nvPr/>
        </p:nvSpPr>
        <p:spPr>
          <a:xfrm>
            <a:off x="2124000" y="2205000"/>
            <a:ext cx="1960560" cy="1303200"/>
          </a:xfrm>
          <a:prstGeom prst="pie">
            <a:avLst/>
          </a:prstGeom>
          <a:solidFill>
            <a:srgbClr val="ff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Freeform 16"/>
          <p:cNvSpPr/>
          <p:nvPr/>
        </p:nvSpPr>
        <p:spPr>
          <a:xfrm>
            <a:off x="3352680" y="3179880"/>
            <a:ext cx="3426120" cy="1341360"/>
          </a:xfrm>
          <a:prstGeom prst="pie">
            <a:avLst/>
          </a:prstGeom>
          <a:solidFill>
            <a:srgbClr val="3366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Freeform 17"/>
          <p:cNvSpPr/>
          <p:nvPr/>
        </p:nvSpPr>
        <p:spPr>
          <a:xfrm>
            <a:off x="3352680" y="2951280"/>
            <a:ext cx="3426120" cy="1065240"/>
          </a:xfrm>
          <a:prstGeom prst="pie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250920" y="3933720"/>
            <a:ext cx="33084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62 % учащихся 5  - 7 клас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Мешает читать, мысли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5435640" y="4502160"/>
            <a:ext cx="40212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95 % учащихся начальных  клас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Мешает сосредоточить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Выполнять домашние зад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5592240" y="1413000"/>
            <a:ext cx="3124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85 % учащихся 8-11 клас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Мешает реша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математические задач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3564000" y="314172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1" descr="P1130604"/>
          <p:cNvPicPr/>
          <p:nvPr/>
        </p:nvPicPr>
        <p:blipFill>
          <a:blip r:embed="rId2"/>
          <a:stretch/>
        </p:blipFill>
        <p:spPr>
          <a:xfrm>
            <a:off x="250920" y="4869000"/>
            <a:ext cx="2376360" cy="1782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ahoma"/>
              </a:rPr>
              <a:t>Отрицательное воздействие шума на </a:t>
            </a:r>
            <a:r>
              <a:rPr b="1" lang="en-US" sz="3200" spc="-1" strike="noStrike">
                <a:solidFill>
                  <a:srgbClr val="993300"/>
                </a:solidFill>
                <a:latin typeface="Tahoma"/>
              </a:rPr>
              <a:t>здоровье</a:t>
            </a:r>
            <a:r>
              <a:rPr b="1" lang="en-US" sz="2800" spc="-1" strike="noStrike">
                <a:solidFill>
                  <a:srgbClr val="993300"/>
                </a:solidFill>
                <a:latin typeface="Tahoma"/>
              </a:rPr>
              <a:t> педагогов</a:t>
            </a: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     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267920"/>
            <a:ext cx="4038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Увеличение порога слышимости  слу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Увеличение громкости ре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Повышенную реакцию на слуховые раздражител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3280" y="4292280"/>
            <a:ext cx="4321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Понижение уровня слу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Перенапряжение нервной сист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Утомляемость, стре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6443640" y="4437000"/>
            <a:ext cx="216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900000" y="2852640"/>
            <a:ext cx="165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26"/>
          <p:cNvSpPr/>
          <p:nvPr/>
        </p:nvSpPr>
        <p:spPr>
          <a:xfrm>
            <a:off x="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Sound"/>
          <p:cNvSpPr/>
          <p:nvPr/>
        </p:nvSpPr>
        <p:spPr>
          <a:xfrm rot="8023800">
            <a:off x="6155640" y="1483920"/>
            <a:ext cx="1809720" cy="1809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3" descr="P1130634"/>
          <p:cNvPicPr/>
          <p:nvPr/>
        </p:nvPicPr>
        <p:blipFill>
          <a:blip r:embed="rId2"/>
          <a:stretch/>
        </p:blipFill>
        <p:spPr>
          <a:xfrm>
            <a:off x="611280" y="4218120"/>
            <a:ext cx="3313080" cy="2484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4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4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4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39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4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10:41:11Z</dcterms:created>
  <dc:creator>босс</dc:creator>
  <dc:description/>
  <dc:language>en-US</dc:language>
  <cp:lastModifiedBy>acer</cp:lastModifiedBy>
  <dcterms:modified xsi:type="dcterms:W3CDTF">2013-03-21T08:52:59Z</dcterms:modified>
  <cp:revision>201</cp:revision>
  <dc:subject/>
  <dc:title>Урок сообщения новых знаний.</dc:title>
</cp:coreProperties>
</file>