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09F-97C3-4E48-964D-2E35EA33D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93E-36F2-4045-9BF2-625071C4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2D6-D8E9-4F09-8516-5CF7DAE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77B-DB61-439B-B037-59D5CA85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E53-0C1F-4C7A-8E83-1DE1CE2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B2F-5740-4A8A-AB86-3E56AB3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90B-1B91-4043-BF62-A959357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32B-C11B-4E6F-A9E8-0E4671ED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08B-3644-4D61-B184-839FD23A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3B3-923B-4860-8BBD-3A94D553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D90-A05B-4198-9D34-92BD0B9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018-CBEB-42FA-8E10-788FF54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313-3F78-41C7-8F3D-DE296A5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6F3-913C-48C3-9CD4-91235C3F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Поверь, не так и сложное предложение сложное</a:t>
            </a:r>
            <a:br>
              <a:rPr sz="4800"/>
            </a:br>
            <a:br>
              <a:rPr sz="4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Автор проекта: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Мыскина Н.Г. –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итель русского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языка и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литературы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МБУ школы № 87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астники проекта: 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учащиеся 5 «А» класса</a:t>
            </a: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024360" cy="3200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Из истории слова «предлож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ез чего не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уществ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однородных 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второстепенных 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44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44080"/>
                </a:solidFill>
                <a:latin typeface="Arial"/>
              </a:rPr>
              <a:t>без грамматической основы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24840" cy="5029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Что такое сложное предло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304920"/>
            <a:ext cx="5029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лож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67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259056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ю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209680"/>
            <a:ext cx="26672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Бессою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1080" y="1219320"/>
            <a:ext cx="236232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1219320"/>
            <a:ext cx="2286000" cy="99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3962520"/>
            <a:ext cx="236232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ложносочи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3962520"/>
            <a:ext cx="236232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ложноподчи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38080" y="3048120"/>
            <a:ext cx="91440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114300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486400"/>
            <a:ext cx="761976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84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33ff"/>
                </a:solidFill>
                <a:uFillTx/>
                <a:latin typeface="Arial"/>
              </a:rPr>
              <a:t>Средства связи</a:t>
            </a:r>
            <a:r>
              <a:rPr b="1" i="1" lang="en-US" sz="2400" spc="-1" strike="noStrike">
                <a:solidFill>
                  <a:srgbClr val="9933ff"/>
                </a:solidFill>
                <a:latin typeface="Arial"/>
              </a:rPr>
              <a:t>:   интонация,    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наки препинания в сложных предлож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5704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57040" y="289548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7162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286000"/>
            <a:ext cx="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1911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91120" y="28954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40800" y="24382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42900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429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19112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2900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3429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7040" y="419112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42900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36576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63244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600" y="35053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209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1828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43760" y="2230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55272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5272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286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971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286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77320" y="2286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077320" y="2971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19920" y="23828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63868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638680"/>
            <a:ext cx="0" cy="7621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114440" y="45720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57200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14440" y="5257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6720" y="4571640"/>
            <a:ext cx="0" cy="685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563868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6400800"/>
            <a:ext cx="3049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49568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05320" y="563868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6400800"/>
            <a:ext cx="3045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5638680"/>
            <a:ext cx="1219320" cy="762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867280"/>
            <a:ext cx="24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1160" y="3581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86728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1160" y="47242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724280"/>
            <a:ext cx="2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7960" y="5927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2767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862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28440" y="44197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75248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410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33920" y="23065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3680" y="2438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i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Союз   И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сигнал пункт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09320" y="3352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09320" y="4419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352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5252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769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08240" y="3846600"/>
            <a:ext cx="3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2920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5000" y="39466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5029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029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6248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029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952520" y="5029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52520" y="6172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181480"/>
            <a:ext cx="914400" cy="9144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5181480"/>
            <a:ext cx="914400" cy="91440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2520" y="525780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72360" y="3830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8320" y="5659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971800" cy="28195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Конструирование сложных предло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шла з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ес притих, опустел. Главные певцы улетели. В лесу захозяйничал ветер. Он носился между деревьями. Со всех сторон поднималась снежная пы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ругом в лесу лежал глубокий пушистый снег. Деревья могли прятаться от хо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105520"/>
            <a:ext cx="4876560" cy="838080"/>
          </a:xfrm>
          <a:prstGeom prst="rect">
            <a:avLst/>
          </a:prstGeom>
          <a:solidFill>
            <a:srgbClr val="ffcc0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,  чтобы,  потому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2772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00"/>
                </a:solidFill>
                <a:uFillTx/>
                <a:latin typeface="Arial"/>
              </a:rPr>
              <a:t>Проверь себя: найди ме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летели в лес метели замостил мороз м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латья снежные надели все деревья все ку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пустились легкие снежинки на лесные тайные троп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одо льдами крепкими дремлют воды рек белыми сугробами лег на крыши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395400">
            <a:off x="6629400" y="4647960"/>
            <a:ext cx="1994040" cy="2209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летели в лес метели, замост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роз м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о льдами крепкими дремлют воды рек, белыми сугробами лег на крыши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7621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91440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762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7621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9144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371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1148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648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2666880" cy="19746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248520" y="1123920"/>
            <a:ext cx="2743200" cy="2055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505320" y="1371600"/>
            <a:ext cx="2590560" cy="18064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4648320"/>
            <a:ext cx="2667240" cy="2000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5410080" y="36576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ьте    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1. Зима недаром злится прошла её пора. (Ф.И.Тютч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Белый снег пушистый в воздухе кружится и на землю тихо падает ложится. (И.Сур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3. Блеснул мороз и рады мы проказам матушки-зимы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Но вот уже трещат морозы и серебрятся средь полей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5. Сквозь волнистые туманы пробирается луна на печальные поляны льёт печально свет она. 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На дворах и домах снег лежит полотном и от солнца горит разноцветным огнём. (И.Никит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7. Прозрачный лес один чернеет и ель сквозь иней зеленеет и речка подо льдом блестит. 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Мальчишек радостный народ коньками звучно режет лёд.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9. И стоит береза в сонной тишине и горят снежинки в золотом огне. (С.А.Есен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10. Мчатся тучи вьются тучи невидимкою луна освещает снег летучий… (А.С.Пуш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Оцените  свои  зн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    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и  умения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Я увере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Мне нужно обратить вниман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Мне кажется, что 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Я положительно оцениваю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2121120" cy="2514600"/>
          </a:xfrm>
          <a:prstGeom prst="rect">
            <a:avLst/>
          </a:prstGeom>
          <a:ln w="57240">
            <a:solidFill>
              <a:srgbClr val="84408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666880" y="4114800"/>
            <a:ext cx="35816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Arial"/>
              </a:rPr>
              <a:t>Поверь, не так и сложное предложение слож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3200" y="1980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4080"/>
                </a:solidFill>
                <a:latin typeface="Arial"/>
              </a:rPr>
              <a:t>Знаем – повторяе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4080"/>
                </a:solidFill>
                <a:latin typeface="Arial"/>
              </a:rPr>
              <a:t>не знаем – узнаё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132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762120" y="-4495680"/>
            <a:ext cx="11287080" cy="11353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5338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Домашнее 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076960" cy="53643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943600" y="5715000"/>
            <a:ext cx="37339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исать сочинени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иатюру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Природа зим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Вид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 количеству участников – групп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 месту в учебном плане – текущий (включен в тематический план по русскому язы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ложность усвоения теоретического материала по теме «Сложное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едостаточное развитие  практических умений и навыков, связанных с употреблением сложного предложения в творческих рабо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ЦЕЛЬ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88620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беспечить усвоение теоретического материала по теме «Сложное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азвить пунктуационные навыки, связанные с употреблением сложных предложений в письменной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Задачи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Формировать умение отбор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вать познавательный интерес к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спитывать упорство и творческие 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бучить элементарным методам и приемам научного исследования материала (сбор информации, анализ, выдвижение гипотез, формулировка выво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ть навыки работы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учить оформлению результатов исследования в виде презентации и в виде 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азвить навыки общения, необходимые для презентации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Форма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4876560" cy="144756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метная 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6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Планируемый результ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метная газ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формить статьи о сложном предложении, о знаках препинания в сложном предложении с союзами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а, но, и, что, когда, потому что, как, чтобы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оиллюстрировать материал примерами, тематическими рисунками, сх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3276720"/>
          </a:xfrm>
          <a:prstGeom prst="rect">
            <a:avLst/>
          </a:prstGeom>
          <a:noFill/>
          <a:ln w="38160">
            <a:solidFill>
              <a:srgbClr val="844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уроке нам необходимо систематизировать учебный материал по теме «Сложное предложение» и представить свои наработки в виде презентации и предметной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048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7T17:05:3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