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E5EE-3940-4DC9-AE5C-6B868D840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369-7752-4F4C-945D-D43306DD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C4B-D361-4C17-A658-5DFFD856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C7A-FE64-480B-8799-0CFBBF21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F25-BB80-478F-B170-BEEB468C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42B-BE41-4887-8A0A-776AE1B0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B36-6F3C-4433-A5E7-E258640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EDB-9A6C-4815-9249-A9327942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24C-6174-4EC2-9C0C-AA8F2DDA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415-36D7-4312-A684-C005E31C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CDB-5FE0-4784-8C0E-E31C4E84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681-035B-4CE0-9B0B-DB0B797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60C-A085-4C55-ABA4-0FBC27C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6799-DE09-4072-BBEE-396D46B4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Arial"/>
              </a:rPr>
              <a:t>Поверь, не так и сложное предложение сложное</a:t>
            </a:r>
            <a:br>
              <a:rPr sz="4800"/>
            </a:br>
            <a:br>
              <a:rPr sz="4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Автор проекта: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Мыскина Н.Г. –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учитель русского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языка и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литературы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МБУ школы № 87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Участники проекта: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учащиеся 5 «А» класса</a:t>
            </a:r>
            <a:r>
              <a:rPr b="1" i="1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3024360" cy="3200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Из истории слова «предлож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Что так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Без чего не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существ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44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44080"/>
                </a:solidFill>
                <a:latin typeface="Arial"/>
              </a:rPr>
              <a:t>без однородных чл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44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44080"/>
                </a:solidFill>
                <a:latin typeface="Arial"/>
              </a:rPr>
              <a:t>без второстепенных чл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44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44080"/>
                </a:solidFill>
                <a:latin typeface="Arial"/>
              </a:rPr>
              <a:t>без грамматической основы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24840" cy="5029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Что такое сложное предлож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304920"/>
            <a:ext cx="50292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ложное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67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259056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ю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2209680"/>
            <a:ext cx="266724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Бессою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1080" y="1219320"/>
            <a:ext cx="2362320" cy="9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1219320"/>
            <a:ext cx="2286000" cy="99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3962520"/>
            <a:ext cx="236232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ложносочи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3962520"/>
            <a:ext cx="236232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ложноподчи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38080" y="3048120"/>
            <a:ext cx="914400" cy="9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1143000" cy="9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486400"/>
            <a:ext cx="761976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84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33ff"/>
                </a:solidFill>
                <a:uFillTx/>
                <a:latin typeface="Arial"/>
              </a:rPr>
              <a:t>Средства связи</a:t>
            </a:r>
            <a:r>
              <a:rPr b="1" i="1" lang="en-US" sz="2400" spc="-1" strike="noStrike">
                <a:solidFill>
                  <a:srgbClr val="9933ff"/>
                </a:solidFill>
                <a:latin typeface="Arial"/>
              </a:rPr>
              <a:t>:   интонация,    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наки препинания в сложных предлож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286000"/>
            <a:ext cx="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286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89548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2286000"/>
            <a:ext cx="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57040" y="2286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57040" y="289548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7162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286000"/>
            <a:ext cx="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286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89548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286000"/>
            <a:ext cx="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191120" y="2286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91120" y="289548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40800" y="24382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429000"/>
            <a:ext cx="0" cy="7621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429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19112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429000"/>
            <a:ext cx="0" cy="7621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3429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7040" y="419112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3429000"/>
            <a:ext cx="1219320" cy="762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36576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632448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600" y="35053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209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1828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43760" y="22305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286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286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2971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2286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552720" y="2286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552720" y="2971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286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286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971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2286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077320" y="2286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077320" y="29718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19920" y="23828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638680"/>
            <a:ext cx="0" cy="7621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638680"/>
            <a:ext cx="0" cy="7621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114440" y="4572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572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14440" y="5257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76720" y="457164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72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2578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563868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6400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495680"/>
            <a:ext cx="1219320" cy="762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05320" y="563868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64008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5638680"/>
            <a:ext cx="1219320" cy="762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867280"/>
            <a:ext cx="2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1160" y="3581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86728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1160" y="47242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724280"/>
            <a:ext cx="2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77960" y="59277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2880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27672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886200" y="4419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28440" y="44197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4419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752480" y="5410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410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5410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33920" y="23065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3680" y="2438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                 </a:t>
            </a:r>
            <a:r>
              <a:rPr b="1" i="1" lang="en-US" sz="4400" spc="-1" strike="noStrike" u="sng">
                <a:solidFill>
                  <a:srgbClr val="990000"/>
                </a:solidFill>
                <a:uFillTx/>
                <a:latin typeface="Arial"/>
              </a:rPr>
              <a:t>Союз   И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   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сигнал пункт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09320" y="3352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09320" y="4419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352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95252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769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4038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08240" y="3846600"/>
            <a:ext cx="3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2920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5000" y="39466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5029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5029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6248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029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952520" y="5029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952520" y="6172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5181480"/>
            <a:ext cx="914400" cy="9144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5181480"/>
            <a:ext cx="914400" cy="9144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2520" y="525780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72360" y="38307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48320" y="56595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971800" cy="28195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Конструирование сложных предло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ишла з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Лес притих, опустел. Главные певцы улетели. В лесу захозяйничал ветер. Он носился между деревьями. Со всех сторон поднималась снежная пы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Кругом в лесу лежал глубокий пушистый снег. Деревья могли прятаться от хо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105520"/>
            <a:ext cx="4876560" cy="838080"/>
          </a:xfrm>
          <a:prstGeom prst="rect">
            <a:avLst/>
          </a:prstGeom>
          <a:solidFill>
            <a:srgbClr val="ffcc0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,  чтобы,  потому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2772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00"/>
                </a:solidFill>
                <a:uFillTx/>
                <a:latin typeface="Arial"/>
              </a:rPr>
              <a:t>Проверь себя: найди мен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илетели в лес метели замостил мороз м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Платья снежные надели все деревья все ку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пустились легкие снежинки на лесные тайные троп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Подо льдами крепкими дремлют воды рек белыми сугробами лег на крыши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rot="395400">
            <a:off x="6629400" y="4647960"/>
            <a:ext cx="1994040" cy="22096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летели в лес метели, замост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ороз мос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о льдами крепкими дремлют воды рек, белыми сугробами лег на крыши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7621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91440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762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7621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914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371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7339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191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41148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648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2666880" cy="19746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248520" y="1123920"/>
            <a:ext cx="2743200" cy="2055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505320" y="1371600"/>
            <a:ext cx="2590560" cy="18064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352680" y="4648320"/>
            <a:ext cx="2667240" cy="2000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5410080" y="36576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роверьте    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1. Зима недаром злится прошла её пора. (Ф.И.Тютч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Белый снег пушистый в воздухе кружится и на землю тихо падает ложится. (И.Сури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3. Блеснул мороз и рады мы проказам матушки-зимы.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Но вот уже трещат морозы и серебрятся средь полей.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5. Сквозь волнистые туманы пробирается луна на печальные поляны льёт печально свет она. 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На дворах и домах снег лежит полотном и от солнца горит разноцветным огнём. (И.Никит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7. Прозрачный лес один чернеет и ель сквозь иней зеленеет и речка подо льдом блестит. 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Мальчишек радостный народ коньками звучно режет лёд.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9. И стоит береза в сонной тишине и горят снежинки в золотом огне. (С.А.Есен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10. Мчатся тучи вьются тучи невидимкою луна освещает снег летучий…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Оцените  свои  зн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    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и  умения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Я уверен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Мне нужно обратить вниман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- Мне кажется, что 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Я положительно оцениваю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2121120" cy="2514600"/>
          </a:xfrm>
          <a:prstGeom prst="rect">
            <a:avLst/>
          </a:prstGeom>
          <a:ln w="57240">
            <a:solidFill>
              <a:srgbClr val="84408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666880" y="4114800"/>
            <a:ext cx="35816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Arial"/>
              </a:rPr>
              <a:t>Поверь, не так и сложное предложение слож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3200" y="19807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4080"/>
                </a:solidFill>
                <a:latin typeface="Arial"/>
              </a:rPr>
              <a:t>Знаем – повторяе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4080"/>
                </a:solidFill>
                <a:latin typeface="Arial"/>
              </a:rPr>
              <a:t>не знаем – узнаё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132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762120" y="-4495680"/>
            <a:ext cx="11287080" cy="11353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5338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Домашнее 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076960" cy="53643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5943600" y="5715000"/>
            <a:ext cx="37339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исать сочинени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ниатюру 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Природа зим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Вид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 количеству участников – групп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 месту в учебном плане – текущий (включен в тематический план по русскому язы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Пробл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ложность усвоения теоретического материала по теме «Сложное предлож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едостаточное развитие  практических умений и навыков, связанных с употреблением сложного предложения в творческих рабо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ЦЕЛЬ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88620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беспечить усвоение теоретического материала по теме «Сложное предлож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Развить пунктуационные навыки, связанные с употреблением сложных предложений в письменной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Задачи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Формировать умение отбор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вивать познавательный интерес к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оспитывать упорство и творческие 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бучить элементарным методам и приемам научного исследования материала (сбор информации, анализ, выдвижение гипотез, формулировка выво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вить навыки работы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учить оформлению результатов исследования в виде презентации и в виде 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вить навыки общения, необходимые для презентации результатов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Форма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4876560" cy="144756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дметная газ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6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Планируемый результ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дметная газ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формить статьи о сложном предложении, о знаках препинания в сложном предложении с союзами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а, но, и, что, когда, потому что, как, чтобы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оиллюстрировать материал примерами, тематическими рисунками, сх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Организационный мо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327672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 уроке нам необходимо систематизировать учебный материал по теме «Сложное предложение» и представить свои наработки в виде презентации и предметной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048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7T17:05:3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