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8D1-1EA1-4E37-9B97-E9585752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9AE-61E2-4A1C-A3C3-9A5A2A07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9A9-B7B7-419B-985E-B1585274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4F6-9D9E-4A62-987A-4C94AC09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F73-410E-49B5-A528-24A3A149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75A-866F-4E73-B974-C5BB48E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16A-9732-4723-BEEC-0CDDED40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58B-9CC2-4895-87C6-450C7F4C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FDA-6EFC-44E5-A3F8-E331C54F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B32-A622-4ACD-A948-C8260DE7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851-DBE9-4417-B7AD-7171B7D0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378-AC77-422A-AA6D-C4DF1CE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8139-06D0-4C2B-A225-D47916335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11 &#1096;&#1072;&#1088; &#1074; &#1082;&#1086;&#1083;&#1100;&#1094;&#1077;.VOB" TargetMode="External"/><Relationship Id="rId2" Type="http://schemas.openxmlformats.org/officeDocument/2006/relationships/hyperlink" Target="9 &#1090;&#1077;&#1087;&#1083;&#1086;&#1074;&#1086;&#1077; &#1088;&#1072;&#1089;&#1096;&#1080;&#1088; &#1074;&#1086;&#1079;&#1076;&#1091;&#1093;&#1072;.VOB" TargetMode="External"/><Relationship Id="rId3" Type="http://schemas.openxmlformats.org/officeDocument/2006/relationships/hyperlink" Target="10 &#1090;&#1077;&#1087;&#1083; &#1088;&#1072;&#1089;&#1096; &#1078;&#1080;&#1076;&#1082;.VOB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8 &#1089;&#1078;&#1080;&#1084;&#1072;&#1077;&#1084;&#1086;&#1089;&#1090;&#1100; &#1075;&#1072;&#1079;&#1086;&#1074; &#1080; &#1078;&#1080;&#1076;&#1082;&#1086;&#1089;&#1090;&#1077;&#1081;.VOB" TargetMode="External"/><Relationship Id="rId2" Type="http://schemas.openxmlformats.org/officeDocument/2006/relationships/hyperlink" Target="12 &#1080;&#1079;&#1084;&#1077;&#1085; &#1092;&#1086;&#1088;&#1084;&#1099; &#1080; &#1089;&#1086;&#1093;&#1088; &#1086;&#1073;&#1098;&#1105;&#1084;&#1072; &#1078;&#1080;&#1076;&#1082;.VOB" TargetMode="External"/><Relationship Id="rId3" Type="http://schemas.openxmlformats.org/officeDocument/2006/relationships/hyperlink" Target="http://www.google.ru/images?q=&#1092;&#1086;&#1090;&#1086;&#1075;&#1088;&#1072;&#1092;&#1080;&#1080;+&#1078;&#1080;%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dragkamen.ru/quality_emerald.html" TargetMode="External"/><Relationship Id="rId3" Type="http://schemas.openxmlformats.org/officeDocument/2006/relationships/hyperlink" Target="http://www.dragkamen.ru/quality_emerald.html" TargetMode="External"/><Relationship Id="rId4" Type="http://schemas.openxmlformats.org/officeDocument/2006/relationships/hyperlink" Target="http://www.dragkamen.ru/quality_emerald.html" TargetMode="External"/><Relationship Id="rId5" Type="http://schemas.openxmlformats.org/officeDocument/2006/relationships/hyperlink" Target="http://www.dragkamen.ru/quality_emerald.html" TargetMode="External"/><Relationship Id="rId6" Type="http://schemas.openxmlformats.org/officeDocument/2006/relationships/hyperlink" Target="http://www.dragkamen.ru/quality_emerald.html" TargetMode="External"/><Relationship Id="rId7" Type="http://schemas.openxmlformats.org/officeDocument/2006/relationships/hyperlink" Target="http://www.rings.ru/.../" TargetMode="External"/><Relationship Id="rId8" Type="http://schemas.openxmlformats.org/officeDocument/2006/relationships/hyperlink" Target="http://www.rings.ru/.../" TargetMode="Externa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 состояния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25880" y="333360"/>
            <a:ext cx="155124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303640" cy="228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41590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ла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 нагревании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асширя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1844640"/>
            <a:ext cx="129528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916280"/>
            <a:ext cx="172872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205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2997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2637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2781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306864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292428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220500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234936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500280"/>
            <a:ext cx="14436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781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328464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2349360"/>
            <a:ext cx="14436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227664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4200" y="4149720"/>
            <a:ext cx="682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агревании увеличиваются промеж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молекул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ри охлаждении промежутки уменьш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720" y="566100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екулы не изменяют раз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орфные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, у которых кристаллическая решётка имеет большие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270360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851280" y="3068640"/>
            <a:ext cx="4307040" cy="2828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395640" y="602136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ическая 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56200" y="604044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ическая 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орфн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меры веществ, находящихся в аморфном состоя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ф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д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нт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47530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им, что мы узнали на уро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7, № 6.10, 6.15, 6.20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вёрдое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дкое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азообразное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водяной п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регатное состояние зависит от характера движения и взаимодействия частиц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43125" t="41342" r="37971" b="26173"/>
          <a:stretch/>
        </p:blipFill>
        <p:spPr>
          <a:xfrm>
            <a:off x="755640" y="4076640"/>
            <a:ext cx="188604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41357" t="49921" r="40938" b="29414"/>
          <a:stretch/>
        </p:blipFill>
        <p:spPr>
          <a:xfrm>
            <a:off x="3348000" y="4508640"/>
            <a:ext cx="2158920" cy="201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32720" y="4653000"/>
            <a:ext cx="2158920" cy="1882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вещества могут находиться в трёх агрегатных состояниях: твёрдом, жидком , газообраз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ойства вещества в газообразном состоя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о изменяют объём и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имают весь предоставленный объ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421000"/>
            <a:ext cx="647640" cy="576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276640"/>
            <a:ext cx="2303280" cy="1296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2637000"/>
            <a:ext cx="144720" cy="7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781360"/>
            <a:ext cx="14472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63700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278136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70828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263700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3213000"/>
            <a:ext cx="14436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2997360"/>
            <a:ext cx="14436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53276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жид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5761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кучи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е имеют формы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принимают форму сосу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цы расположены беспорядо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яют объем, частицы находятся близко друг        к друг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69280" y="6521400"/>
            <a:ext cx="52297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www.google.ru/images?q=%D1%84%D0%BE%D1%82%D0%BE%D0%B3%D1%80%D0%B0%D1%84%D0%B8%D0%B8+%D0%B6%D0%B8%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ahoma"/>
              </a:rPr>
              <a:t>D0%B4%D0%BA%D0%BE%D1%81%D1%82%D0%B5%D0%B9&amp;hl=ru&amp;newwindow=1&amp;rlz=1W1ADFA_ruRU449&amp;tbm=isch&amp;ei=JFuATsiIMdGp-gbx4fWRDQ&amp;start=399&amp;sa=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ahoma"/>
              </a:rPr>
              <a:t>http://waterpics.ru/silnye-volny-nomer-33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16360" y="4005360"/>
            <a:ext cx="1849320" cy="259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867280" y="333360"/>
            <a:ext cx="3095640" cy="311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932360" y="35560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4437000"/>
            <a:ext cx="2449440" cy="21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5013360"/>
            <a:ext cx="2449440" cy="156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157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229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44500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5589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573408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09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609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6308640"/>
            <a:ext cx="14436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508464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51664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157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373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80536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5084640"/>
            <a:ext cx="14436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566100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5373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6021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5877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551664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573408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558972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5229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609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515772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5373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5157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580536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5661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609300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6381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602136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638172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638172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ойства вещества в твёрдом состоя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яют объём и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720" y="2852640"/>
            <a:ext cx="4537080" cy="36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34844" t="39130" r="34156" b="23227"/>
          <a:stretch/>
        </p:blipFill>
        <p:spPr>
          <a:xfrm>
            <a:off x="324000" y="2852640"/>
            <a:ext cx="3779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 кристалла обусловлена его внутренним стро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6769080" cy="413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7440" y="508464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 поваренной со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5800" y="49417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 углерод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589720"/>
            <a:ext cx="7991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омы или молекулы образуют в пространстве прави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сталлическую решё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торые твёрдые тела встречаются в природе в виде крис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ал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ни которого       представляют собой правильн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гра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2928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41080" y="5661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 ква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7223040" cy="4959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56000" y="55162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.В. Кононов у кристалла кварца с г. Неройки (Прип. Урал, Россия), который воспроизведен в "Занимательной минералогии" А.Е. Ферсмана. Фото: © А.А. Евсе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7200720" cy="5802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6208920"/>
            <a:ext cx="3095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www.dragkamen.ru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quality_emerald.html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www.rings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/...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0" y="765000"/>
            <a:ext cx="9144000" cy="465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22520" y="616572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мр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2:13:26Z</dcterms:created>
  <dc:creator>Алла Алексеевна</dc:creator>
  <dc:description/>
  <dc:language>en-US</dc:language>
  <cp:lastModifiedBy>Алла Алексеевна</cp:lastModifiedBy>
  <dcterms:modified xsi:type="dcterms:W3CDTF">2012-10-18T11:53:29Z</dcterms:modified>
  <cp:revision>7</cp:revision>
  <dc:subject/>
  <dc:title>Три состояния вещества</dc:title>
</cp:coreProperties>
</file>