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ABA-513E-4DF3-9657-48ED9437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DF7-1B77-4994-BE13-F597631C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12C59-2954-43A7-81CD-28CB5D12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1B79B-4D48-44B4-98A1-5F06EB03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478C2-506A-46BF-9855-5BC9EB60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ED703-0220-4C20-814C-C19D1367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6D486-070F-4815-B60B-15638D8F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F755C-A739-41C5-9D9F-BB23B128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9B068-E36F-410D-938F-4EEE163D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81F95-1796-4B31-B6C4-DF77C9B6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50CD0-599D-483C-84CD-94B749D0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616DA-9DEE-4C42-B2C1-7CF38017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213-699E-4D6A-950F-2FD65B77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2CF7F-C612-4BE4-8B60-787552EE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F0EF1-8C30-4039-A377-34AA06BF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14751-73C5-44AB-A7EC-34A3F0E1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9E035-6C09-4417-9B2A-2F4DFE9B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51AF8-89EA-4B30-8C7E-6A5BD04A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3707A-1D73-4249-AAE3-886D1D70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F3479-05A3-4AAC-8321-C9C51037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EE9BC-F570-494B-A289-FBEA8554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0AD5C-1D05-49DA-93C7-7931FB2A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40A59-7EE0-4516-80B4-204E40C6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47E-15BE-427B-906C-D60DAC69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3371E-8F86-4E32-8358-504C53FE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34C0A-CC45-4BDA-829A-01E974D2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D3CA0-87FD-4069-B1E9-9F6FA1A9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4D507-951D-44EC-BF46-D8264E60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3EA98-0C47-4DE9-A821-43160EEC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950CD-0E3F-42C4-B26A-13A3B2BA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67B5E-F959-434A-8486-E3310923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E233B-2251-41E7-A1C1-2BCEABE1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A2D9A-9D90-46D0-B87F-050741F9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193EB-A316-4CF0-9CF6-F4F94E7B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8202-C297-4AFF-AC1D-57ADAE32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A8373-EB8F-4A50-8917-111F305C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2691B-83EF-442F-A911-A5B03BE8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94F8C-4771-42FC-836B-FB297E04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2BC7F-0D2C-405F-AC92-FD59876A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05AC1-16A3-4DD6-BA47-9D5B7A60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C8CE2-9148-4FF8-B04C-7207C98A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3310A-3B75-4F9D-B51B-718AB24A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5E761-6E23-4509-9ED0-B66E8A3D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DA723-E8E0-4088-852C-36C59781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B42AC-4393-4040-A6BE-72A09D90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5374-5ED8-4961-A4C2-68049E50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D39A9-AE12-4D70-BCA0-BE68BF17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E032B-1EB9-45CD-AFF9-B6248215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5AC86-C5D9-4772-9B0E-3A3B10B6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E7857-027F-40EF-B4DE-0B944112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F6FDA-D893-4F76-9F99-BC3B62BB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B7C523-FED0-4BB4-B41F-B80C282D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3C3474-06C2-475C-AFD5-5EEC9FA6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CF9C18-10B2-4053-BAC8-1AE69EBE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69EAA7-8346-43DA-8CA7-5B2ECE6A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2FDBE5-BD39-4D1F-9334-E4068D75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3F2D-F55F-491F-85A0-C6566BCF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C6E3E0-D238-4893-B352-A9EBC466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6799A3-E906-4F7B-9553-5D1F2681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8E3DD8-379F-4E37-BD50-6C91D301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1B7B1A-FAA6-4765-9FFE-8138A7E9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254833-8D8C-479F-95A6-306B6A62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65F678-6BAF-4F54-91AB-F3AA98CB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965960-6492-4880-91B2-C7B8C36F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D9B71-629D-47B5-86EB-68E9AFAA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0E7F0-9218-4590-BD73-62082019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D94D4-2662-48B1-AC7E-F32B9F2C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0FCB-6F86-4566-9313-AE6EB5BA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272EF-E966-4F08-A595-E5307EF4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919C49-54EF-4A76-86C2-5F6A2845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CA336-3F49-428D-89A0-5666E65C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A51F0-7A61-4CDE-90A7-ED6E9439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BF3FA-0BC1-4360-B0B9-3B5E4A25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59978-5752-453A-820E-9CC14EB0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37824-CBCF-45A4-AADE-B1E9D0BC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6F4C8-565E-48F3-96FF-8CF4F32A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3A204-D824-451F-931B-7D6DB960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1BF5524-D7F0-4602-AA20-08460755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1FFA-52D0-4606-B0B0-985781D2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5D9A54-2927-48AB-8338-0293D2FB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8FA413B-C5FB-4B51-8A6A-6477031B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726D7C-DD41-4B00-97D8-176DC8E9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B6642AE-6331-4953-95E0-4C941D27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455A148-1142-463A-8A61-08E9AEF2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F6EE70B-94B1-41AB-AEE7-C4428A5B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9EFF2D1-A6D0-4406-BC01-4E3EA5CB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CDE94AC-049E-4657-899F-22BB8248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6775A3C-2E19-4412-9E4C-43D0E55D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0B36C5-BD03-4398-930A-D0031DC3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F9EC-4EC2-40C2-9813-6907B6FF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0D128F-5030-403A-82B7-C750FE6D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051C31-00AF-43BE-AAB2-E2B86E64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7D0742-C82D-408E-A90F-B1259406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361E4C-CCDC-456F-9EC7-8FB0FB40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874FAE-4FA6-46B3-BC8E-8B2FFBEC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B3D7BC-6567-43C6-8363-A9FE1D7B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F29D06-6A4B-4B2C-826F-0AE0EF50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E5D28-F24A-46EF-BA34-1EF66344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C94BD1-8A2B-4D51-8A5C-75F8B8CA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D2BC99-4321-4896-8EFA-5A6A03A3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C1A5-8FB3-4D6D-9656-9CEB7256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4640F-4672-4376-8035-4AF1FDAE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30B77B-2654-40E8-A835-D21A1DFC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478849-EF8A-4B0D-B668-C3AD09A9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7D6016-1E3B-4357-9C54-F25A7508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E4FA81-D0C0-40A6-AAFC-A72CD44E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A9FFFB-B7EB-4B94-8483-C78F7CA8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FE821C-CB89-42FE-82E2-9A4C1442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F5C115-ECC3-4F86-B679-4F730145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B16C1C-5DE1-405E-AE4B-8050A4AC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137E47-D18E-4917-9B9E-E6857D17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515-CBAB-40C7-B8DA-E7770A18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320B-7A86-48A3-B768-8E10C3EB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5EF7E8-E6C6-4AD8-93F1-83E543EB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D0A631-AB35-4F9E-ACCB-F008194E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E27014-3399-4794-9426-E5129A68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903536-1473-473A-9621-6ACFF7E4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693248-B230-49A4-86E6-105EC188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A843E4-4A47-4BCC-9342-CAACA053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D38D3B-BDAE-4349-88AB-89D476BC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DBA471-978C-4D85-83A9-B0A9D373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1FC35B-F1E6-43F5-9992-44B5BAE5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117DD0-7037-4300-93CB-BAA61F91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57C2-2C5E-4DF3-BE28-6E95BAEE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80A71-BC08-40B8-B293-0A4EEEE8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CA7832-8125-4816-B0F7-286DD2CA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AD385F-6AB4-49F8-BC5A-6885B26B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7A0D9F-94C9-4E62-8C94-951B3BF6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A3AD7-9184-4C28-BBBD-EE744762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116D71-4FAC-4A47-B1A4-A6CD2915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12ACD-9413-444E-AF0A-B0DAE977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72F207-D49D-4440-AE26-4636B4E1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51C8F4-64B2-425F-833E-0C7E7D91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1C87C-3E7A-429D-BBCF-733BCD22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C750-E9FA-4BEB-8F7A-310510A5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54853D-7C18-4C5B-A3AF-6AAB433D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C4C622-25D6-4305-A896-1337F6DD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4FF684-59CE-4D8A-92B3-4EAF6238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491DFB-1E22-44D3-973E-404B5CB7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73D60E-F671-43C6-AB19-B87CF3E2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EABCB0-2EA3-46E6-8BD3-27E738D1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3FE75A-D67E-4687-96D1-04E25215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F67387-81E3-4D69-A96D-ADC242B4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D65595-C649-4D51-B654-46830FD6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6CC01A-5D1A-4274-8F1A-A9C9C867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E2FF-83E4-4E04-8A7D-80EC3F5A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EFC259F-76DA-4847-917A-C7CCE285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E3142F7-9E6F-40E4-B30B-C11EFAA8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E21F8A7-D843-4ECB-96E9-4ECE8125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7C01825-7F27-4751-BC7A-9745845E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4BAFDD5-9993-4FAE-B7F0-996A9EEA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62730F0-E330-4B8B-8E82-0E4CBC22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3D1F5D1-5064-4A62-8C6E-0484FCB9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8B7CEDF-E538-4D0B-9959-9293E236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8293FA2-3036-48B9-9166-B20DFA49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2F13CCB-EDAF-4227-A7F5-E35E327A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F67D-1423-4EAB-A207-7C61F48D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A72211-8191-4E73-A473-D3DC47D0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F6448F-E051-43D6-85AC-0DF732C4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2C7A91-0B5F-4560-9701-403530A7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E5B0A6-F0DC-4EC7-A9B7-26E6EFF7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F5FC1A-02C0-4C48-9C47-FF1057F2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355070-2F0F-43DE-AE8F-994CA476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209F39-0F8B-44F6-AF13-90D97C82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33AF9C-694D-4507-BCD0-5ED0E7E7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E7F7B5-CE22-41E6-A486-114C0C8D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77F824-BF5D-40C3-850D-9F49EBBF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68B986-2D72-41F9-A402-9EA0A365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C18CE4-85E8-4299-8989-8FB25335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F3590F-08B1-486F-979D-5F922DF3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52A252-CC7D-4094-8B85-3FEADDF2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13201DE-4AAB-4575-8611-C869A81D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E5F6D22-C0FF-4D47-8C62-035CF032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43EF325-0559-4901-896F-0A5855D1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37AD591-2E1A-41FF-A12D-8EA14B38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65E8BE9-A8C8-4184-8721-DD4BD047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205BAAA-5B2C-4002-B42E-0BE7DC83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04A3CEB-0FBB-4324-9EFA-3BDDE0B2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6AC815-9AE1-4B44-8357-CD883AD2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A32A86B-F4BA-40AC-9D9A-1268968E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D7505CE-21AA-40BB-9412-C67C4F0D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8167B8B-AB20-40CF-B154-15EF184D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4622F63-68F1-410A-9C28-4B83E862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237D43B-5591-42EC-A1C7-9AA3A38B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BFA3E7-F54B-49BD-9245-235C11B5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D6C7D8-7C51-48E2-A5AE-EF435970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78E067-9DE2-427E-AD31-1FCB5F43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180-C4FE-407B-A91C-24BA8651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957A7E-DFB9-4FB1-9AD9-153C4C70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2C8DDD-3FAD-425F-BD6A-8D987617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3587D0-BECA-4CA3-B948-52800EAC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F3A11B-F1CE-4F25-A3C0-FE79AE6B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27AE84-46E1-4A52-B39B-3EA1C0B7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E51EA3-8124-405C-9DB4-9E2CFA70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07C203-D8F0-4BE5-9B3A-DC02FB87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5E4AB-98F6-4050-A87B-3177FDA0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70610-BE11-4F61-B311-A1CDB458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19247-9CF4-47F9-AC44-52E36F3C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440-FA62-4B4F-A2FB-009B4550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CEFF2-6D7F-4D9B-A8AA-2B60F0E7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4EF5F-5EFC-4703-AB6E-B551A1D6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720F0-8EA7-4581-9305-B306F087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2CB80-E813-48EE-A013-A97370C5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F9980-5D7F-4645-9752-4E8EC0EB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2CCD5-B5AA-44AD-866A-2D1A7453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C3BA5-8E18-49F3-ACC0-9E8E99B2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C36BD-EF54-4230-B784-D27DD435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CE62-0CF2-43B6-B970-114840F7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B4203-692C-4A59-B91C-AB3CDF73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A14-705B-412A-A6F5-4FD3F9AC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63B8D-ECC4-444D-AEF2-8011DE4F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2CD27-7678-4FDF-8924-FDFB4C04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91BD2-88D6-4ADB-BF99-2FACE35A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8A5AB-C198-4241-89DD-2A19ACB1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AC90A-23AE-44BB-A7FC-35F402C7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C6E4E-9FB6-447F-A312-B362A2EF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0B6EE-7138-4A9E-9C90-D2FC9BB1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C01E2-B410-4E40-B8A3-2731285C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B9FA4-D69D-4A9F-8FDC-738067BB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CC9AF-30C9-4482-A21F-758A155F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789-6CCA-419D-8D2A-36E4546B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EC376-BBB9-4974-9D2F-54381708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268AB-E2C8-4629-9F55-873A2A3C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77BE1-CF48-4CE1-9FD2-D3B615EB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F624E-405F-447F-AEC3-CD8D6DD1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3D695-F42D-45B3-B89A-0B982811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C9A1A-54C9-48D0-BBAA-697C4F5C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90734-DD4A-4FF6-86D2-841607C3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7C933-B64A-4784-A512-BFB74F95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8FE49-F59D-4787-9149-AD719F38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AA305-611C-4465-B9D2-A9819BBA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2E2-42AB-4C4E-9988-17B1B331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3E32A-333A-4909-A288-99E4255A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8E008-5FA1-46D7-9923-A52151F6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ADF52-41F1-4662-B286-43CA8414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90383-486C-4798-8F6E-941FBE40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DB9DB-2340-4323-ACF7-8D761067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EB86F-D8D4-4F8B-941C-CA3A9DC3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3E7D7-C3B5-4B4C-ABC9-B02E15EE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71E1B-D1CC-426B-85EF-E486A01E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29145-3B4D-4FB5-8CAA-9F939EE4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BC04F-D9D3-482D-99C3-C6BECCB9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E37-E6C2-4BA4-84EC-51120A2B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E2A2B-A103-433E-9E8C-7F5860F1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60971-F370-43EA-8BB9-8E149DA3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7342D-B8E8-4BAB-930A-A241E480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0F3E1-1C8C-43FB-97E1-52B077C0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DB133-689C-430F-8265-E4816899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B6085-FD39-484B-80B4-4CDD22FB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A1E62-C3E1-4948-ACA4-4CA3A414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FF548-9448-4B1E-B397-99D339AA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DF112-FF58-43B4-8902-E793C686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AEE52-38A1-4AA6-A570-A4139185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132-93B3-4EF7-957D-12071DFB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91AC6-1010-4EE7-AF6D-BC15612D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D68C7-0E92-4917-B203-B9AAC041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F14A9-DD91-41E4-A2A6-CC542D1E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833D4-450D-41AB-9AD9-72B0A761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3D335-797D-4EBA-BF31-C8D15DB5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CE086-FEC7-4536-8AEE-AE298303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69E33-F58B-4BB0-B679-2251D13B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68063-FAC6-4CC3-87A9-DA63FDF7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3B9F8-240C-4775-B41D-1EED1E69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8B832-7FF0-4F87-B73E-DE6B9E29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6FBB-2FF4-452A-B962-D384421C4FD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F914-DE54-4BE1-A8CB-DDE153B622E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EBB1-11DB-4693-B1D3-7247F903E20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Num" idx="3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01B2-1D68-489B-9A81-E0F7B111321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6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Num" idx="3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14B6-D622-42D1-960E-BCFFECCE4B7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dt" idx="38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ftr" idx="39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4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28A4-8F31-4074-A2A4-A026B52DF42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sldNum" idx="43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6351-6237-4725-82C2-4BB05806BA2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dt" idx="4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ftr" idx="4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A792-1ACF-4523-A151-C2CBD78EE07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846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Text Box 4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Прямоугольник 14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Прямоугольник 15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Прямоугольник 16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4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5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A295-EA3D-430C-A549-FF80DF1F85A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5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5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5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1B29-8FDA-4A14-B0ED-38FF28AA3F3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5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56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57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E057-E4CA-4A30-B38E-EC84FE0CC2E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51FC-48C8-4A9F-BAEC-DD430536EA6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Овал 9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5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sldNum" idx="5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0736-C6D3-492F-AEFF-49C565BF972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ftr" idx="6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6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6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6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B106-6E22-44AE-BD27-751F6C99355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sldNum" idx="6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BE78-9416-406B-9F0C-B2D41F85C6C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ftr" idx="6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dt" idx="6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AF7F-9D44-4BDD-9F61-CEABEA3DA78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0FFC-4DEC-4BB7-889A-DBECBAA21A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C0F2-00DA-4BFB-8E00-AA0E2D121C7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C4D6-183A-4EA5-9A90-D9891B11C56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dt" idx="2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B981-B0BF-46FF-86FD-572C940EC7B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005D-4F5C-4C11-B88A-98F352AC866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0396-01EE-49DB-820A-52409E776A7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Picture 6" descr="centr"/>
          <p:cNvPicPr/>
          <p:nvPr/>
        </p:nvPicPr>
        <p:blipFill>
          <a:blip r:embed="rId1"/>
          <a:stretch/>
        </p:blipFill>
        <p:spPr>
          <a:xfrm>
            <a:off x="357120" y="2143080"/>
            <a:ext cx="1947960" cy="1746360"/>
          </a:xfrm>
          <a:prstGeom prst="rect">
            <a:avLst/>
          </a:prstGeom>
          <a:ln w="0">
            <a:noFill/>
          </a:ln>
        </p:spPr>
      </p:pic>
      <p:sp>
        <p:nvSpPr>
          <p:cNvPr id="1113" name="Rectangle 7"/>
          <p:cNvSpPr/>
          <p:nvPr/>
        </p:nvSpPr>
        <p:spPr>
          <a:xfrm>
            <a:off x="857160" y="21420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d7a"/>
                </a:solidFill>
                <a:latin typeface="Arial"/>
              </a:rPr>
              <a:t>Муниципаль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546d7a"/>
                </a:solidFill>
                <a:latin typeface="Arial"/>
              </a:rPr>
              <a:t>лицей №9 имени заслуженного учителя школы Российской Федерации А.Н. Неверова </a:t>
            </a:r>
            <a:br>
              <a:rPr sz="1800"/>
            </a:br>
            <a:r>
              <a:rPr b="0" lang="ru-RU" sz="1800" spc="-1" strike="noStrike">
                <a:solidFill>
                  <a:srgbClr val="546d7a"/>
                </a:solidFill>
                <a:latin typeface="Arial"/>
              </a:rPr>
              <a:t>г. Волго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1785960" y="1857240"/>
            <a:ext cx="763092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Сложение и вычитание десятичных дробей </a:t>
            </a:r>
            <a:br>
              <a:rPr sz="2800"/>
            </a:br>
            <a:r>
              <a:rPr b="0" lang="ru-RU" sz="40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d7a"/>
                </a:solidFill>
                <a:latin typeface="Georgia"/>
              </a:rPr>
              <a:t>урок математики, 5 клас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5"/>
          <p:cNvSpPr/>
          <p:nvPr/>
        </p:nvSpPr>
        <p:spPr>
          <a:xfrm>
            <a:off x="2428920" y="5286240"/>
            <a:ext cx="640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Georgia"/>
              </a:rPr>
              <a:t>Автор: Кусмарцева Наталья Никола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Georgia"/>
              </a:rPr>
              <a:t>учитель математики и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Box 1"/>
          <p:cNvSpPr/>
          <p:nvPr/>
        </p:nvSpPr>
        <p:spPr>
          <a:xfrm>
            <a:off x="500040" y="357120"/>
            <a:ext cx="517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р. 196, № 1253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10"/>
          <p:cNvSpPr/>
          <p:nvPr/>
        </p:nvSpPr>
        <p:spPr>
          <a:xfrm>
            <a:off x="22320" y="1214280"/>
            <a:ext cx="66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х – масса мешка с круп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Box 3"/>
          <p:cNvSpPr/>
          <p:nvPr/>
        </p:nvSpPr>
        <p:spPr>
          <a:xfrm>
            <a:off x="78840" y="1928880"/>
            <a:ext cx="65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2х – масса мешка с мук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4"/>
          <p:cNvSpPr/>
          <p:nvPr/>
        </p:nvSpPr>
        <p:spPr>
          <a:xfrm>
            <a:off x="398880" y="2571840"/>
            <a:ext cx="71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х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·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=14х – масса 7 мешков с му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Box 5"/>
          <p:cNvSpPr/>
          <p:nvPr/>
        </p:nvSpPr>
        <p:spPr>
          <a:xfrm>
            <a:off x="304560" y="3214800"/>
            <a:ext cx="66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х – масса 12 мешков  с круп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Box 6"/>
          <p:cNvSpPr/>
          <p:nvPr/>
        </p:nvSpPr>
        <p:spPr>
          <a:xfrm>
            <a:off x="451440" y="3857760"/>
            <a:ext cx="602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х+14 х – общая масса гру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Box 7"/>
          <p:cNvSpPr/>
          <p:nvPr/>
        </p:nvSpPr>
        <p:spPr>
          <a:xfrm>
            <a:off x="389880" y="4500720"/>
            <a:ext cx="67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 условию общая масса 780 к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8"/>
          <p:cNvSpPr/>
          <p:nvPr/>
        </p:nvSpPr>
        <p:spPr>
          <a:xfrm>
            <a:off x="360360" y="5143680"/>
            <a:ext cx="76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 можем составить уравн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Box 9"/>
          <p:cNvSpPr/>
          <p:nvPr/>
        </p:nvSpPr>
        <p:spPr>
          <a:xfrm>
            <a:off x="373680" y="5786280"/>
            <a:ext cx="30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х+14 х =7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Box 1"/>
          <p:cNvSpPr/>
          <p:nvPr/>
        </p:nvSpPr>
        <p:spPr>
          <a:xfrm>
            <a:off x="500040" y="357120"/>
            <a:ext cx="517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р. 196, № 1253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10"/>
          <p:cNvSpPr/>
          <p:nvPr/>
        </p:nvSpPr>
        <p:spPr>
          <a:xfrm>
            <a:off x="561960" y="15001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30 (кг) – масса мешка с круп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401760" y="2500200"/>
            <a:ext cx="72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·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=60 (кг) – масса мешка с мук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8"/>
          <p:cNvSpPr/>
          <p:nvPr/>
        </p:nvSpPr>
        <p:spPr>
          <a:xfrm>
            <a:off x="385920" y="3571920"/>
            <a:ext cx="77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асса мешка с мукой – 60 кг,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асса мешка  с крупой – 30 к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Arial"/>
              </a:rPr>
              <a:t>Домашнее задание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§32, стр. 190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55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57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65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Georgia"/>
              </a:rPr>
              <a:t>Закончите предложение: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539280" y="1499760"/>
            <a:ext cx="403884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сли в конце десятичной дроби приписать 6 нулей, то…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 двух обыкновенных дробей с одинаковыми знаменателями меньше та, 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ольшая дробь на координатном луче лежит 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 обыкновенной дроби в десятичную  можно перевести только ту дробь, у которой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Целую часть от дробной части в десятичной записи числа отделяю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642920" y="1500120"/>
            <a:ext cx="35290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лучится дробь, равная данно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 которой меньше числител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авее меньшей дроб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наменатель равен  10, 100, 1000 и т.д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пято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Box 1"/>
          <p:cNvSpPr/>
          <p:nvPr/>
        </p:nvSpPr>
        <p:spPr>
          <a:xfrm>
            <a:off x="1285920" y="1000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3"/>
          <p:cNvSpPr/>
          <p:nvPr/>
        </p:nvSpPr>
        <p:spPr>
          <a:xfrm>
            <a:off x="1090800" y="428760"/>
            <a:ext cx="48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олнить слож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4"/>
          <p:cNvSpPr/>
          <p:nvPr/>
        </p:nvSpPr>
        <p:spPr>
          <a:xfrm>
            <a:off x="453960" y="1285920"/>
            <a:ext cx="459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) 34,27+8,257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5"/>
          <p:cNvSpPr/>
          <p:nvPr/>
        </p:nvSpPr>
        <p:spPr>
          <a:xfrm>
            <a:off x="663120" y="2643120"/>
            <a:ext cx="350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) 214+5,3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6"/>
          <p:cNvSpPr/>
          <p:nvPr/>
        </p:nvSpPr>
        <p:spPr>
          <a:xfrm>
            <a:off x="4870800" y="1214280"/>
            <a:ext cx="22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42,52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7"/>
          <p:cNvSpPr/>
          <p:nvPr/>
        </p:nvSpPr>
        <p:spPr>
          <a:xfrm>
            <a:off x="4011480" y="264312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219,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TextBox 1"/>
          <p:cNvSpPr/>
          <p:nvPr/>
        </p:nvSpPr>
        <p:spPr>
          <a:xfrm>
            <a:off x="1285920" y="1000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3"/>
          <p:cNvSpPr/>
          <p:nvPr/>
        </p:nvSpPr>
        <p:spPr>
          <a:xfrm>
            <a:off x="1089720" y="42876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олнить вычит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4"/>
          <p:cNvSpPr/>
          <p:nvPr/>
        </p:nvSpPr>
        <p:spPr>
          <a:xfrm>
            <a:off x="450720" y="128592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) 43,8- 5,34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5"/>
          <p:cNvSpPr/>
          <p:nvPr/>
        </p:nvSpPr>
        <p:spPr>
          <a:xfrm>
            <a:off x="661680" y="2643120"/>
            <a:ext cx="33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) 634-3,45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6"/>
          <p:cNvSpPr/>
          <p:nvPr/>
        </p:nvSpPr>
        <p:spPr>
          <a:xfrm>
            <a:off x="4297320" y="128592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38,4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7"/>
          <p:cNvSpPr/>
          <p:nvPr/>
        </p:nvSpPr>
        <p:spPr>
          <a:xfrm>
            <a:off x="4011480" y="264312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630,5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4"/>
          <p:cNvSpPr/>
          <p:nvPr/>
        </p:nvSpPr>
        <p:spPr>
          <a:xfrm>
            <a:off x="179280" y="1700280"/>
            <a:ext cx="8964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сложить (вычесть) десятичные дроби, ну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ять в этих дробях количество знаков после запят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писать их друг  под другом так, чтобы запятая была записана под запят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ыполнить сложение (вычитание), не обращая внимания  на запяту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оставить в ответе запятую под запятой в данных дроб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WordArt 5"/>
          <p:cNvSpPr txBox="1"/>
          <p:nvPr/>
        </p:nvSpPr>
        <p:spPr>
          <a:xfrm>
            <a:off x="1476360" y="404640"/>
            <a:ext cx="6299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о сложения (вычитания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сятич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Box 1"/>
          <p:cNvSpPr/>
          <p:nvPr/>
        </p:nvSpPr>
        <p:spPr>
          <a:xfrm>
            <a:off x="605160" y="214200"/>
            <a:ext cx="510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р. 192, № 12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Box 2"/>
          <p:cNvSpPr/>
          <p:nvPr/>
        </p:nvSpPr>
        <p:spPr>
          <a:xfrm>
            <a:off x="311040" y="1143000"/>
            <a:ext cx="459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) 0,769+42,38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3"/>
          <p:cNvSpPr/>
          <p:nvPr/>
        </p:nvSpPr>
        <p:spPr>
          <a:xfrm>
            <a:off x="380160" y="2000160"/>
            <a:ext cx="39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) 5,8+22,19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4"/>
          <p:cNvSpPr/>
          <p:nvPr/>
        </p:nvSpPr>
        <p:spPr>
          <a:xfrm>
            <a:off x="310680" y="2857680"/>
            <a:ext cx="458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) 95,381+3,21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08880" y="378612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) 8,9021+0,6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6"/>
          <p:cNvSpPr/>
          <p:nvPr/>
        </p:nvSpPr>
        <p:spPr>
          <a:xfrm>
            <a:off x="310680" y="464328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) 2,7+1,35+0,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7"/>
          <p:cNvSpPr/>
          <p:nvPr/>
        </p:nvSpPr>
        <p:spPr>
          <a:xfrm>
            <a:off x="366480" y="5572080"/>
            <a:ext cx="538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) 13,75+8,2+0,115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8"/>
          <p:cNvSpPr/>
          <p:nvPr/>
        </p:nvSpPr>
        <p:spPr>
          <a:xfrm>
            <a:off x="4868640" y="107172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43,1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9"/>
          <p:cNvSpPr/>
          <p:nvPr/>
        </p:nvSpPr>
        <p:spPr>
          <a:xfrm>
            <a:off x="4297320" y="192888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27,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0"/>
          <p:cNvSpPr/>
          <p:nvPr/>
        </p:nvSpPr>
        <p:spPr>
          <a:xfrm>
            <a:off x="4722480" y="285768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98,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11"/>
          <p:cNvSpPr/>
          <p:nvPr/>
        </p:nvSpPr>
        <p:spPr>
          <a:xfrm>
            <a:off x="4368600" y="378612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9,58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12"/>
          <p:cNvSpPr/>
          <p:nvPr/>
        </p:nvSpPr>
        <p:spPr>
          <a:xfrm>
            <a:off x="4650840" y="464328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4,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13"/>
          <p:cNvSpPr/>
          <p:nvPr/>
        </p:nvSpPr>
        <p:spPr>
          <a:xfrm>
            <a:off x="5583240" y="550080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22,0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Box 1"/>
          <p:cNvSpPr/>
          <p:nvPr/>
        </p:nvSpPr>
        <p:spPr>
          <a:xfrm>
            <a:off x="605160" y="214200"/>
            <a:ext cx="510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р. 192, № 12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Box 2"/>
          <p:cNvSpPr/>
          <p:nvPr/>
        </p:nvSpPr>
        <p:spPr>
          <a:xfrm>
            <a:off x="302040" y="1143000"/>
            <a:ext cx="289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) 9,4-7,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3"/>
          <p:cNvSpPr/>
          <p:nvPr/>
        </p:nvSpPr>
        <p:spPr>
          <a:xfrm>
            <a:off x="378720" y="2000160"/>
            <a:ext cx="384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) 16,78-5,4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4"/>
          <p:cNvSpPr/>
          <p:nvPr/>
        </p:nvSpPr>
        <p:spPr>
          <a:xfrm>
            <a:off x="305280" y="2857680"/>
            <a:ext cx="350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) 7,79-3,7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5"/>
          <p:cNvSpPr/>
          <p:nvPr/>
        </p:nvSpPr>
        <p:spPr>
          <a:xfrm>
            <a:off x="281880" y="3786120"/>
            <a:ext cx="310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) 11,1-2,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6"/>
          <p:cNvSpPr/>
          <p:nvPr/>
        </p:nvSpPr>
        <p:spPr>
          <a:xfrm>
            <a:off x="308520" y="4643280"/>
            <a:ext cx="415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) 88,252-4,6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7"/>
          <p:cNvSpPr/>
          <p:nvPr/>
        </p:nvSpPr>
        <p:spPr>
          <a:xfrm>
            <a:off x="375120" y="5572080"/>
            <a:ext cx="32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) 6,6-5,9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8"/>
          <p:cNvSpPr/>
          <p:nvPr/>
        </p:nvSpPr>
        <p:spPr>
          <a:xfrm>
            <a:off x="3149280" y="114300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2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Box 9"/>
          <p:cNvSpPr/>
          <p:nvPr/>
        </p:nvSpPr>
        <p:spPr>
          <a:xfrm>
            <a:off x="3987720" y="200016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11,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10"/>
          <p:cNvSpPr/>
          <p:nvPr/>
        </p:nvSpPr>
        <p:spPr>
          <a:xfrm>
            <a:off x="3718080" y="27860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11"/>
          <p:cNvSpPr/>
          <p:nvPr/>
        </p:nvSpPr>
        <p:spPr>
          <a:xfrm>
            <a:off x="3220560" y="378612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8,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12"/>
          <p:cNvSpPr/>
          <p:nvPr/>
        </p:nvSpPr>
        <p:spPr>
          <a:xfrm>
            <a:off x="4368600" y="464328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83,5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Box 13"/>
          <p:cNvSpPr/>
          <p:nvPr/>
        </p:nvSpPr>
        <p:spPr>
          <a:xfrm>
            <a:off x="3507840" y="557208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0,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TextBox 1"/>
          <p:cNvSpPr/>
          <p:nvPr/>
        </p:nvSpPr>
        <p:spPr>
          <a:xfrm>
            <a:off x="582120" y="214200"/>
            <a:ext cx="510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р. 192, № 12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2"/>
          <p:cNvSpPr/>
          <p:nvPr/>
        </p:nvSpPr>
        <p:spPr>
          <a:xfrm>
            <a:off x="297000" y="1143000"/>
            <a:ext cx="380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то – 3,2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3"/>
          <p:cNvSpPr/>
          <p:nvPr/>
        </p:nvSpPr>
        <p:spPr>
          <a:xfrm>
            <a:off x="281520" y="1928880"/>
            <a:ext cx="427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юм – 2,63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Правая фигурная скобка 4"/>
          <p:cNvSpPr/>
          <p:nvPr/>
        </p:nvSpPr>
        <p:spPr>
          <a:xfrm>
            <a:off x="4643280" y="1143000"/>
            <a:ext cx="500400" cy="1643040"/>
          </a:xfrm>
          <a:custGeom>
            <a:avLst/>
            <a:gdLst>
              <a:gd name="textAreaLeft" fmla="*/ 0 w 500400"/>
              <a:gd name="textAreaRight" fmla="*/ 180720 w 500400"/>
              <a:gd name="textAreaTop" fmla="*/ 12960 h 1643040"/>
              <a:gd name="textAreaBottom" fmla="*/ 16300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5"/>
          <p:cNvSpPr/>
          <p:nvPr/>
        </p:nvSpPr>
        <p:spPr>
          <a:xfrm>
            <a:off x="5291280" y="150012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Box 6"/>
          <p:cNvSpPr/>
          <p:nvPr/>
        </p:nvSpPr>
        <p:spPr>
          <a:xfrm>
            <a:off x="357840" y="2714760"/>
            <a:ext cx="203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спосо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Box 7"/>
          <p:cNvSpPr/>
          <p:nvPr/>
        </p:nvSpPr>
        <p:spPr>
          <a:xfrm>
            <a:off x="303840" y="342900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2+2,63=5,83( 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8"/>
          <p:cNvSpPr/>
          <p:nvPr/>
        </p:nvSpPr>
        <p:spPr>
          <a:xfrm>
            <a:off x="429120" y="4214880"/>
            <a:ext cx="203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спосо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9"/>
          <p:cNvSpPr/>
          <p:nvPr/>
        </p:nvSpPr>
        <p:spPr>
          <a:xfrm>
            <a:off x="375120" y="4857840"/>
            <a:ext cx="457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0+263=583( с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Box 10"/>
          <p:cNvSpPr/>
          <p:nvPr/>
        </p:nvSpPr>
        <p:spPr>
          <a:xfrm>
            <a:off x="364320" y="5643720"/>
            <a:ext cx="891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На пальто и костюм израсходовали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83 м или 583 см тка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TextBox 1"/>
          <p:cNvSpPr/>
          <p:nvPr/>
        </p:nvSpPr>
        <p:spPr>
          <a:xfrm>
            <a:off x="563040" y="357120"/>
            <a:ext cx="510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р. 192, № 1212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стоятельно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10"/>
          <p:cNvSpPr/>
          <p:nvPr/>
        </p:nvSpPr>
        <p:spPr>
          <a:xfrm>
            <a:off x="227160" y="3929040"/>
            <a:ext cx="730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Масса Волги больше массы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ы на 2,7 ц или270 к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5:56:37Z</dcterms:created>
  <dc:creator>User</dc:creator>
  <dc:description/>
  <dc:language>en-US</dc:language>
  <cp:lastModifiedBy>Дима</cp:lastModifiedBy>
  <dcterms:modified xsi:type="dcterms:W3CDTF">2013-03-21T10:23:04Z</dcterms:modified>
  <cp:revision>83</cp:revision>
  <dc:subject/>
  <dc:title>Сложение и вычитание дробей</dc:title>
</cp:coreProperties>
</file>