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55B-BF19-4D3E-902D-CBC3EAB1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45B-F868-4B47-A5A1-B2E27BA9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A4B72-894B-479B-80D5-96BBB063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FBFB0-95C8-4973-B7FF-EB05FB1C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73FAD-4B42-41F1-8183-896485CD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D8C4D-46B8-45B4-AD17-FFA2118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7489A-1E80-495A-8C39-D9315F0F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B1442-81C2-4281-A264-7EDC076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49B2F-D4E3-4FCF-A8E2-F806204B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ADFB4-58AA-42FF-842E-856F88E1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889EE-9AEE-4B5F-84F1-C0638616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E0DF5-D973-404A-BAE3-AABE1079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DAE-6EB7-49E8-B753-E3EDB370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CC3C0-3BE8-4D18-B343-6FA370EC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9403E-9B4B-4ADF-AD95-A59665AA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E1116-710D-4DDA-B165-C29E4E80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15F4A-1EFF-424E-85B8-CFE5B290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1EC74-CE20-42CB-824F-BE7BA645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83CDA-6A59-4FA4-8884-DD26ACC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D17FC-09E9-45A7-BFF3-B517F9B7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FA654-4479-4B1F-A52F-DCABF40B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F6376-7478-43C5-8ED1-36ADEB81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8D044-2C25-4401-B190-D702E718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0A7-F51C-4C7A-B746-B2FFDC21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80394-B30B-402D-AAA3-D3924B55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337ED-5D04-474E-B580-305A6CF7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8A107-1CC8-4EFF-8511-CFB90BF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84C76-71D0-465B-8C48-134CF963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A010A-2471-4EE7-AD7B-C0EFABD6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6581B-43B6-4560-8B4C-3D445EC2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E93F1-2093-41AD-AE5C-2F35DC3E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CFEC-818B-45F4-883E-A10A30BA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7455C-0D6B-487C-82E7-D8B0368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B2C00-1AE5-403C-A7DD-A4DB753E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70C6-F83C-482E-9372-005C3E62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C0121-6956-4098-8966-4ACE000D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B2D6A-F1F2-4B01-B275-2E8AA0F3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9EB54-A8C3-4257-8234-041AC0A7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E24BD-E402-45AA-9F54-32F54A65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7F645-C5BB-477D-8FEA-7A853842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31676-652C-4CE1-B562-7F4DB4D5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EF1AB-6C89-477F-9F6B-EB46009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405EB-6D83-4876-ACDD-C21C7B6E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A3148-5BE5-4C70-9B4F-1E3CB89F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F0B00-D7E3-45E1-8826-50BC369E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40E3-34E1-41D2-961C-51216ECD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F1FA6-DF44-4876-9301-C9014F9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024A5-D7A8-4738-8FA3-361B8BF0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540F3-72B8-4690-997A-7DE7A1DE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DA7F5-79E9-4D29-B38F-7D4C7A39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B6396-3316-424A-879B-293D6CB7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9A7713-64AD-4722-886F-F2BA94A8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8CB6D0-27AB-4ED8-B6E3-CD8B421E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EC005C-7402-46C4-82CD-D8A751F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74C7A2-93C8-4EBE-AF06-1C02A0F8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D35499-1CA9-44C8-AD04-DB88E2E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8E81-F92A-45F5-8D2B-72AB2601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3FAD28-B26B-4201-8290-9EC29A6F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2BCAC3-D6A2-4F28-8A48-59570465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D7F89B-47F2-4895-BB93-DE8A1259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EDFB65-ABD1-49F2-ADC7-C266600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8FB286-C63B-4318-94B2-427F609A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4F87F4-86A9-4D5D-A774-F04B6366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5EB0B5-D17D-428C-B166-0453D453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8BE6C-CBE8-44F0-BBFF-884A53C6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8BF27-76FB-4098-B6A5-5638E8E7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E5DFA-ADF0-4E45-9F6D-04857994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67DB-8492-466C-BB24-697E61D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79844-3761-4961-8872-D6F174B8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6EF77-72E1-4893-8272-0B1F41DD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28274-D990-4B52-A918-69E9DBA3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B22CE-E2B5-4D8B-9FC6-7CE36ACA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A51BB-E628-4678-B1C4-7FAAA87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C04A0-6733-41CF-9898-39B8384E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B9B9E-C567-46FF-A04D-B2F2AFF5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F9470-A84D-4ED6-8F7C-D65AA9A2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6A7E7-09C8-4629-9115-0C8494AC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93B67F-41BC-4944-A69D-9DBF9696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E448-A3C0-44F7-AF3B-B05D2E21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D894B3-4901-43B8-85D7-ADDEF32D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3B44CF-752C-43A2-A095-033AFEBF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9423C5-8858-4241-98B4-CC91FC69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8F8692-C5EA-4639-9466-AD404A32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18C2D2-1CF8-4772-B629-25DFE898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15B8F2-942A-44F0-9D8A-A96F85D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143CA9-DCA1-444D-8D10-1C3BB282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5F24DC-F6A7-46D4-B899-D81B84AE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B5FF3A-DEBD-406C-9F0A-912C25E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D16384-0A14-4597-9376-B3339C6C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C0B4-B929-436C-A8EA-788B69AE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C784C4-64A7-4215-A3DB-CC5F562D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BC2D9-3824-4E1B-8833-C1D66B67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BBCE3-D310-4E84-9A6B-A75BFD3E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94BDF-2795-419F-BE8E-FB7E4922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7A5E5-7DA0-4764-A48F-D8F750BF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C94FA-621D-4D4E-8769-1C04EC16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17F5F-03F6-4177-8650-3F3C02B0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16B4A-F5BC-4B25-B866-0FD5B67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C5C6E-543A-4BA8-9867-CB921757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47AD5-618E-4ABF-A1C7-A6143240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2EEE-CBE4-4415-B71C-DB2876A7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D0196-5183-4863-85BF-50666C9B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FA8BF-262B-4CE9-85A4-2719365C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DEC6B-7F18-4F57-ABEE-587540AD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E99F9-5DAE-48AA-931F-8CD256B1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5C3D2-C93F-480F-87D8-28E65835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060CF9-2816-4698-85C7-4CAC7BD5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A140B-846A-43E5-8B34-5457EA7B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002B8-F237-46BA-81CB-35D0A46E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6F455-95DB-4BF4-94E2-CEFD2ADD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AB219-67B5-4C81-B2BE-43467FFC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0F8-4948-4078-AACC-4A75AC7D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7131-E4FD-4430-97AA-0AD1D53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8B337-F3C9-49EC-8E11-245B2DE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09949-FBB2-4E39-AE2C-56244FD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0D090-08B4-41D7-BF67-6B1BE65F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77D40-2F97-48C4-BAC4-6CAD467E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F13D2-0461-4509-9E49-83D79C71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4C010-C39B-46F2-ACAE-C8C44EC0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E13017-6A31-4C78-B447-A599C5CB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6434B-CBA6-4D67-A10B-3C81D989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B42E0-E216-47D8-BE17-B8548C6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998A8-C149-4311-8197-9A7C9629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FC2E-D458-4CA6-82E6-4C69AE6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0FA26-707A-4FBF-88CD-AEC60B21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5D659-A6C6-4E6A-ABA1-90E5F9E3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74433-AD01-48F5-8B8A-FE678417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6E125-1AAF-49E7-83C8-A7611A0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E9BB7-6C62-4CCA-84D7-C06AAC21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4DC45-1C41-44A9-BA0F-3F2E8534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F0E522-56B7-406D-A3F6-D665BA54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2B06A6-58E1-430E-BE1D-16AB212C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5AD85-DDF3-4443-B6DC-F4EBAF2B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0CE60-89C6-4CCD-8886-CB60FA17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B731-7ED3-46CC-AF3F-90EF3478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B0F22-3B7B-40FA-82C6-819D28D4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2F1F11-F212-471B-BA4C-1366123B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3518D-F4BD-424E-81DF-63E032F6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F9AC42-141E-4965-A35C-E2E5D575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698D4-588C-4F4F-A983-08E2B67C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89AFC-E79F-4276-8618-1F5F7A9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15067-9139-4626-9766-4E7EE58B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61DA0-E6BB-4D6C-AC06-93DC1179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CDB748-A403-4FD1-B6B8-F04AA029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DCE75FB-251C-48FA-89D9-C8C1721C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E7BB-CD27-4765-9808-6E15ED47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655F61-0436-4573-B04F-4A972151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97C476-B263-469C-B860-5BDAE327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A99E5E-0AF4-4EA9-AFB3-B080E8E8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62F19D-8FB4-47B3-81D2-B00369D4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F22311-E27F-47CE-8C3E-C578C727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CC0003-7693-4B33-9274-E1A9F77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5C0F48-0DE5-4845-8CA4-771167B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CDF7F8C-5001-4E2A-A19B-A77FB752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E54C7D-A389-45CF-A163-93430575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48A7E0-A985-4C26-AA84-DDE89870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D17A-A7A3-4E8E-BA0D-56947541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AEA7BB-AD26-4F62-871B-2ABB1E0B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ECB96-8579-4AF2-8676-52CC8AEF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C0065-2D12-4C62-88FB-70BB7E8E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BF73D-DC76-4133-87F0-715CA8B5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7E0BE4-A7A4-4626-82C6-AE48D838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69DCB7-391F-4C6C-BF35-4C297E14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08764A-5313-43EA-9CF6-38CDF586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21C61-C16C-4088-B8E6-158AAB05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227D4D-728A-4986-AAE6-D23CA3A0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6C756A-32EA-4FB5-BE18-0663089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07BD0-A53D-4DA7-A6C6-82734763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C34F1-EC14-4FA6-8637-35B7F20D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93911-CF77-4837-81B6-7FE9A6BE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CC33E9-39B6-4265-A1DD-E03E8135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75B24E4-F5E7-4820-B718-2CA0AB10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B8B4A8-AEAE-4746-80A6-FAE26285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7F679D7-7CB1-4657-B2CB-AE5985F3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FEAA23-5A2B-4436-BC3C-F00E8FBD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D4D2B0-9886-4D64-9EC3-8E386A3C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056B7D-29AD-4462-A0B9-64C3281F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C7416E7-2732-4F88-9563-7C4061C1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679C9B-2E4E-4636-B89E-292818CE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72988EF-7BF9-4A55-A806-C6A8611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FAFEF69-6255-4946-B868-9447F5BB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1D5993-E8F3-403F-B153-15F1DB5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8B6000-49FE-462F-94C1-053FE8B8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1DC4EC-0499-48BC-9DEF-D10C11EC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F23C5-1238-440D-8020-B0ECC353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A0FDB-4017-417D-B799-26B14A3F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E5AAD-1C97-4534-9D1B-0A7DD1EA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6C9-9049-4713-A3B3-1035A019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69CB1C-CB39-4E9A-9826-5B747E99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C1CD4-28F7-41CE-8DE2-7E05B505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F856D7-C63E-4F17-B72C-925E01D9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19E21-8CDC-4302-B955-A3BCB849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E26E1-3EE4-4138-9690-723DA0D8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0EC7E-1313-4D01-A4FB-C320F5A1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CEB6AD-561A-4AB0-96EF-A0DE659A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2B1B-7CBB-4211-82DF-5D85C348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6584-A499-48AD-9CA6-B6FE0670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0237-6A70-4C1D-AD0D-2FE75C2D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3CD-9B4A-412E-A411-07A9E710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C9C2-E60C-467C-8BD7-C9B76CBE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5700-CAA7-43A5-B2A1-62B563C0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1C49-53B9-4288-B280-0612E723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E7FA-88A3-489C-A8B4-C49C157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9DE5-AECA-4815-9BF9-D4E4DEF9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D6A93-B191-4263-9ADE-5883EB4C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98211-DF9C-44EF-BE4D-E4F8BE67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49BA9-979D-49AE-BC13-1E9EDF2B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0925-46F6-4FB4-B5C4-1115204C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D6865-319E-4E6B-8ABB-26188D64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FCA-D888-4C52-8324-0F30A644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88A1-07AB-449F-B12F-15BA48BB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89AE-5771-4544-ADA7-5DB58851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AC367-D6CB-4871-8200-38D6328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C057E-7D3C-423E-A410-B48B6710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3FA6-3A77-4D01-9147-CF87D944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1E6F-7DD1-4302-9661-AB031C6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43801-48E3-43BE-83B9-3CC02DFB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C9D7B-3160-4A59-B78D-A87A5D3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F19E9-1D13-42E7-986B-DD829393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FD5C3-D91B-477C-A725-B31446D2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347-7550-416D-BD65-2EF39144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67E5-61B4-4C09-AACC-0C1D37A5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4573-45E5-451D-8006-A4259F0E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B297-F893-4E80-A425-0ADB9B10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1F950-4AC8-464B-AF68-E01BCAE5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EE8E9-0FA7-4C5E-8871-829242D2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90616-CCFD-46D5-84C4-80F45153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0699F-2F29-4830-A8F3-F21B96BC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71B1C-1524-4710-AA20-B4A1F55A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C698A-08CC-41FA-94B8-5ADB6106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2C533-1CC2-4E42-BF49-AA295271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2C3-802B-4EBB-9B89-EA47DD55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45720-73B5-4EB7-8776-BC39FEF6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8D8A2-9CD7-409C-BE73-8254A4E2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C0217-EC69-4833-87B0-737B7978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C0F4E-832B-4DFB-BB53-607F5D18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C56C-4007-4AB6-9313-D1543E6E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603EC-9A4D-43E5-8B8B-4622BEAF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D3AFD-F274-45EB-A88C-B0B56337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272D1-8FBE-4AFD-AF26-2036C391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4243B-496A-479C-8C22-031BC77D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9B692-0D81-4319-B181-C333F51C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FFE-B3FD-4458-AC86-36538DDB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3E9C6-E79B-4C8A-9C63-C15A332F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E4B75-5836-466B-A4E5-8DBAEB1B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668A-9FB8-4AA1-B29D-C90C49B4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A69C7-0348-4916-B449-F0320EC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AF485-8510-4981-91DE-413808A4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E7ACB-1C80-497B-9777-60DD8162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BCFDE-9053-4F1C-A674-6A98D42A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1A74C-A93E-4313-9AA7-24DB863F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14B6E-CF2A-4C9B-9EAE-72639631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D27F5-5DC4-42AE-B71C-682D18B6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578-728B-49DD-B59C-E1A66014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2578A-F953-4D9B-9E5D-C7C2666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D1CCA-044D-48CC-8A19-A27DBA6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E6A1A-0E0C-47CE-A985-EDA5F807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C1E5B-BDCA-45E6-9F45-76CD872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5DDC2-2AD0-4B24-899B-8BD0E43C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30396-23C3-4493-9279-D5348131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0B88C-CB90-43CA-95BB-6DB4FB04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0AB3F-A738-4B66-BE5D-A520C0AE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AA5E4-C4F1-4718-812B-C293038D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6E242-EEB9-491A-BC1F-F82C797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6ADA-091B-4576-ACDC-B63BD06A261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FF88-4096-4D9C-BC82-1EB6D56DE72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5DB1-035B-4B0B-926F-A42A2FE1E36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F986-CB39-422F-9BB4-35138B09915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3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46ED-E1B4-4D16-9210-366955A6A53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dt" idx="38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39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5DEF-0050-47DE-8937-32B5029AED4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sldNum" idx="43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8A2C-BB49-4576-8CBD-94B4F60223F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dt" idx="4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4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6284-4056-4D98-9333-14537CBC817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846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оугольник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4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3277-F161-48DD-81FB-1D0ED1883F6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5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5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5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17D9-350D-4732-B55E-997EFDBFC59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5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5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5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F3DC-8143-45BA-AA92-AA6CFA923E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7E51-4AA8-46F4-B5C9-60EE06D6751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Овал 9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5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5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94B0-E92E-474C-BE10-F6AA2F4FC31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ftr" idx="6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6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6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6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6CE6-37D3-40C6-ADD0-152D91BD2CE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Num" idx="6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CB18-B92B-462D-8553-2EF8E7AF97F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6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dt" idx="6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EACC-928F-48D3-959E-77E52784BD2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E8E8-3840-47D0-B8D6-6755BC47BF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2FFF-439A-4970-B955-BEF875F68E8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06DE-027B-4CAA-A6D8-47490FFE752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2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D09B-1C13-4902-AC84-636BC5CB8C0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E70-DC71-49AA-A3D7-B5E708D65F9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B5F9-7730-4127-8F3B-942D5C75129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6" descr="centr"/>
          <p:cNvPicPr/>
          <p:nvPr/>
        </p:nvPicPr>
        <p:blipFill>
          <a:blip r:embed="rId1"/>
          <a:stretch/>
        </p:blipFill>
        <p:spPr>
          <a:xfrm>
            <a:off x="357120" y="2143080"/>
            <a:ext cx="1947960" cy="174636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7"/>
          <p:cNvSpPr/>
          <p:nvPr/>
        </p:nvSpPr>
        <p:spPr>
          <a:xfrm>
            <a:off x="857160" y="21420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d7a"/>
                </a:solidFill>
                <a:latin typeface="Arial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546d7a"/>
                </a:solidFill>
                <a:latin typeface="Arial"/>
              </a:rPr>
              <a:t>лицей №9 имени заслуженного учителя школы Российской Федерации А.Н. Неверова </a:t>
            </a:r>
            <a:br>
              <a:rPr sz="1800"/>
            </a:br>
            <a:r>
              <a:rPr b="0" lang="ru-RU" sz="1800" spc="-1" strike="noStrike">
                <a:solidFill>
                  <a:srgbClr val="546d7a"/>
                </a:solidFill>
                <a:latin typeface="Arial"/>
              </a:rPr>
              <a:t>г. Волго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1785960" y="1857240"/>
            <a:ext cx="763092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Сложение и вычитание десятичных дробей </a:t>
            </a:r>
            <a:br>
              <a:rPr sz="2800"/>
            </a:br>
            <a:r>
              <a:rPr b="0" lang="ru-RU" sz="40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Georgia"/>
              </a:rPr>
              <a:t>урок математики, 5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2428920" y="5286240"/>
            <a:ext cx="640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Georgia"/>
              </a:rPr>
              <a:t>Автор: Кусмарцева Наталья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Georgia"/>
              </a:rPr>
              <a:t>учитель математик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Box 1"/>
          <p:cNvSpPr/>
          <p:nvPr/>
        </p:nvSpPr>
        <p:spPr>
          <a:xfrm>
            <a:off x="500040" y="357120"/>
            <a:ext cx="51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6, № 1253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10"/>
          <p:cNvSpPr/>
          <p:nvPr/>
        </p:nvSpPr>
        <p:spPr>
          <a:xfrm>
            <a:off x="22320" y="1214280"/>
            <a:ext cx="66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х – масса мешка с круп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3"/>
          <p:cNvSpPr/>
          <p:nvPr/>
        </p:nvSpPr>
        <p:spPr>
          <a:xfrm>
            <a:off x="78840" y="1928880"/>
            <a:ext cx="65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2х – масса мешка с мук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4"/>
          <p:cNvSpPr/>
          <p:nvPr/>
        </p:nvSpPr>
        <p:spPr>
          <a:xfrm>
            <a:off x="398880" y="2571840"/>
            <a:ext cx="71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х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·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=14х – масса 7 мешков с му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5"/>
          <p:cNvSpPr/>
          <p:nvPr/>
        </p:nvSpPr>
        <p:spPr>
          <a:xfrm>
            <a:off x="304560" y="3214800"/>
            <a:ext cx="66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х – масса 12 мешков  с круп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6"/>
          <p:cNvSpPr/>
          <p:nvPr/>
        </p:nvSpPr>
        <p:spPr>
          <a:xfrm>
            <a:off x="451440" y="3857760"/>
            <a:ext cx="602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х+14 х – общая масса гр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7"/>
          <p:cNvSpPr/>
          <p:nvPr/>
        </p:nvSpPr>
        <p:spPr>
          <a:xfrm>
            <a:off x="389880" y="450072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условию общая масса 780 к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8"/>
          <p:cNvSpPr/>
          <p:nvPr/>
        </p:nvSpPr>
        <p:spPr>
          <a:xfrm>
            <a:off x="360360" y="5143680"/>
            <a:ext cx="76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 можем составить уравн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9"/>
          <p:cNvSpPr/>
          <p:nvPr/>
        </p:nvSpPr>
        <p:spPr>
          <a:xfrm>
            <a:off x="373680" y="5786280"/>
            <a:ext cx="30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х+14 х =7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Box 1"/>
          <p:cNvSpPr/>
          <p:nvPr/>
        </p:nvSpPr>
        <p:spPr>
          <a:xfrm>
            <a:off x="500040" y="357120"/>
            <a:ext cx="51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6, № 1253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10"/>
          <p:cNvSpPr/>
          <p:nvPr/>
        </p:nvSpPr>
        <p:spPr>
          <a:xfrm>
            <a:off x="561960" y="15001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30 (кг) – масса мешка с круп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401760" y="2500200"/>
            <a:ext cx="72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·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=60 (кг) – масса мешка с мук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8"/>
          <p:cNvSpPr/>
          <p:nvPr/>
        </p:nvSpPr>
        <p:spPr>
          <a:xfrm>
            <a:off x="385920" y="3571920"/>
            <a:ext cx="77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асса мешка с мукой – 60 кг,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сса мешка  с крупой – 30 к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Arial"/>
              </a:rPr>
              <a:t>Домашнее задание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§32, стр. 190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55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57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65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Georgia"/>
              </a:rPr>
              <a:t>Закончите предложение: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9280" y="1499760"/>
            <a:ext cx="403884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в конце десятичной дроби приписать 6 нулей, то…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 двух обыкновенных дробей с одинаковыми знаменателями меньше та, 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ольшая дробь на координатном луче лежит 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 обыкновенной дроби в десятичную  можно перевести только ту дробь, у которой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Целую часть от дробной части в десятичной записи числа отделяю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642920" y="1500120"/>
            <a:ext cx="3529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лучится дробь, равная данно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 которой меньше числите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авее меньшей дроб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менатель равен  10, 100, 1000 и т.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пято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Box 1"/>
          <p:cNvSpPr/>
          <p:nvPr/>
        </p:nvSpPr>
        <p:spPr>
          <a:xfrm>
            <a:off x="1285920" y="1000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3"/>
          <p:cNvSpPr/>
          <p:nvPr/>
        </p:nvSpPr>
        <p:spPr>
          <a:xfrm>
            <a:off x="1090800" y="428760"/>
            <a:ext cx="48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ь слож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4"/>
          <p:cNvSpPr/>
          <p:nvPr/>
        </p:nvSpPr>
        <p:spPr>
          <a:xfrm>
            <a:off x="453960" y="1285920"/>
            <a:ext cx="459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34,27+8,257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5"/>
          <p:cNvSpPr/>
          <p:nvPr/>
        </p:nvSpPr>
        <p:spPr>
          <a:xfrm>
            <a:off x="663120" y="2643120"/>
            <a:ext cx="350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) 214+5,3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6"/>
          <p:cNvSpPr/>
          <p:nvPr/>
        </p:nvSpPr>
        <p:spPr>
          <a:xfrm>
            <a:off x="4870800" y="1214280"/>
            <a:ext cx="22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42,52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7"/>
          <p:cNvSpPr/>
          <p:nvPr/>
        </p:nvSpPr>
        <p:spPr>
          <a:xfrm>
            <a:off x="4011480" y="26431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19,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Box 1"/>
          <p:cNvSpPr/>
          <p:nvPr/>
        </p:nvSpPr>
        <p:spPr>
          <a:xfrm>
            <a:off x="1285920" y="1000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3"/>
          <p:cNvSpPr/>
          <p:nvPr/>
        </p:nvSpPr>
        <p:spPr>
          <a:xfrm>
            <a:off x="1089720" y="42876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ь вычит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4"/>
          <p:cNvSpPr/>
          <p:nvPr/>
        </p:nvSpPr>
        <p:spPr>
          <a:xfrm>
            <a:off x="450720" y="128592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43,8- 5,34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5"/>
          <p:cNvSpPr/>
          <p:nvPr/>
        </p:nvSpPr>
        <p:spPr>
          <a:xfrm>
            <a:off x="661680" y="2643120"/>
            <a:ext cx="33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) 634-3,4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6"/>
          <p:cNvSpPr/>
          <p:nvPr/>
        </p:nvSpPr>
        <p:spPr>
          <a:xfrm>
            <a:off x="4297320" y="12859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38,4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7"/>
          <p:cNvSpPr/>
          <p:nvPr/>
        </p:nvSpPr>
        <p:spPr>
          <a:xfrm>
            <a:off x="4011480" y="26431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630,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4"/>
          <p:cNvSpPr/>
          <p:nvPr/>
        </p:nvSpPr>
        <p:spPr>
          <a:xfrm>
            <a:off x="179280" y="1700280"/>
            <a:ext cx="8964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ложить (вычесть) десятичные дроби,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ять в этих дробях количество знаков после запят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исать их друг  под другом так, чтобы запятая была записана под запят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ыполнить сложение (вычитание), не обращая внимания  на запят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ставить в ответе запятую под запятой в данных дроб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WordArt 5"/>
          <p:cNvSpPr txBox="1"/>
          <p:nvPr/>
        </p:nvSpPr>
        <p:spPr>
          <a:xfrm>
            <a:off x="1476360" y="404640"/>
            <a:ext cx="629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о сложения (вычитания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сятич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Box 1"/>
          <p:cNvSpPr/>
          <p:nvPr/>
        </p:nvSpPr>
        <p:spPr>
          <a:xfrm>
            <a:off x="605160" y="21420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2, № 12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2"/>
          <p:cNvSpPr/>
          <p:nvPr/>
        </p:nvSpPr>
        <p:spPr>
          <a:xfrm>
            <a:off x="311040" y="1143000"/>
            <a:ext cx="459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0,769+42,38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"/>
          <p:cNvSpPr/>
          <p:nvPr/>
        </p:nvSpPr>
        <p:spPr>
          <a:xfrm>
            <a:off x="380160" y="2000160"/>
            <a:ext cx="39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 5,8+22,19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310680" y="2857680"/>
            <a:ext cx="458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) 95,381+3,21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08880" y="37861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) 8,9021+0,6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310680" y="464328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) 2,7+1,35+0,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7"/>
          <p:cNvSpPr/>
          <p:nvPr/>
        </p:nvSpPr>
        <p:spPr>
          <a:xfrm>
            <a:off x="366480" y="5572080"/>
            <a:ext cx="53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) 13,75+8,2+0,11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8"/>
          <p:cNvSpPr/>
          <p:nvPr/>
        </p:nvSpPr>
        <p:spPr>
          <a:xfrm>
            <a:off x="4868640" y="10717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43,1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9"/>
          <p:cNvSpPr/>
          <p:nvPr/>
        </p:nvSpPr>
        <p:spPr>
          <a:xfrm>
            <a:off x="4297320" y="192888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7,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0"/>
          <p:cNvSpPr/>
          <p:nvPr/>
        </p:nvSpPr>
        <p:spPr>
          <a:xfrm>
            <a:off x="4722480" y="28576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98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11"/>
          <p:cNvSpPr/>
          <p:nvPr/>
        </p:nvSpPr>
        <p:spPr>
          <a:xfrm>
            <a:off x="4368600" y="37861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9,58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12"/>
          <p:cNvSpPr/>
          <p:nvPr/>
        </p:nvSpPr>
        <p:spPr>
          <a:xfrm>
            <a:off x="4650840" y="46432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4,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13"/>
          <p:cNvSpPr/>
          <p:nvPr/>
        </p:nvSpPr>
        <p:spPr>
          <a:xfrm>
            <a:off x="5583240" y="550080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2,0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Box 1"/>
          <p:cNvSpPr/>
          <p:nvPr/>
        </p:nvSpPr>
        <p:spPr>
          <a:xfrm>
            <a:off x="605160" y="21420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2, № 12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2"/>
          <p:cNvSpPr/>
          <p:nvPr/>
        </p:nvSpPr>
        <p:spPr>
          <a:xfrm>
            <a:off x="302040" y="1143000"/>
            <a:ext cx="289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9,4-7,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3"/>
          <p:cNvSpPr/>
          <p:nvPr/>
        </p:nvSpPr>
        <p:spPr>
          <a:xfrm>
            <a:off x="378720" y="2000160"/>
            <a:ext cx="38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 16,78-5,4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4"/>
          <p:cNvSpPr/>
          <p:nvPr/>
        </p:nvSpPr>
        <p:spPr>
          <a:xfrm>
            <a:off x="305280" y="2857680"/>
            <a:ext cx="350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) 7,79-3,7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"/>
          <p:cNvSpPr/>
          <p:nvPr/>
        </p:nvSpPr>
        <p:spPr>
          <a:xfrm>
            <a:off x="281880" y="3786120"/>
            <a:ext cx="310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) 11,1-2,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6"/>
          <p:cNvSpPr/>
          <p:nvPr/>
        </p:nvSpPr>
        <p:spPr>
          <a:xfrm>
            <a:off x="308520" y="4643280"/>
            <a:ext cx="41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) 88,252-4,6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7"/>
          <p:cNvSpPr/>
          <p:nvPr/>
        </p:nvSpPr>
        <p:spPr>
          <a:xfrm>
            <a:off x="375120" y="5572080"/>
            <a:ext cx="32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) 6,6-5,9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8"/>
          <p:cNvSpPr/>
          <p:nvPr/>
        </p:nvSpPr>
        <p:spPr>
          <a:xfrm>
            <a:off x="3149280" y="114300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9"/>
          <p:cNvSpPr/>
          <p:nvPr/>
        </p:nvSpPr>
        <p:spPr>
          <a:xfrm>
            <a:off x="3987720" y="200016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11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10"/>
          <p:cNvSpPr/>
          <p:nvPr/>
        </p:nvSpPr>
        <p:spPr>
          <a:xfrm>
            <a:off x="3718080" y="2786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1"/>
          <p:cNvSpPr/>
          <p:nvPr/>
        </p:nvSpPr>
        <p:spPr>
          <a:xfrm>
            <a:off x="3220560" y="378612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8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12"/>
          <p:cNvSpPr/>
          <p:nvPr/>
        </p:nvSpPr>
        <p:spPr>
          <a:xfrm>
            <a:off x="4368600" y="464328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83,5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13"/>
          <p:cNvSpPr/>
          <p:nvPr/>
        </p:nvSpPr>
        <p:spPr>
          <a:xfrm>
            <a:off x="3507840" y="55720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0,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Box 1"/>
          <p:cNvSpPr/>
          <p:nvPr/>
        </p:nvSpPr>
        <p:spPr>
          <a:xfrm>
            <a:off x="582120" y="21420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2, № 12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2"/>
          <p:cNvSpPr/>
          <p:nvPr/>
        </p:nvSpPr>
        <p:spPr>
          <a:xfrm>
            <a:off x="297000" y="114300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то – 3,2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3"/>
          <p:cNvSpPr/>
          <p:nvPr/>
        </p:nvSpPr>
        <p:spPr>
          <a:xfrm>
            <a:off x="281520" y="1928880"/>
            <a:ext cx="427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юм – 2,63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Правая фигурная скобка 4"/>
          <p:cNvSpPr/>
          <p:nvPr/>
        </p:nvSpPr>
        <p:spPr>
          <a:xfrm>
            <a:off x="4643280" y="1143000"/>
            <a:ext cx="500400" cy="1643040"/>
          </a:xfrm>
          <a:custGeom>
            <a:avLst/>
            <a:gdLst>
              <a:gd name="textAreaLeft" fmla="*/ 0 w 500400"/>
              <a:gd name="textAreaRight" fmla="*/ 180720 w 500400"/>
              <a:gd name="textAreaTop" fmla="*/ 12960 h 1643040"/>
              <a:gd name="textAreaBottom" fmla="*/ 16300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5"/>
          <p:cNvSpPr/>
          <p:nvPr/>
        </p:nvSpPr>
        <p:spPr>
          <a:xfrm>
            <a:off x="5291280" y="150012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6"/>
          <p:cNvSpPr/>
          <p:nvPr/>
        </p:nvSpPr>
        <p:spPr>
          <a:xfrm>
            <a:off x="357840" y="2714760"/>
            <a:ext cx="20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спосо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7"/>
          <p:cNvSpPr/>
          <p:nvPr/>
        </p:nvSpPr>
        <p:spPr>
          <a:xfrm>
            <a:off x="303840" y="342900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2+2,63=5,83( 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8"/>
          <p:cNvSpPr/>
          <p:nvPr/>
        </p:nvSpPr>
        <p:spPr>
          <a:xfrm>
            <a:off x="429120" y="4214880"/>
            <a:ext cx="20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спосо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9"/>
          <p:cNvSpPr/>
          <p:nvPr/>
        </p:nvSpPr>
        <p:spPr>
          <a:xfrm>
            <a:off x="375120" y="4857840"/>
            <a:ext cx="457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+263=583( с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10"/>
          <p:cNvSpPr/>
          <p:nvPr/>
        </p:nvSpPr>
        <p:spPr>
          <a:xfrm>
            <a:off x="364320" y="5643720"/>
            <a:ext cx="891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пальто и костюм израсходовали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83 м или 583 см тка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TextBox 1"/>
          <p:cNvSpPr/>
          <p:nvPr/>
        </p:nvSpPr>
        <p:spPr>
          <a:xfrm>
            <a:off x="563040" y="357120"/>
            <a:ext cx="510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2, № 1212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стоятельно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10"/>
          <p:cNvSpPr/>
          <p:nvPr/>
        </p:nvSpPr>
        <p:spPr>
          <a:xfrm>
            <a:off x="227160" y="3929040"/>
            <a:ext cx="73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Масса Волги больше массы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ы на 2,7 ц или270 к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5:56:37Z</dcterms:created>
  <dc:creator>User</dc:creator>
  <dc:description/>
  <dc:language>en-US</dc:language>
  <cp:lastModifiedBy>Дима</cp:lastModifiedBy>
  <dcterms:modified xsi:type="dcterms:W3CDTF">2013-03-21T10:23:04Z</dcterms:modified>
  <cp:revision>83</cp:revision>
  <dc:subject/>
  <dc:title>Сложение и вычитание дробей</dc:title>
</cp:coreProperties>
</file>