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B035-4ED4-4491-BC11-2A2DE9CA9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3C9A-8EB0-48BE-A3D6-74E0D6A2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2EA3-9EED-4CD6-AD40-688A5C81F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14D0-49BC-4F3D-A8BF-2E56335B8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6DA7-6872-4A8F-8CAF-C70A50D7A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6847-7EBD-4A22-9465-5A49C543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7D01-0505-4C29-878C-D80BD92B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293F-F38E-4015-B0F6-16F7C5EB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FDA5-7C08-4A90-B168-83E75407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3FF2-05AA-4AF1-B420-503C3938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D138-B037-42D2-A5C5-73A02681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9EAA-1E4D-4D90-A746-707A15D4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3822-3331-4682-8E7C-FB37F19B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D3B2-226F-4483-AFFB-5C75F44E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70DA-A856-4A44-8AA9-91E847B5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A82C-9C6C-4F1B-99C2-C0C3CB990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7436-3573-4DD1-9366-BA988A4C6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066131-B701-4B94-B3D0-786EB8F64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DD498D-9FE9-43F3-BAD4-513213DF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5D5E30-379D-4614-B726-96B16AAD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5ABC77-6348-4F5F-9014-223EBD92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9B3B38-6522-4773-A176-757DFDB2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F737-EA5C-4B58-8152-B03F601A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63CC86-28CD-482F-B55E-96FB41C4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5C9F7A-E2FB-4FF7-92C0-F492A3D0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8CB780-3DB6-41D9-8CB9-024F878A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B959F0-16F0-42C2-B47E-C526EA35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715607-8120-4B9F-B6D3-92AC336E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8EAFA9-6E0A-46B3-A28D-9CBA8E372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551DB8-8016-4D10-B16F-563D22C63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85BAF-985D-41A4-8C35-0DE258A75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0D51B-B677-452E-9F5C-AE4EC8A3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26625-B4F8-4CE5-82C3-6CCD784E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20FC-D0F2-40A1-ACEA-9EB3FE45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0AAA9-3A2E-4E9C-A5DC-CC64AE95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33852-7161-4F16-B206-A74964E7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DE0F2-8708-4832-8D4D-C5E3E618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488EA-724E-4F8D-A127-8741E404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232F9-E84E-4F82-8D4F-5BDCAC81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C250D-694E-4E71-855E-BA81285C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1DD50-470C-47A0-A7CC-7F586618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A64FA-87E8-4061-895C-01AA4DEF4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EBCA2-D929-4FD2-9D86-B97B88BFA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197C-5DD9-41F9-A92A-16C2C2CA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5D73-BC74-40CF-9EBF-440BA6DE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FE4F-E06F-44C4-B2BE-DE82EAB9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8F27-C235-4DE1-B5FE-1E34C74F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EA95-D646-43DD-AD23-C045BF94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F5AE-9E62-461A-820E-8A543B3A3DAC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38A7-6AF1-4D9A-865C-D0649717CFC0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5C0C-528D-4194-8F6A-BB84F7FB27AA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25DD-F87A-4C9A-8A04-FDF695FAD453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rebuchet MS"/>
              </a:rPr>
              <a:t>Законодательный процесс в РФ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3714480" y="4786200"/>
            <a:ext cx="5429160" cy="1857600"/>
          </a:xfrm>
          <a:prstGeom prst="rect">
            <a:avLst/>
          </a:prstGeom>
          <a:noFill/>
          <a:ln w="9360">
            <a:solidFill>
              <a:srgbClr val="53548a"/>
            </a:solidFill>
            <a:miter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24456"/>
                </a:solidFill>
                <a:latin typeface="Georgia"/>
              </a:rPr>
              <a:t>Работу выполнил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24456"/>
                </a:solidFill>
                <a:latin typeface="Georgia"/>
              </a:rPr>
              <a:t>кадет 32 уч. группы  Михайлов Максим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24456"/>
                </a:solidFill>
                <a:latin typeface="Georgia"/>
              </a:rPr>
              <a:t>Руководитель: Клейменова Е.В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Содержимое 4" descr="962ef49009.jpg"/>
          <p:cNvPicPr/>
          <p:nvPr/>
        </p:nvPicPr>
        <p:blipFill>
          <a:blip r:embed="rId1"/>
          <a:stretch/>
        </p:blipFill>
        <p:spPr>
          <a:xfrm>
            <a:off x="1357200" y="285840"/>
            <a:ext cx="650088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85600" y="1000080"/>
            <a:ext cx="5329080" cy="1214640"/>
          </a:xfrm>
          <a:prstGeom prst="rect">
            <a:avLst/>
          </a:prstGeom>
          <a:solidFill>
            <a:srgbClr val="ffff00"/>
          </a:solidFill>
          <a:ln w="9360">
            <a:solidFill>
              <a:srgbClr val="53548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писок источнико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28400" y="3214800"/>
            <a:ext cx="8358120" cy="3525840"/>
          </a:xfrm>
          <a:prstGeom prst="rect">
            <a:avLst/>
          </a:prstGeom>
          <a:noFill/>
          <a:ln w="9360">
            <a:solidFill>
              <a:srgbClr val="53548a"/>
            </a:solidFill>
            <a:miter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ишенкова О.В. Обществознание. Учебник для 9 класса. – М.: Академкнига, 2010. Параграф 19-20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ttp://www.grandars.ru/college/pravovedenie/zakonodatelnyy-process.htm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ttp://images.yandex. ru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5640" y="785880"/>
            <a:ext cx="5829480" cy="1071360"/>
          </a:xfrm>
          <a:prstGeom prst="rect">
            <a:avLst/>
          </a:prstGeom>
          <a:solidFill>
            <a:srgbClr val="ffff00"/>
          </a:solidFill>
          <a:ln w="9360">
            <a:solidFill>
              <a:srgbClr val="53548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ЗАКОНОДАТЕЛЬНЫЙ ПРОЦЕСС</a:t>
            </a:r>
            <a:br>
              <a:rPr sz="3600"/>
            </a:b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13840" y="2249640"/>
            <a:ext cx="4429080" cy="3108240"/>
          </a:xfrm>
          <a:prstGeom prst="rect">
            <a:avLst/>
          </a:prstGeom>
          <a:noFill/>
          <a:ln w="9360">
            <a:solidFill>
              <a:srgbClr val="53548a"/>
            </a:solidFill>
            <a:miter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Законодательный процесс — процесс принятия и вступления в силу законов, начиная от внесения законопроекта и завершая опубликованием принятого закон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, — в России проходит следующие стадии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8" name="Содержимое 4" descr="2647439309.jpg"/>
          <p:cNvPicPr/>
          <p:nvPr/>
        </p:nvPicPr>
        <p:blipFill>
          <a:blip r:embed="rId1"/>
          <a:stretch/>
        </p:blipFill>
        <p:spPr>
          <a:xfrm>
            <a:off x="4572000" y="3083040"/>
            <a:ext cx="455616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53548a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Законодательная инициатив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9360">
            <a:solidFill>
              <a:srgbClr val="53548a"/>
            </a:solidFill>
            <a:miter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Это право определенных органов и должностных лиц ставить вопрос о принятии законов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на принадлежит Президенту РФ, Совету Федерации, членам Совета Федерации, депутатам Государственной Думы, Правительству РФ, законодательным органам субъектов Федерации, а также Конституционному, Верховному и Высшему Арбитражному Судам по вопросам их веден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1" name="Содержимое 4" descr="23c00f07d81934bc2927763219449434.jpg"/>
          <p:cNvPicPr/>
          <p:nvPr/>
        </p:nvPicPr>
        <p:blipFill>
          <a:blip r:embed="rId1"/>
          <a:stretch/>
        </p:blipFill>
        <p:spPr>
          <a:xfrm>
            <a:off x="4500720" y="2714760"/>
            <a:ext cx="4281480" cy="30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53548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Подготовка законопроектов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3" name="Содержимое 4" descr="image11389969_8bf0cc06683c40f8ac42dfc552812fe3.jpg"/>
          <p:cNvPicPr/>
          <p:nvPr/>
        </p:nvPicPr>
        <p:blipFill>
          <a:blip r:embed="rId1"/>
          <a:stretch/>
        </p:blipFill>
        <p:spPr>
          <a:xfrm>
            <a:off x="17640" y="2998800"/>
            <a:ext cx="4478040" cy="33591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648320" y="2428920"/>
            <a:ext cx="4038480" cy="4286160"/>
          </a:xfrm>
          <a:prstGeom prst="rect">
            <a:avLst/>
          </a:prstGeom>
          <a:noFill/>
          <a:ln w="9360">
            <a:solidFill>
              <a:srgbClr val="53548a"/>
            </a:solidFill>
            <a:miter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олжна начинаться с выявления социальных потребностей в создании правовых норм на основе всестороннего изучения общественной практики, научных данных, предложений государственных органов, политических партий и других общественных объединений, а также отдельных граждан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53548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Рассмотрение законопроектов </a:t>
            </a:r>
            <a:br>
              <a:rPr sz="3200"/>
            </a:b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в Государственной Думе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642760"/>
            <a:ext cx="4038480" cy="4132440"/>
          </a:xfrm>
          <a:prstGeom prst="rect">
            <a:avLst/>
          </a:prstGeom>
          <a:noFill/>
          <a:ln w="9360">
            <a:solidFill>
              <a:srgbClr val="53548a"/>
            </a:solidFill>
            <a:miter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оект, как правило, рассматривается трижды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первом чтении анализируются общие положения, во втором тщательно рассматриваются детали и вносятся поправки, в третьем чтении законопроект просто одобряется или не одобряется в цело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7" name="Содержимое 4" descr="duma_a55e1.jpg"/>
          <p:cNvPicPr/>
          <p:nvPr/>
        </p:nvPicPr>
        <p:blipFill>
          <a:blip r:embed="rId1"/>
          <a:stretch/>
        </p:blipFill>
        <p:spPr>
          <a:xfrm>
            <a:off x="4459320" y="3143160"/>
            <a:ext cx="46846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000440"/>
          </a:xfrm>
          <a:prstGeom prst="rect">
            <a:avLst/>
          </a:prstGeom>
          <a:solidFill>
            <a:srgbClr val="ffff00"/>
          </a:solidFill>
          <a:ln w="9360">
            <a:solidFill>
              <a:srgbClr val="53548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Принятие законов </a:t>
            </a:r>
            <a:br>
              <a:rPr sz="3200"/>
            </a:b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Государственной Думой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9" name="Содержимое 4" descr="186136564.jpg"/>
          <p:cNvPicPr/>
          <p:nvPr/>
        </p:nvPicPr>
        <p:blipFill>
          <a:blip r:embed="rId1"/>
          <a:stretch/>
        </p:blipFill>
        <p:spPr>
          <a:xfrm>
            <a:off x="66600" y="2602080"/>
            <a:ext cx="4576680" cy="31842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9360">
            <a:solidFill>
              <a:srgbClr val="53548a"/>
            </a:solidFill>
            <a:miter/>
          </a:ln>
        </p:spPr>
        <p:txBody>
          <a:bodyPr anchor="t">
            <a:normAutofit fontScale="94000"/>
          </a:bodyPr>
          <a:p>
            <a:pPr marL="343080" indent="-240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Федеральные законы принимаются простым большинством голосов, федеральные конституционные законы (о референдуме, чрезвычайном или военном положении, принятии в состав России нового субъекта) принимаются, если они одобрены двумя третями голосов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инятые законы в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пятидневный срок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ередаются на рассмотрение Совета Федераци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53548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Одобрение законов </a:t>
            </a:r>
            <a:br>
              <a:rPr sz="3200"/>
            </a:b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в Совете Федерации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2" name="Содержимое 4" descr="54828_image_large.jpg"/>
          <p:cNvPicPr/>
          <p:nvPr/>
        </p:nvPicPr>
        <p:blipFill>
          <a:blip r:embed="rId1"/>
          <a:stretch/>
        </p:blipFill>
        <p:spPr>
          <a:xfrm>
            <a:off x="270000" y="2643120"/>
            <a:ext cx="4444920" cy="3357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9360">
            <a:solidFill>
              <a:srgbClr val="53548a"/>
            </a:solidFill>
            <a:miter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Федеральные законы считаются одобренными, если за них проголосовали больше половины членов Совета Федерации. Федеральные конституционные законы одобряются, если за них проголосовали больше </a:t>
            </a:r>
            <a:r>
              <a:rPr b="0" lang="ru-RU" sz="20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Georgia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члено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Законы должны быть одобрены или отклонены в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двухнедельный срок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1138320"/>
          </a:xfrm>
          <a:prstGeom prst="rect">
            <a:avLst/>
          </a:prstGeom>
          <a:solidFill>
            <a:srgbClr val="ffff00"/>
          </a:solidFill>
          <a:ln w="9360">
            <a:solidFill>
              <a:srgbClr val="53548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Подписание законов</a:t>
            </a:r>
            <a:br>
              <a:rPr sz="3200"/>
            </a:b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 Президентом РФ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5" name="Содержимое 4" descr="1343716205371650023.jpeg"/>
          <p:cNvPicPr/>
          <p:nvPr/>
        </p:nvPicPr>
        <p:blipFill>
          <a:blip r:embed="rId1"/>
          <a:stretch/>
        </p:blipFill>
        <p:spPr>
          <a:xfrm>
            <a:off x="0" y="3786120"/>
            <a:ext cx="3840120" cy="3071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3857760" y="2285640"/>
            <a:ext cx="4829040" cy="4489560"/>
          </a:xfrm>
          <a:prstGeom prst="rect">
            <a:avLst/>
          </a:prstGeom>
          <a:noFill/>
          <a:ln w="9360">
            <a:solidFill>
              <a:srgbClr val="53548a"/>
            </a:solidFill>
            <a:miter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езидент РФ должен подписать или отклонить закон (наложить вето) в двухнедельный срок. Отклоненный закон возвращается в Государственную Думу на повторное рассмотрение и внесение поправок. Вето Президента РФ может быть преодолено, если за закон в ранее принятой редакции проголосует более </a:t>
            </a:r>
            <a:r>
              <a:rPr b="0" lang="ru-RU" sz="20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/з депутатов Государственной Думы и членов Совета Федерации. В этом случае Президент РФ будет обязан подписать закон в недельный срок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1138320"/>
          </a:xfrm>
          <a:prstGeom prst="rect">
            <a:avLst/>
          </a:prstGeom>
          <a:solidFill>
            <a:srgbClr val="ffff00"/>
          </a:solidFill>
          <a:ln w="9360">
            <a:solidFill>
              <a:srgbClr val="53548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Опубликование и обнародование закона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428920"/>
            <a:ext cx="4038480" cy="4346640"/>
          </a:xfrm>
          <a:prstGeom prst="rect">
            <a:avLst/>
          </a:prstGeom>
          <a:noFill/>
          <a:ln w="9360">
            <a:solidFill>
              <a:srgbClr val="53548a"/>
            </a:solidFill>
            <a:miter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Это помещение полного текста нормативного акта в общедоступном печатном издании, выпуск которого носит официальный характер. Публикуются законы в течение 10 дней после их подписания в «Собрании законодательства Российской Федерации», «Российской газете» и «Парламентской газете». Там же публикуются и другие российские нормативные акты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9" name="Содержимое 4" descr="07831aa9721b79b2d528f05f7863ae95_96f2786014136f736a04e589ba63c79e_132438597054_800px.jpg"/>
          <p:cNvPicPr/>
          <p:nvPr/>
        </p:nvPicPr>
        <p:blipFill>
          <a:blip r:embed="rId1"/>
          <a:stretch/>
        </p:blipFill>
        <p:spPr>
          <a:xfrm>
            <a:off x="6215040" y="3408480"/>
            <a:ext cx="2928960" cy="321768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5" descr="NFC819B580FA7.jpg"/>
          <p:cNvPicPr/>
          <p:nvPr/>
        </p:nvPicPr>
        <p:blipFill>
          <a:blip r:embed="rId2"/>
          <a:stretch/>
        </p:blipFill>
        <p:spPr>
          <a:xfrm>
            <a:off x="4591080" y="2357280"/>
            <a:ext cx="26240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13:23:27Z</dcterms:created>
  <dc:creator>Максим</dc:creator>
  <dc:description/>
  <dc:language>en-US</dc:language>
  <cp:lastModifiedBy>DNA7 X86</cp:lastModifiedBy>
  <dcterms:modified xsi:type="dcterms:W3CDTF">2013-03-21T16:03:39Z</dcterms:modified>
  <cp:revision>11</cp:revision>
  <dc:subject/>
  <dc:title>Законодательный процесс в РФ</dc:title>
</cp:coreProperties>
</file>