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70C-DD63-4903-B091-F70D2BC4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60D-B1AF-44B0-9612-6A622CC4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150-CA88-4FBC-967E-B6565792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C16-060B-4F4F-8295-F59D75C7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9CFD-03D6-4C8D-A333-93DE746C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5368-1357-4A43-B99B-E98E62F7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3417-A749-4BAF-B040-D9F8A7AD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24CD-21B8-4B5F-AC97-AD78D0ED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2365-F418-4E61-9A3B-AD89B975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15CC-7C00-4274-BC44-064B9C9C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55E5-5AFD-4E59-8B29-67D6C9D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A76-5389-4295-949E-42C56A17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FF65-79C8-4DDC-8443-9E6BAD10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2026-71E9-4ECD-9420-E8BB0748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F2F1-0011-48D2-99BA-286154FF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960C-566F-4555-BE0A-29B44BAE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2AAC-D77F-49C8-92D8-45FAC18C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C201C-E931-46BA-8B2A-3E0D1760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231A2-CD2D-4B01-B92D-BCB11451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0A22B-3A98-4CE1-AD96-701EADA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3AD02-7C49-44B7-9C69-0F74836A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B2FA9-6F17-4674-87EF-247CC30E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093-0F7C-42EE-91E1-1E07F241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2FD57-A613-44B2-B329-FC7FF137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9EDDC-9A41-4C2E-9046-6F58FF9A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169AB-906A-4F27-AC70-9AA6D162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6A6E4-A50B-4CB1-84A5-2DCF3FA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41744-B149-4E2A-ABAF-AB77FD70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DD335-89AF-4F86-A78C-165C50D2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13320-03A7-4D5D-A855-E8294E62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A747-EADE-4CE8-AD05-C03512E0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1994-7D65-4004-A26C-7BAD9869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00426-9D33-4AA2-9C0D-0BE89AEF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F33-CEFB-41A1-BF5C-68A44412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A7EDB-5F74-42BB-B623-4B9F85CC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41DBF-B47A-4705-BA36-C99EDD3D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4F42-553F-48AE-8C54-CEAD57BF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1D28-CE39-431E-9D04-6DFE876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AEC3-74D7-45B6-9B52-91431F61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FD29-74DE-4318-8C28-1E63B0F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75D0-D58B-4C34-AE3A-96F55F35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F83A-31C9-49B6-AC7C-61143882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23A00-4A82-48E7-BA9E-6E786EDA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3BB-1C3F-4DBA-90DD-C2C2C9DB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CD2-60C1-48A0-B955-4F479E05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EB0-0E10-4CFA-9E41-851EBCB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ACB-54AF-483E-8024-6726778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D25-9953-4FA8-859A-551865BE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A4EB-7411-4DE6-AD14-7117A99C437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AF03-B48C-47F3-B7F0-77113323AC9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8959-0057-4A9D-ACE7-0EC9C7742D1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4367-285E-4D31-9E7B-998DA7EE24C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Законодательный процесс в РФ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714480" y="4786200"/>
            <a:ext cx="5429160" cy="185760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456"/>
                </a:solidFill>
                <a:latin typeface="Georgia"/>
              </a:rPr>
              <a:t>Работу выполнил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456"/>
                </a:solidFill>
                <a:latin typeface="Georgia"/>
              </a:rPr>
              <a:t>кадет 32 уч. группы  Михайлов Макси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456"/>
                </a:solidFill>
                <a:latin typeface="Georgia"/>
              </a:rPr>
              <a:t>Руководитель: Клейменова Е.В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4" descr="962ef49009.jpg"/>
          <p:cNvPicPr/>
          <p:nvPr/>
        </p:nvPicPr>
        <p:blipFill>
          <a:blip r:embed="rId1"/>
          <a:stretch/>
        </p:blipFill>
        <p:spPr>
          <a:xfrm>
            <a:off x="1357200" y="285840"/>
            <a:ext cx="65008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85600" y="1000080"/>
            <a:ext cx="5329080" cy="121464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исок источник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400" y="3214800"/>
            <a:ext cx="8358120" cy="352584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ишенкова О.В. Обществознание. Учебник для 9 класса. – М.: Академкнига, 2010. Параграф 19-20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www.grandars.ru/college/pravovedenie/zakonodatelnyy-process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images.yandex. r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5640" y="785880"/>
            <a:ext cx="5829480" cy="107136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ЗАКОНОДАТЕЛЬНЫЙ ПРОЦЕСС</a:t>
            </a:r>
            <a:br>
              <a:rPr sz="36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13840" y="2249640"/>
            <a:ext cx="4429080" cy="310824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конодательный процесс — процесс принятия и вступления в силу законов, начиная от внесения законопроекта и завершая опубликованием принятого закон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— в России проходит следующие стади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Содержимое 4" descr="2647439309.jpg"/>
          <p:cNvPicPr/>
          <p:nvPr/>
        </p:nvPicPr>
        <p:blipFill>
          <a:blip r:embed="rId1"/>
          <a:stretch/>
        </p:blipFill>
        <p:spPr>
          <a:xfrm>
            <a:off x="4572000" y="3083040"/>
            <a:ext cx="45561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конодательная инициатив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право определенных органов и должностных лиц ставить вопрос о принятии закон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на принадлежит Президенту РФ, Совету Федерации, членам Совета Федерации, депутатам Государственной Думы, Правительству РФ, законодательным органам субъектов Федерации, а также Конституционному, Верховному и Высшему Арбитражному Судам по вопросам их вед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Содержимое 4" descr="23c00f07d81934bc2927763219449434.jpg"/>
          <p:cNvPicPr/>
          <p:nvPr/>
        </p:nvPicPr>
        <p:blipFill>
          <a:blip r:embed="rId1"/>
          <a:stretch/>
        </p:blipFill>
        <p:spPr>
          <a:xfrm>
            <a:off x="4500720" y="2714760"/>
            <a:ext cx="428148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Подготовка законопроекто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Содержимое 4" descr="image11389969_8bf0cc06683c40f8ac42dfc552812fe3.jpg"/>
          <p:cNvPicPr/>
          <p:nvPr/>
        </p:nvPicPr>
        <p:blipFill>
          <a:blip r:embed="rId1"/>
          <a:stretch/>
        </p:blipFill>
        <p:spPr>
          <a:xfrm>
            <a:off x="17640" y="2998800"/>
            <a:ext cx="4478040" cy="3359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48320" y="2428920"/>
            <a:ext cx="4038480" cy="428616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олжна начинаться с выявления социальных потребностей в создании правовых норм на основе всестороннего изучения общественной практики, научных данных, предложений государственных органов, политических партий и других общественных объединений, а также отдельных граждан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Рассмотрение законопроектов </a:t>
            </a: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 Государственной Дум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42760"/>
            <a:ext cx="4038480" cy="413244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ект, как правило, рассматривается трижд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первом чтении анализируются общие положения, во втором тщательно рассматриваются детали и вносятся поправки, в третьем чтении законопроект просто одобряется или не одобряется в цел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Содержимое 4" descr="duma_a55e1.jpg"/>
          <p:cNvPicPr/>
          <p:nvPr/>
        </p:nvPicPr>
        <p:blipFill>
          <a:blip r:embed="rId1"/>
          <a:stretch/>
        </p:blipFill>
        <p:spPr>
          <a:xfrm>
            <a:off x="4459320" y="3143160"/>
            <a:ext cx="4684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Принятие законов </a:t>
            </a: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Государственной Думой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Содержимое 4" descr="186136564.jpg"/>
          <p:cNvPicPr/>
          <p:nvPr/>
        </p:nvPicPr>
        <p:blipFill>
          <a:blip r:embed="rId1"/>
          <a:stretch/>
        </p:blipFill>
        <p:spPr>
          <a:xfrm>
            <a:off x="66600" y="2602080"/>
            <a:ext cx="4576680" cy="3184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едеральные законы принимаются простым большинством голосов, федеральные конституционные законы (о референдуме, чрезвычайном или военном положении, принятии в состав России нового субъекта) принимаются, если они одобрены двумя третями голос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нятые законы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ятидневный сро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едаются на рассмотрение Совета Федерац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Одобрение законов </a:t>
            </a: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 Совете Федераци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Содержимое 4" descr="54828_image_large.jpg"/>
          <p:cNvPicPr/>
          <p:nvPr/>
        </p:nvPicPr>
        <p:blipFill>
          <a:blip r:embed="rId1"/>
          <a:stretch/>
        </p:blipFill>
        <p:spPr>
          <a:xfrm>
            <a:off x="270000" y="2643120"/>
            <a:ext cx="4444920" cy="3357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едеральные законы считаются одобренными, если за них проголосовали больше половины членов Совета Федерации. Федеральные конституционные законы одобряются, если за них проголосовали больше 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член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коны должны быть одобрены или отклонены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вухнедельный сро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13832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Подписание законов</a:t>
            </a: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 Президентом РФ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Содержимое 4" descr="1343716205371650023.jpeg"/>
          <p:cNvPicPr/>
          <p:nvPr/>
        </p:nvPicPr>
        <p:blipFill>
          <a:blip r:embed="rId1"/>
          <a:stretch/>
        </p:blipFill>
        <p:spPr>
          <a:xfrm>
            <a:off x="0" y="3786120"/>
            <a:ext cx="3840120" cy="3071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857760" y="2285640"/>
            <a:ext cx="4829040" cy="448956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зидент РФ должен подписать или отклонить закон (наложить вето) в двухнедельный срок. Отклоненный закон возвращается в Государственную Думу на повторное рассмотрение и внесение поправок. Вето Президента РФ может быть преодолено, если за закон в ранее принятой редакции проголосует более 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/з депутатов Государственной Думы и членов Совета Федерации. В этом случае Президент РФ будет обязан подписать закон в недельный сро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138320"/>
          </a:xfrm>
          <a:prstGeom prst="rect">
            <a:avLst/>
          </a:prstGeom>
          <a:solidFill>
            <a:srgbClr val="ffff00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Опубликование и обнародование закона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428920"/>
            <a:ext cx="4038480" cy="4346640"/>
          </a:xfrm>
          <a:prstGeom prst="rect">
            <a:avLst/>
          </a:prstGeom>
          <a:noFill/>
          <a:ln w="9360">
            <a:solidFill>
              <a:srgbClr val="53548a"/>
            </a:solidFill>
            <a:miter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помещение полного текста нормативного акта в общедоступном печатном издании, выпуск которого носит официальный характер. Публикуются законы в течение 10 дней после их подписания в «Собрании законодательства Российской Федерации», «Российской газете» и «Парламентской газете». Там же публикуются и другие российские нормативные акт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Содержимое 4" descr="07831aa9721b79b2d528f05f7863ae95_96f2786014136f736a04e589ba63c79e_132438597054_800px.jpg"/>
          <p:cNvPicPr/>
          <p:nvPr/>
        </p:nvPicPr>
        <p:blipFill>
          <a:blip r:embed="rId1"/>
          <a:stretch/>
        </p:blipFill>
        <p:spPr>
          <a:xfrm>
            <a:off x="6215040" y="3408480"/>
            <a:ext cx="2928960" cy="32176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5" descr="NFC819B580FA7.jpg"/>
          <p:cNvPicPr/>
          <p:nvPr/>
        </p:nvPicPr>
        <p:blipFill>
          <a:blip r:embed="rId2"/>
          <a:stretch/>
        </p:blipFill>
        <p:spPr>
          <a:xfrm>
            <a:off x="4591080" y="2357280"/>
            <a:ext cx="2624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3:23:27Z</dcterms:created>
  <dc:creator>Максим</dc:creator>
  <dc:description/>
  <dc:language>en-US</dc:language>
  <cp:lastModifiedBy>DNA7 X86</cp:lastModifiedBy>
  <dcterms:modified xsi:type="dcterms:W3CDTF">2013-03-21T16:03:39Z</dcterms:modified>
  <cp:revision>11</cp:revision>
  <dc:subject/>
  <dc:title>Законодательный процесс в РФ</dc:title>
</cp:coreProperties>
</file>