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C5E9-F9AE-43DD-9884-1CAB94884B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D2AE-0A3F-458F-85D5-F59625797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8A6-A834-4E9E-92C1-6168288D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92B-A521-4539-B906-0565FA1D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D3A-7C52-4990-A196-51DF4609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838-7FDD-4DB1-ADB6-BBB3503E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A7F-412A-43D7-8083-91577B35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5B4-4D7C-4265-B81C-6E31E6E7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3C8-E85E-4EA4-B0D5-86C525FC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F3A-E167-4F3B-9791-3E01E4AA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C52-A427-4F35-9690-45BDDCCF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B94-E9A4-4A82-BD35-38461D3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6AC-1983-4259-8302-14C6C848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AC7-90CE-4EE5-B19F-2DE5AC0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6533-18ED-4DBE-AEB2-885B23BB1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astellar"/>
              </a:rPr>
              <a:t>ЧУДО-ЁЛОЧКА</a:t>
            </a:r>
            <a:br>
              <a:rPr sz="6000"/>
            </a:br>
            <a:r>
              <a:rPr b="0" lang="en-US" sz="4000" spc="-1" strike="noStrike">
                <a:solidFill>
                  <a:srgbClr val="006600"/>
                </a:solidFill>
                <a:latin typeface="Castellar"/>
              </a:rPr>
              <a:t>(поэтапное выполнение новогодней поделк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66480" y="62866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f1de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mbria"/>
              </a:rPr>
              <a:t>Последовательно соберите ёлоч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583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Сверху получившейся ёлочки прикрепи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конус из бумаги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rcRect l="33415" t="0" r="31234" b="39199"/>
          <a:stretch/>
        </p:blipFill>
        <p:spPr>
          <a:xfrm>
            <a:off x="2987640" y="2071800"/>
            <a:ext cx="3024360" cy="308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rcRect l="3125" t="0" r="6240" b="0"/>
          <a:stretch/>
        </p:blipFill>
        <p:spPr>
          <a:xfrm>
            <a:off x="1619280" y="476280"/>
            <a:ext cx="62658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Для выполнения работы понадоби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ветная бумага зелёного ц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ол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рку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1890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С помощью циркуля и линейки начерти на листе бумаги вот такую фигуру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366480" y="642924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f1de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778960" y="-19080"/>
            <a:ext cx="371520" cy="688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rcRect l="2159" t="0" r="25634" b="3232"/>
          <a:stretch/>
        </p:blipFill>
        <p:spPr>
          <a:xfrm>
            <a:off x="1979640" y="148428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Размеры и количество деталей ёлоч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 деталь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=7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2, 3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=6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4, 5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5,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6, 7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8 деталь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4,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9, 10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4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1деталь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3,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2, 13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4, 15 детали –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2,5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931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Вырежи заготовку по кругу и сделай надрезы до внутреннего круга.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rcRect l="2015" t="0" r="1305" b="0"/>
          <a:stretch/>
        </p:blipFill>
        <p:spPr>
          <a:xfrm>
            <a:off x="1403280" y="1125360"/>
            <a:ext cx="6913800" cy="54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Каждый сектор круга склей в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фунтик-лепесток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611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Переверни готовую детал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908000" y="1268280"/>
            <a:ext cx="6048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libri"/>
              </a:rPr>
              <a:t>В центре заготовки проделай отверстие иглой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rcRect l="0" t="0" r="1110" b="0"/>
          <a:stretch/>
        </p:blipFill>
        <p:spPr>
          <a:xfrm>
            <a:off x="1476360" y="1514520"/>
            <a:ext cx="64803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Для основы ёлки используй проволоку свернутую таким образом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195640" y="1600200"/>
            <a:ext cx="5256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8:36:00Z</dcterms:created>
  <dc:creator>Ольга</dc:creator>
  <dc:description/>
  <dc:language>en-US</dc:language>
  <cp:lastModifiedBy>Татьяна</cp:lastModifiedBy>
  <dcterms:modified xsi:type="dcterms:W3CDTF">2011-12-18T14:56:29Z</dcterms:modified>
  <cp:revision>14</cp:revision>
  <dc:subject/>
  <dc:title>Слайд 1</dc:title>
</cp:coreProperties>
</file>