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270C-AB18-4A69-B9FC-EE4FB22335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54C9-3135-4DA7-8F9C-67E6994794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84D4-70BA-49C3-A0DB-A9B5CEAC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40E4-EBE2-4825-B46E-60991361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18BC-FF2F-4C60-8407-905EF5F36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903D-DAB7-4AC9-85DA-03CFE46CC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8825-DC63-43E2-B6FC-86026B30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E432-1047-4B3F-B81E-7D78516D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13EA-C6E6-4186-929E-0F021903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C2BE-B19F-4EAD-A026-B06FE06D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4826-B5DB-42CB-9F62-459B6B2F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9315-8C1E-4D01-B28D-215954DA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0EE9-0EB8-4DF1-BB05-C86487FE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8F30-29DC-4CAF-9F3E-503EECAD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72F7-77CE-499C-BCE5-FC3058F68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Castellar"/>
              </a:rPr>
              <a:t>ЧУДО-ЁЛОЧКА</a:t>
            </a:r>
            <a:br>
              <a:rPr sz="6000"/>
            </a:br>
            <a:r>
              <a:rPr b="0" lang="en-US" sz="4000" spc="-1" strike="noStrike">
                <a:solidFill>
                  <a:srgbClr val="006600"/>
                </a:solidFill>
                <a:latin typeface="Castellar"/>
              </a:rPr>
              <a:t>(поэтапное выполнение новогодней поделки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366480" y="6286680"/>
            <a:ext cx="96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f1de"/>
                </a:solidFill>
                <a:latin typeface="Calibri"/>
              </a:rPr>
              <a:t>http://aida.ucoz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ambria"/>
              </a:rPr>
              <a:t>Последовательно соберите ёлочк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1619280" y="1628640"/>
            <a:ext cx="5832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alibri"/>
              </a:rPr>
              <a:t>Сверху получившейся ёлочки прикрепи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Calibri"/>
              </a:rPr>
              <a:t>конус из бумаги.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2"/>
          <a:srcRect l="33415" t="0" r="31234" b="39199"/>
          <a:stretch/>
        </p:blipFill>
        <p:spPr>
          <a:xfrm>
            <a:off x="2987640" y="2071800"/>
            <a:ext cx="3024360" cy="3085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2"/>
          <a:srcRect l="3125" t="0" r="6240" b="0"/>
          <a:stretch/>
        </p:blipFill>
        <p:spPr>
          <a:xfrm>
            <a:off x="1619280" y="476280"/>
            <a:ext cx="62658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Для выполнения работы понадобитс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5856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ветная бумага зелёного цв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ол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жниц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ирку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ней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ранда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4240" y="1890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С помощью циркуля и линейки начерти на листе бумаги вот такую фигуру.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7"/>
          <p:cNvSpPr/>
          <p:nvPr/>
        </p:nvSpPr>
        <p:spPr>
          <a:xfrm>
            <a:off x="366480" y="6429240"/>
            <a:ext cx="96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f1de"/>
                </a:solidFill>
                <a:latin typeface="Calibri"/>
              </a:rPr>
              <a:t>http://aida.ucoz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8778960" y="-19080"/>
            <a:ext cx="371520" cy="688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3"/>
          <a:srcRect l="2159" t="0" r="25634" b="3232"/>
          <a:stretch/>
        </p:blipFill>
        <p:spPr>
          <a:xfrm>
            <a:off x="1979640" y="1484280"/>
            <a:ext cx="5184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Размеры и количество деталей ёлочк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1 деталь –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=7 с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2, 3 детали –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=6 с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4, 5 детали –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R=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5,5 с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6, 7 детали –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R=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5 с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8 деталь –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R=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4,5 с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9, 10 детали –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R=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4 с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11деталь –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R=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3,5 с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12, 13 детали –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R=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3 с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14, 15 детали –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R=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2,5 с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931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alibri"/>
              </a:rPr>
              <a:t>Вырежи заготовку по кругу и сделай надрезы до внутреннего круга.</a:t>
            </a:r>
            <a:br>
              <a:rPr sz="36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2"/>
          <a:srcRect l="2015" t="0" r="1305" b="0"/>
          <a:stretch/>
        </p:blipFill>
        <p:spPr>
          <a:xfrm>
            <a:off x="1403280" y="1125360"/>
            <a:ext cx="6913800" cy="543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Каждый сектор круга склей в 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фунтик-лепесток.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1692360" y="1413000"/>
            <a:ext cx="61196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alibri"/>
              </a:rPr>
              <a:t>Переверни готовую детал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1908000" y="1268280"/>
            <a:ext cx="60487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alibri"/>
              </a:rPr>
              <a:t>В центре заготовки проделай отверстие иглой.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2"/>
          <a:srcRect l="0" t="0" r="1110" b="0"/>
          <a:stretch/>
        </p:blipFill>
        <p:spPr>
          <a:xfrm>
            <a:off x="1476360" y="1514520"/>
            <a:ext cx="648036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Для основы ёлки используй проволоку свернутую таким образом: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2195640" y="1600200"/>
            <a:ext cx="52560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18:36:00Z</dcterms:created>
  <dc:creator>Ольга</dc:creator>
  <dc:description/>
  <dc:language>en-US</dc:language>
  <cp:lastModifiedBy>Татьяна</cp:lastModifiedBy>
  <dcterms:modified xsi:type="dcterms:W3CDTF">2011-12-18T14:56:29Z</dcterms:modified>
  <cp:revision>14</cp:revision>
  <dc:subject/>
  <dc:title>Слайд 1</dc:title>
</cp:coreProperties>
</file>