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20.gif" ContentType="image/gif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gif" ContentType="image/gif"/>
  <Override PartName="/ppt/media/image3.png" ContentType="image/png"/>
  <Override PartName="/ppt/media/image23.gif" ContentType="image/gif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F70-143F-4B58-B96C-A26EC3C7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DED-AF07-419D-8F7F-D6CDDD85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4F6-B840-49D2-A750-EFDF6A6C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9EF-DC25-44E3-8081-4D289DD1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F88-8976-486B-A5C1-3F3370AD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98B-3906-41EF-91C3-21DE1AC7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5C8-D110-406D-9B80-FC11FE51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5F2-5747-4D26-AC5F-046248A1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2B8-B134-463F-B6DD-55032FF2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8B8-A908-4FEC-9189-62EE0D21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0C7-C56A-4A5C-9AB5-C1302A76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2E4-2BD0-4937-A90E-50F0DEB6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72423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0d9d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572423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0d9d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solidFill>
            <a:srgbClr val="572423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0d9d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solidFill>
            <a:srgbClr val="572423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0d9d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solidFill>
            <a:srgbClr val="572423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0d9d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6752-5656-4F13-B77C-72327F6B5481}" type="slidenum">
              <a:rPr b="0" lang="en-US" sz="1200" spc="-1" strike="noStrike">
                <a:solidFill>
                  <a:srgbClr val="0d0d0d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41715e74ef3bbce55c5f7c38e476bfe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5386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"/>
          <p:cNvSpPr/>
          <p:nvPr/>
        </p:nvSpPr>
        <p:spPr>
          <a:xfrm>
            <a:off x="76320" y="5486400"/>
            <a:ext cx="8991360" cy="2200320"/>
          </a:xfrm>
          <a:custGeom>
            <a:avLst/>
            <a:gdLst>
              <a:gd name="textAreaLeft" fmla="*/ 0 w 8991360"/>
              <a:gd name="textAreaRight" fmla="*/ 8991720 w 8991360"/>
              <a:gd name="textAreaTop" fmla="*/ 0 h 2200320"/>
              <a:gd name="textAreaBottom" fmla="*/ 2200680 h 2200320"/>
            </a:gdLst>
            <a:ahLst/>
            <a:rect l="textAreaLeft" t="textAreaTop" r="textAreaRight" b="textAreaBottom"/>
            <a:pathLst>
              <a:path w="5037" h="1194">
                <a:moveTo>
                  <a:pt x="110" y="0"/>
                </a:moveTo>
                <a:cubicBezTo>
                  <a:pt x="118" y="424"/>
                  <a:pt x="0" y="344"/>
                  <a:pt x="313" y="359"/>
                </a:cubicBezTo>
                <a:cubicBezTo>
                  <a:pt x="345" y="361"/>
                  <a:pt x="376" y="364"/>
                  <a:pt x="408" y="366"/>
                </a:cubicBezTo>
                <a:cubicBezTo>
                  <a:pt x="454" y="385"/>
                  <a:pt x="487" y="400"/>
                  <a:pt x="537" y="407"/>
                </a:cubicBezTo>
                <a:cubicBezTo>
                  <a:pt x="855" y="502"/>
                  <a:pt x="1201" y="416"/>
                  <a:pt x="1533" y="420"/>
                </a:cubicBezTo>
                <a:cubicBezTo>
                  <a:pt x="1589" y="421"/>
                  <a:pt x="1646" y="426"/>
                  <a:pt x="1702" y="427"/>
                </a:cubicBezTo>
                <a:cubicBezTo>
                  <a:pt x="1964" y="431"/>
                  <a:pt x="2227" y="432"/>
                  <a:pt x="2489" y="434"/>
                </a:cubicBezTo>
                <a:cubicBezTo>
                  <a:pt x="3329" y="432"/>
                  <a:pt x="4778" y="1194"/>
                  <a:pt x="5009" y="386"/>
                </a:cubicBezTo>
                <a:cubicBezTo>
                  <a:pt x="5017" y="285"/>
                  <a:pt x="5037" y="218"/>
                  <a:pt x="5016" y="109"/>
                </a:cubicBezTo>
                <a:cubicBezTo>
                  <a:pt x="5014" y="100"/>
                  <a:pt x="4998" y="105"/>
                  <a:pt x="4989" y="102"/>
                </a:cubicBezTo>
                <a:cubicBezTo>
                  <a:pt x="4918" y="75"/>
                  <a:pt x="5004" y="99"/>
                  <a:pt x="4935" y="81"/>
                </a:cubicBezTo>
                <a:cubicBezTo>
                  <a:pt x="4807" y="87"/>
                  <a:pt x="4688" y="107"/>
                  <a:pt x="4562" y="129"/>
                </a:cubicBezTo>
                <a:cubicBezTo>
                  <a:pt x="3302" y="127"/>
                  <a:pt x="2041" y="127"/>
                  <a:pt x="781" y="122"/>
                </a:cubicBezTo>
                <a:cubicBezTo>
                  <a:pt x="739" y="122"/>
                  <a:pt x="694" y="82"/>
                  <a:pt x="652" y="81"/>
                </a:cubicBezTo>
                <a:cubicBezTo>
                  <a:pt x="539" y="79"/>
                  <a:pt x="426" y="77"/>
                  <a:pt x="313" y="75"/>
                </a:cubicBezTo>
                <a:cubicBezTo>
                  <a:pt x="242" y="63"/>
                  <a:pt x="170" y="40"/>
                  <a:pt x="110" y="0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28600" y="5730480"/>
            <a:ext cx="1174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декабря, в Юрьев день отмеч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ый празд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52280" y="305280"/>
            <a:ext cx="8991720" cy="3080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героические подвиги в Великой Отечестве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йне звания Героя Советского Союза удосто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ыше 11 тыс. человек (часть – посмертно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них 104 – дважды, трое – трижды (Г. К. Жу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 Н. Кожедуб и А. И. Покрышкин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windowslivewriter868b2c63da3f-462749"/>
          <p:cNvPicPr/>
          <p:nvPr/>
        </p:nvPicPr>
        <p:blipFill>
          <a:blip r:embed="rId1"/>
          <a:srcRect l="0" t="19641" r="0" b="8926"/>
          <a:stretch/>
        </p:blipFill>
        <p:spPr>
          <a:xfrm>
            <a:off x="1600200" y="3276720"/>
            <a:ext cx="662940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4496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Среди военнослужащих, удостоенных звания Героя Советского Союза, рядовых, сержантов, старшин — свыше 35%, офицеров — около 60%, генералов, адмиралов, маршалов — свыше 380 человек. 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70" name="Picture 5" descr="20071209115709"/>
          <p:cNvPicPr/>
          <p:nvPr/>
        </p:nvPicPr>
        <p:blipFill>
          <a:blip r:embed="rId1"/>
          <a:stretch/>
        </p:blipFill>
        <p:spPr>
          <a:xfrm>
            <a:off x="297180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04920" y="-106560"/>
            <a:ext cx="4267440" cy="69642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Около 35% Героев Советского Союза в момент присвоения звания были в возрасте до 30 лет, 28% — от 30 до 40 лет, 9% — старше 40 лет.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72" name="Picture 5" descr="160_4_69"/>
          <p:cNvPicPr/>
          <p:nvPr/>
        </p:nvPicPr>
        <p:blipFill>
          <a:blip r:embed="rId1"/>
          <a:srcRect l="6747" t="0" r="20231" b="0"/>
          <a:stretch/>
        </p:blipFill>
        <p:spPr>
          <a:xfrm>
            <a:off x="4038480" y="144360"/>
            <a:ext cx="4953240" cy="671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t"/>
          <p:cNvPicPr/>
          <p:nvPr/>
        </p:nvPicPr>
        <p:blipFill>
          <a:blip r:embed="rId2"/>
          <a:stretch/>
        </p:blipFill>
        <p:spPr>
          <a:xfrm>
            <a:off x="457200" y="2057400"/>
            <a:ext cx="1095480" cy="138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t"/>
          <p:cNvPicPr/>
          <p:nvPr/>
        </p:nvPicPr>
        <p:blipFill>
          <a:blip r:embed="rId3"/>
          <a:stretch/>
        </p:blipFill>
        <p:spPr>
          <a:xfrm>
            <a:off x="4024440" y="2738520"/>
            <a:ext cx="1095120" cy="138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t"/>
          <p:cNvPicPr/>
          <p:nvPr/>
        </p:nvPicPr>
        <p:blipFill>
          <a:blip r:embed="rId4"/>
          <a:stretch/>
        </p:blipFill>
        <p:spPr>
          <a:xfrm>
            <a:off x="4024440" y="2738520"/>
            <a:ext cx="1095120" cy="1380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t"/>
          <p:cNvPicPr/>
          <p:nvPr/>
        </p:nvPicPr>
        <p:blipFill>
          <a:blip r:embed="rId5"/>
          <a:stretch/>
        </p:blipFill>
        <p:spPr>
          <a:xfrm>
            <a:off x="4495680" y="5257800"/>
            <a:ext cx="1095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63_2605"/>
          <p:cNvPicPr/>
          <p:nvPr/>
        </p:nvPicPr>
        <p:blipFill>
          <a:blip r:embed="rId1"/>
          <a:stretch/>
        </p:blipFill>
        <p:spPr>
          <a:xfrm>
            <a:off x="609480" y="1477800"/>
            <a:ext cx="8077320" cy="5380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17524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Есть в России праздники, родственные Дню Героев Отечества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382240" cy="556272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21 сентября отмечается День воинской славы России — День победы русских полков во главе с великим князем Дмитрием Донским над монголо-татарскими войсками в Куликовской битве в 1380 году. Страшные бедствия принесло татаро-монгольское иго нашей стране... 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80" name="Picture 5" descr="r"/>
          <p:cNvPicPr/>
          <p:nvPr/>
        </p:nvPicPr>
        <p:blipFill>
          <a:blip r:embed="rId1"/>
          <a:stretch/>
        </p:blipFill>
        <p:spPr>
          <a:xfrm>
            <a:off x="3962520" y="4495680"/>
            <a:ext cx="1968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34592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Полтавская битва — решающий эпизод Великой Северной войны, состоялась 8 июля (27 июня по старому стилю) 1709 года. В ней участвовали русская армия Петра I и шведская армия Карла XII 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82" name="Picture 5" descr=";"/>
          <p:cNvPicPr/>
          <p:nvPr/>
        </p:nvPicPr>
        <p:blipFill>
          <a:blip r:embed="rId1"/>
          <a:stretch/>
        </p:blipFill>
        <p:spPr>
          <a:xfrm>
            <a:off x="4191120" y="3962520"/>
            <a:ext cx="1736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58672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В соответствии с Федеральным законом № 32-ФЗ «О днях воинской славы и памятных датах России» от 13 марта 1995 года 9 августа — День воинской славы России — День первой в российской истории морской победы русского флота под командованием Петра I над шведами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84" name="Picture 5" descr="'"/>
          <p:cNvPicPr/>
          <p:nvPr/>
        </p:nvPicPr>
        <p:blipFill>
          <a:blip r:embed="rId1"/>
          <a:stretch/>
        </p:blipFill>
        <p:spPr>
          <a:xfrm>
            <a:off x="3035160" y="3048120"/>
            <a:ext cx="317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47242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День взятия турецкой крепости Измаил русскими войсками под командованием Александра Васильевича Суворова (1790 год). Установлен Федеральным законом от 13.03.95 N 32-ФЗ «О днях воинской славы (победных днях) России». 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86" name="Picture 6" descr="icon_a280"/>
          <p:cNvPicPr/>
          <p:nvPr/>
        </p:nvPicPr>
        <p:blipFill>
          <a:blip r:embed="rId1"/>
          <a:stretch/>
        </p:blipFill>
        <p:spPr>
          <a:xfrm>
            <a:off x="4098960" y="1847880"/>
            <a:ext cx="947880" cy="3162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icon_a280"/>
          <p:cNvPicPr/>
          <p:nvPr/>
        </p:nvPicPr>
        <p:blipFill>
          <a:blip r:embed="rId2"/>
          <a:stretch/>
        </p:blipFill>
        <p:spPr>
          <a:xfrm>
            <a:off x="3048120" y="373392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589752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11 сентября отмечается очередной День воинской славы России — День победы русской эскадры контр-адмирала Федора Ушакова над турецкой эскадрой у мыса Тендра. Он учрежден Федеральным законом № 32-ФЗ от 10 февраля 1995 года «О днях воинской славы и памятных датах России»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89" name="Picture 5" descr="m"/>
          <p:cNvPicPr/>
          <p:nvPr/>
        </p:nvPicPr>
        <p:blipFill>
          <a:blip r:embed="rId1"/>
          <a:stretch/>
        </p:blipFill>
        <p:spPr>
          <a:xfrm>
            <a:off x="4038480" y="4191120"/>
            <a:ext cx="2222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mjgiste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1945"/>
          <p:cNvPicPr/>
          <p:nvPr/>
        </p:nvPicPr>
        <p:blipFill>
          <a:blip r:embed="rId2"/>
          <a:stretch/>
        </p:blipFill>
        <p:spPr>
          <a:xfrm>
            <a:off x="304920" y="4614840"/>
            <a:ext cx="85150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05560" cy="4983120"/>
          </a:xfrm>
          <a:prstGeom prst="rect">
            <a:avLst/>
          </a:prstGeom>
          <a:blipFill rotWithShape="0">
            <a:blip r:embed="rId1">
              <a:alphaModFix amt="40000"/>
            </a:blip>
            <a:stretch/>
          </a:blip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rebuchet MS"/>
              </a:rPr>
              <a:t>Москва, 16 Февраля 2007 Госдума приняла в третьем чтении проект федерального закона «О внесении изменения в статью 11 Федерального закона «О днях воинской славы и памятных датах России» об установлении памятной даты России – День героя Отечества. Новый праздник решено отмечать 9 декабря.</a:t>
            </a: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45" name="Picture 5" descr="12ч"/>
          <p:cNvPicPr/>
          <p:nvPr/>
        </p:nvPicPr>
        <p:blipFill>
          <a:blip r:embed="rId2"/>
          <a:stretch/>
        </p:blipFill>
        <p:spPr>
          <a:xfrm>
            <a:off x="1828800" y="525780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12ч"/>
          <p:cNvPicPr/>
          <p:nvPr/>
        </p:nvPicPr>
        <p:blipFill>
          <a:blip r:embed="rId3"/>
          <a:stretch/>
        </p:blipFill>
        <p:spPr>
          <a:xfrm>
            <a:off x="4233960" y="3076560"/>
            <a:ext cx="676080" cy="70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12ч"/>
          <p:cNvPicPr/>
          <p:nvPr/>
        </p:nvPicPr>
        <p:blipFill>
          <a:blip r:embed="rId4"/>
          <a:stretch/>
        </p:blipFill>
        <p:spPr>
          <a:xfrm>
            <a:off x="6858000" y="457200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2ч"/>
          <p:cNvPicPr/>
          <p:nvPr/>
        </p:nvPicPr>
        <p:blipFill>
          <a:blip r:embed="rId5"/>
          <a:stretch/>
        </p:blipFill>
        <p:spPr>
          <a:xfrm>
            <a:off x="4724280" y="396252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12ч"/>
          <p:cNvPicPr/>
          <p:nvPr/>
        </p:nvPicPr>
        <p:blipFill>
          <a:blip r:embed="rId6"/>
          <a:stretch/>
        </p:blipFill>
        <p:spPr>
          <a:xfrm>
            <a:off x="4952880" y="327672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12ч"/>
          <p:cNvPicPr/>
          <p:nvPr/>
        </p:nvPicPr>
        <p:blipFill>
          <a:blip r:embed="rId7"/>
          <a:stretch/>
        </p:blipFill>
        <p:spPr>
          <a:xfrm>
            <a:off x="1981080" y="541008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12ч"/>
          <p:cNvPicPr/>
          <p:nvPr/>
        </p:nvPicPr>
        <p:blipFill>
          <a:blip r:embed="rId8"/>
          <a:stretch/>
        </p:blipFill>
        <p:spPr>
          <a:xfrm>
            <a:off x="3886200" y="5410080"/>
            <a:ext cx="676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C 0.00972 -0.17501 0.01962 -0.35001 0.05243 -0.42154 C 0.08524 -0.49306 0.1651 -0.44677 0.19653 -0.42941 E">
                                      <p:cBhvr>
                                        <p:cTn id="6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8.51852E-006 C -0.03871 -0.33427 -0.07725 -0.66829 -0.14184 -0.72547 C -0.20642 -0.78311 -0.3434 -0.42038 -0.38715 -0.34422 E">
                                      <p:cBhvr>
                                        <p:cTn id="10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7.40741E-007 C -0.0514 -0.26482 -0.10261 -0.52963 -0.08612 -0.6125 C -0.06962 -0.69537 0.06718 -0.56505 0.09878 -0.49769 C 0.1302 -0.43033 0.09565 -0.29445 0.10208 -0.20787 C 0.1085 -0.1213 0.12083 -0.03033 0.13715 0.02153 C 0.15347 0.07338 0.18697 0.09074 0.19999 0.1037 E">
                                      <p:cBhvr>
                                        <p:cTn id="13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67 -0.12222 C -0.08819 -0.27037 -0.08472 -0.41829 -0.01389 -0.40278 C 0.05694 -0.38727 0.27535 -0.11019 0.33385 -0.02917 C 0.39236 0.05185 0.33576 0.06273 0.33733 0.08403 E">
                                      <p:cBhvr>
                                        <p:cTn id="16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8640" y="153360"/>
            <a:ext cx="6075720" cy="39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кабрьская дата приуроч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выдающемуся событ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похи правления императри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катерины II — в 1769 году 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редила орден Святого Гео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бедоносца. В те годы эт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деном награждались вои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явившие в бою добле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агу и смел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order_b"/>
          <p:cNvPicPr/>
          <p:nvPr/>
        </p:nvPicPr>
        <p:blipFill>
          <a:blip r:embed="rId1"/>
          <a:stretch/>
        </p:blipFill>
        <p:spPr>
          <a:xfrm>
            <a:off x="5667480" y="2286000"/>
            <a:ext cx="3476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320" y="0"/>
            <a:ext cx="7696080" cy="685800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Орден Святого Георгия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Победоносца – высшая 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воинская награда, был 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учрежден указом 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Екатериной II 26 ноября 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1769 года. Им награждали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воинов, проявивших в бою «неудержимую отвагу, 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Georgia"/>
              </a:rPr>
              <a:t>смелость и находчивость» и совершивших «отличный воинский подвиг, венчанный полным успехом и доставивший явную пользу».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pic>
        <p:nvPicPr>
          <p:cNvPr id="55" name="Picture 5" descr="georgiy_25"/>
          <p:cNvPicPr/>
          <p:nvPr/>
        </p:nvPicPr>
        <p:blipFill>
          <a:blip r:embed="rId1"/>
          <a:stretch/>
        </p:blipFill>
        <p:spPr>
          <a:xfrm>
            <a:off x="5780160" y="0"/>
            <a:ext cx="3316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705720" cy="6858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 статусе ордена былосказано: «Ни высокий род, ни прежние заслуги, ни полученные в 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ражениях раны не приемлются в 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важение при удостоении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 ордену Святого Георгия за воинские подвиги. 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достаивается же оного единственно тот, кто не только обязанность свою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сполнял во всем по присяге, чести и долгу, но сверх сего ознаменовал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ебя на пользу и славу Российского оружия особенным отличием».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</p:txBody>
      </p:sp>
      <p:pic>
        <p:nvPicPr>
          <p:cNvPr id="57" name="Picture 4" descr="n31681"/>
          <p:cNvPicPr/>
          <p:nvPr/>
        </p:nvPicPr>
        <p:blipFill>
          <a:blip r:embed="rId1"/>
          <a:srcRect l="21848" t="0" r="21163" b="0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0" y="3217680"/>
            <a:ext cx="9144000" cy="3354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ден Святого Георгия имел 4 степени отлич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которых первая была наивысш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вестно, что кавалерами всех четырех степе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и 4 человека, среди которых великие рус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ководцы М. И. Кутузов и М. Б. Барклай-д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ли. Екатерина II удостоила и себя эт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грады в честь учреждения орде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bimg223633"/>
          <p:cNvPicPr/>
          <p:nvPr/>
        </p:nvPicPr>
        <p:blipFill>
          <a:blip r:embed="rId1"/>
          <a:stretch/>
        </p:blipFill>
        <p:spPr>
          <a:xfrm>
            <a:off x="1905120" y="-4762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0" y="3179880"/>
            <a:ext cx="4862520" cy="4572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5084"/>
          <p:cNvPicPr/>
          <p:nvPr/>
        </p:nvPicPr>
        <p:blipFill>
          <a:blip r:embed="rId1"/>
          <a:stretch/>
        </p:blipFill>
        <p:spPr>
          <a:xfrm>
            <a:off x="2895480" y="0"/>
            <a:ext cx="63500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-76320" y="-141120"/>
            <a:ext cx="586764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Праздник Георгиевских кавале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широко отмечался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российском обществ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в этот день чествовал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всех кавалер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Георгиевских отличий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от таких прославленны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людей как Александр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Суворов, Григор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Потемкин, Михаи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Кутузова д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простых солдат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матросов и казаков, награжденны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Георгиевским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крестами и медал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228600"/>
            <a:ext cx="9144000" cy="2226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евики отменили эт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здник и упраздн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ден, как государственную нагр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ус ордена был восстановлен л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00 го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vovkgeroirossyi"/>
          <p:cNvPicPr/>
          <p:nvPr/>
        </p:nvPicPr>
        <p:blipFill>
          <a:blip r:embed="rId1"/>
          <a:stretch/>
        </p:blipFill>
        <p:spPr>
          <a:xfrm>
            <a:off x="1828800" y="2530440"/>
            <a:ext cx="59436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День Героев Отечества"/>
          <p:cNvPicPr/>
          <p:nvPr/>
        </p:nvPicPr>
        <p:blipFill>
          <a:blip r:embed="rId1"/>
          <a:stretch/>
        </p:blipFill>
        <p:spPr>
          <a:xfrm>
            <a:off x="228600" y="1295280"/>
            <a:ext cx="3726000" cy="4419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038480" y="1371600"/>
            <a:ext cx="4800600" cy="2226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м георгиев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валером Россий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ции в 2008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 генерал-полков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5:46:03Z</dcterms:created>
  <dc:creator>ольга</dc:creator>
  <dc:description/>
  <dc:language>en-US</dc:language>
  <cp:lastModifiedBy>ольга</cp:lastModifiedBy>
  <dcterms:modified xsi:type="dcterms:W3CDTF">2010-04-14T15:46:37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0171049</vt:lpwstr>
  </property>
</Properties>
</file>