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47E-DA0A-435B-BBA3-DF7B2057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E06-C23C-4F59-9C96-54E00B63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66F-2EE5-4B3C-AC3A-29FF3059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9A4-6A60-4CA0-BFFA-22482676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3030-9DD5-43FA-BAE2-2AD22D25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BD6D-1A3B-44AC-9B3D-B4E6203D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CB3A-FE60-46DD-B2E2-E156C78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F588-FFB4-450E-A22A-057D92A7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0F82-6888-458B-A77E-233E7EE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127-E110-436D-AC8A-BEC7771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384A-C21B-4E29-B0D7-4DB35C3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B77-2A63-4497-9C28-BDE3B565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AC6-A80A-45EA-BEAE-CF4E52A1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BA2-0951-40E1-B22C-7D061F2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7193-9780-443F-BB23-82320BE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B486-5F5F-4A79-8EC5-E8318301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2B7E-5F51-492D-8EE5-D5624A0D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183-D973-4E11-8CC5-260DF4C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2A9-3EA1-47CC-BBCF-5DDCAA5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C63-400A-4E52-8E8D-47582C1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A46-5BC6-4E6D-986D-CF5867D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87B-7F95-43F1-A0E9-0C83A31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53A-5E30-4313-88AF-E73AD82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0B8-58DD-482E-A02D-0834038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02A4A3-A01C-4B3C-B940-DCF3AF3C1B3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C7B9F3-64F1-4A74-BE85-939414D7C14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36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2280" y="533520"/>
                <a:ext cx="243792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F4C410-F8ED-433E-9D41-DB1BA5CF4B9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0DF380-A491-4E65-AB86-125A72C036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еятельностный подход как основа развивающего обучения физик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85800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изучения темы 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словия плавания т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щина Нина Вениамин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МКОУ 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гт Подосин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уроке исполь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ктивные  формы  и  методы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 жизненн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ение  через 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ая 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ценочная»  деятельность  обучающихся (результа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580000" y="3664080"/>
            <a:ext cx="314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1. Организационный этап. Мотивация.</a:t>
            </a:r>
            <a:br>
              <a:rPr sz="2400"/>
            </a:br>
            <a:r>
              <a:rPr b="1" lang="ru-RU" sz="1800" spc="-1" strike="noStrike" u="sng">
                <a:solidFill>
                  <a:srgbClr val="330033"/>
                </a:solidFill>
                <a:uFillTx/>
                <a:latin typeface="Times New Roman"/>
              </a:rPr>
              <a:t>Цели этапа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: </a:t>
            </a:r>
            <a:br>
              <a:rPr sz="18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ключить учащихся в учебную деятельность; актуализировать учебное содержание, необходимое и достаточное для восприятия нового материала;  зафиксировать затруднения в деятельности, демонстрирующее недостаточность имеющихся знаний.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3284640"/>
            <a:ext cx="7642440" cy="180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ведет себя тело (камень, кусок пенопласта, лед – имеющие разный объем), если его погрузить  в жидкость (воду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72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.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Целеполагание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и эт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овать коммуникативное взаимодействие, в ходе которого выявляется и фиксируется цель и тема урок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А сможете   ли вы  дать полный ответ на вопрос: при каком условии тела плаваю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ова  ваша цель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3. Планирование деятельности</a:t>
            </a: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и этап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ть учебную деятельность, направленную на  достижение цели урока; определить  задач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1. установить соотношение между Архимедовой силой и силой тяжести при погружении различных тел в жид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выяснить зависимость данных сил от других физических величин – плотности вещ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4. Выполнение деятельности</a:t>
            </a:r>
            <a:br>
              <a:rPr sz="1600"/>
            </a:br>
            <a:r>
              <a:rPr b="1" lang="ru-RU" sz="1600" spc="-1" strike="noStrike" u="sng">
                <a:solidFill>
                  <a:srgbClr val="330033"/>
                </a:solidFill>
                <a:uFillTx/>
                <a:latin typeface="Times New Roman"/>
              </a:rPr>
              <a:t>Цели этапа: </a:t>
            </a:r>
            <a:br>
              <a:rPr sz="16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организовать коммуникативное взаимодействие для построения нового способа действия, устраняющего причину выявленного затруднения;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зафиксировать новый способ действия в знаковой, вербальной форме и с помощью эталон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39640" y="2276640"/>
            <a:ext cx="7777440" cy="30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начала группы работают по  индивидуальными заданиям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№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людение поведения тела при погружении его в в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орудование: сосуд с водой, лед, кусок полиэтилена, параф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од выполнения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зите тело целиком в воду, отпустите е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зошло с т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осталось плавать в воде? Сделайте соответствующий вывод о действии на тело силы тяжести и Архимедовой сил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е с помощью таблицы плотностей плотность тела и плотность жидк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соответствующий вывод о плавании тел в зависимости от плотности тела и плотности жидк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332000" y="5589720"/>
            <a:ext cx="64087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улируется общий вы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тело, погруженное в жидкость плавает, если плотность тела равна плотности жидк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36720" y="2637000"/>
            <a:ext cx="7402320" cy="31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отвечают на вопросы тип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йцо (картофелина) тонет в пресной воде, но плавает в соленой. Поче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молоко опускается на дно стакана, когда его подмешивают в ча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нельзя тушить горящий керосин вод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19280" y="476280"/>
            <a:ext cx="8424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Проверка  усвоения знаний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Результат совместной деятельности: Формирование у обучающихся способностей к обобщению и систематизации изучаемого предметного содержания.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ервичная проверка усвоения зн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2001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5. Рефлекси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8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анном этапе фиксируется новое содержание, изученное на уроке, и организуется рефлексия и самооценка учениками собственной учеб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вершение, проверяется, как относятся цель учебной деятельности и ее результаты, фиксируется степень их соответствия, и намечаются дальнейшие цели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4788000" y="580536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580000" y="54936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3965400" y="3068640"/>
            <a:ext cx="4572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6. Оц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 этап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собственную деятельность на уроке по видам деятельности; зафиксировать неразрешённые затруднения как направления будущей учебн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ценка дается в словестной форме, а не в баллах; на следующем уроке оценку в баллах получит каждый при выполнении лабораторной работы «Выяснение условий плавания тел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691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7. 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анном этапе  устраняются  личностные  затруднения коммуникативной   деяте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00000" y="2349360"/>
            <a:ext cx="3167280" cy="20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71640" y="2492280"/>
            <a:ext cx="302400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с  консультантами  по следующим вопросам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лотности вещества с помощью таблиц, умение делать правильный выв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92720" y="2492280"/>
            <a:ext cx="2879640" cy="20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435640" y="2565360"/>
            <a:ext cx="2592360" cy="1220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разрешить затруднение, используя текст учеб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. 120 – 122 учебника и записи в тетрад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2195640" y="1557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500720" y="1557360"/>
            <a:ext cx="158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985680" y="4869000"/>
            <a:ext cx="7417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8. Домашнее з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ы зафиксировать и закрепить приобретенные зн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Sylfaen"/>
              </a:rPr>
              <a:t>§ 50, записи в тетради, подготовиться к лабораторной работ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Деятельностный подх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ффективный путь, потому что ученик учится сам понимать, что он делает, как и насколько успеш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</a:rPr>
              <a:t>Цель педагогов современной  школ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 ребят основы знаний по своему предмету и подготовить  к применению полученных знаний в конкретных  жизненных и производствен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95280" y="77400"/>
            <a:ext cx="4824360" cy="57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 развивается только в процессе собствен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являются не пассивными «приемниками» информации, а сами активно участвуют в учеб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943000" cy="223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29908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из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дин из немногих школьных предметов, в ходе усвоения которого ученики вовлекаются во все этапы научного познания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наблюдения явлений и их эмпирического исследова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выдвижения гипотез, выявления на их основе следствий и  экспериментальных выводов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4073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радиционная дид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 учителя + деятельность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ременная дид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учителя и уче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032000" cy="29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«Я слышу – я забыв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я вижу – я запомин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я делаю – я усваиваю».</a:t>
            </a: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тайская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67816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CD75B2-BF46-4DBB-BDED-04A89BDAA9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7816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4AA07D-FF51-4643-9F9A-F26C13A5D3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43290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заимодействия в ходе учебной деятельности при деятельностном подх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     «Учитель-уче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     Работа в паре – «ученик-уче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     Группов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     Индивидуа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435640" y="666720"/>
            <a:ext cx="324000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483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0614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ок физики  в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7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ласс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ма: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«Плавание тел»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55640" y="155736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развитие у обучающихся учебных действий -компонентов  совместной учебной, исследовательской деятельности по определению условий плавания 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7640" y="220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чнос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87280" y="306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03280" y="43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419640" y="2492280"/>
            <a:ext cx="187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3635280" y="3357720"/>
            <a:ext cx="1657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3348000" y="4653000"/>
            <a:ext cx="19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5092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 отметить,  что  нужно  различать  цели  урока,  поставленные  учителем  и  цели  для  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Тип урока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Изучение и усвоение новых знаний.    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Форма</a:t>
            </a: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 урока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Организация исследовательской деятельности учащихся на уроке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ны современные педагогические технологи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КТ, технология деятельностного метода, групповая работа по разрешению создавшейся проблемы, методы самооценки и само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 уроке осуществлён  деятельностный подход в обуч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организация учебного процесса, в котором главное место отводится активной и разносторонней, в максимальной степени самостоятельной познавательной деятельности школьника. (70 % учебного врем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3:47:35Z</dcterms:created>
  <dc:creator>admin</dc:creator>
  <dc:description/>
  <dc:language>en-US</dc:language>
  <cp:lastModifiedBy>user</cp:lastModifiedBy>
  <dcterms:modified xsi:type="dcterms:W3CDTF">2013-03-19T08:38:12Z</dcterms:modified>
  <cp:revision>42</cp:revision>
  <dc:subject/>
  <dc:title>Деятельностный подход как основа развивающего обучения физике</dc:title>
</cp:coreProperties>
</file>