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8E8C-FDCD-404C-903C-B23695282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7AE3-FC43-4113-915C-AAED94B9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4969-95EE-4B70-9D36-E0F03A69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17A4-E815-4655-B3A7-7F1F48CC6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89C0-CA0B-4350-B90A-3F75C5B32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5985-6273-435E-A2B6-18258717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00C4-7BF2-4C9C-B71D-B2491171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6247-6F54-4C81-B112-2470996D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4052-4B24-4CC3-86F7-BD931C12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D959-4B31-4F54-BE41-9A709B91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156B-596E-4EF4-86DE-02D5B3A2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D8A6-0593-4F39-8C38-1C89FE2A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39F4-F4F3-4258-99EE-B073C5EC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4680-2680-475D-A667-E3C69CFB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AC92-E9DD-4484-A762-3E02139D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3906-AA2D-43FF-BE92-1AFB77EAC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8CDE-A616-44D6-85D4-6BA617471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4D07-91D2-4E40-977F-6CD18D95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38DF-E478-4CDF-AB2D-9493CAD7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2429-EC1F-413F-AC57-FF118578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177E-91F2-496D-9395-3025461D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BBD5-96FC-4B23-B757-40B0450E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8665-5929-4566-A96B-A22C880F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D052-086F-42F6-9184-4B3EDD09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bd3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16AC-432F-4D25-82E4-D530B1E1E2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bd3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D49F-41C6-419A-9A34-3D96DC273F04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47640" y="214200"/>
            <a:ext cx="6400800" cy="16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Как узнать, готов ли  ребенок </a:t>
            </a:r>
            <a:br>
              <a:rPr sz="4000"/>
            </a:b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к школе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13840" y="1928520"/>
            <a:ext cx="875052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539640" y="692280"/>
            <a:ext cx="7993080" cy="41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285840" y="1857240"/>
            <a:ext cx="8429400" cy="47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4978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Как подготовить ребенка к школе?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Когда начинать готовить к школе?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Кто должен это делать?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Чему учить ребенка до школы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787640" y="2017800"/>
            <a:ext cx="416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AutoShape 17">
            <a:hlinkClick r:id="rId1" action="ppaction://hlinksldjump"/>
          </p:cNvPr>
          <p:cNvSpPr/>
          <p:nvPr/>
        </p:nvSpPr>
        <p:spPr>
          <a:xfrm>
            <a:off x="324000" y="5950080"/>
            <a:ext cx="576000" cy="57600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Прямоугольник 7"/>
          <p:cNvSpPr/>
          <p:nvPr/>
        </p:nvSpPr>
        <p:spPr>
          <a:xfrm>
            <a:off x="500040" y="1428840"/>
            <a:ext cx="8001000" cy="59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ейчас дети буквально «купаются» в потоке информации, их словарный запас увеличивается, но важно, как они им распоряжаются. При этом ребёнок  должен знать самые элементарные вещи о себе и окружающем мире. Вся дошкольная жизнь ребенка - это и есть подготовка к школе. Родителям -не  пускать все на самотек, надеясь на воспитателей и учителей.  Самое главное - важно помнить : ребёнок идёт   в школу не только продемонстрировать свои знания , но и учиться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Готовность к школ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Анатомо – физиологическ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Психологическ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9480" indent="-42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отивационн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9480" indent="-42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ммуникативн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9480" indent="-42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лев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9480" indent="-4294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ллектуальна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2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Речев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Педагогическ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Рисунок 3" descr="Как определить готовность ребенка к школе?"/>
          <p:cNvPicPr/>
          <p:nvPr/>
        </p:nvPicPr>
        <p:blipFill>
          <a:blip r:embed="rId1"/>
          <a:stretch/>
        </p:blipFill>
        <p:spPr>
          <a:xfrm rot="857400">
            <a:off x="5576760" y="2698920"/>
            <a:ext cx="307188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 rot="10800000">
            <a:off x="1150200" y="167760"/>
            <a:ext cx="779292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Picture 7" descr="sm"/>
          <p:cNvPicPr/>
          <p:nvPr/>
        </p:nvPicPr>
        <p:blipFill>
          <a:blip r:embed="rId1"/>
          <a:stretch/>
        </p:blipFill>
        <p:spPr>
          <a:xfrm>
            <a:off x="214200" y="428760"/>
            <a:ext cx="3913200" cy="580860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5"/>
          <p:cNvSpPr/>
          <p:nvPr/>
        </p:nvSpPr>
        <p:spPr>
          <a:xfrm>
            <a:off x="4071960" y="500040"/>
            <a:ext cx="4786200" cy="63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ключает в себя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мение строить отношения с учителем (умение регулировать свои действия и свое поведение, умение воспринимать учебную задачу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мение общаться со сверстниками (принимать точку зрения другого, умение взглянуть на себя со стороны, умение выслушивать одноклассников, адекватно реагировать на неудачу других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ношение к себе (завышенная  самооценка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зрастную зрелость (что ты умеешь делат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Tahoma"/>
              </a:rPr>
              <a:t>Социальная зрелост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требность ребенка в общении со сверстниками и умение подчинять свое поведение законам детских групп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пособность исполнять роль ученика в ситуации школьного обучения, где нет бабушки или мамы, готовых взять на себя часть действий, которые ребенок должен выполнить самостоятельн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ahoma"/>
              </a:rPr>
              <a:t>Интеллектуальная готовность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3640" y="1143000"/>
            <a:ext cx="604836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вое имя, отчество и фамилию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вой возраст (желательно дату рождения)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вой домашний адрес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вой город (село) и его главные достопримечательност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рану, в которой живет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амилию, имя, отчество родителей, их профессию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ремена года (последовательность, месяцы, основные приметы каждого времени года, загадки) Домашних животных и их детенышей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ких животных наших лесов, жарких стран, Севера, их повадки, детенышей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ранспорт наземный, водный, воздушный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зличать одежду, обувь и головные уборы; зимующих и перелетных птиц; овощи, фрукты и ягоды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 Знать и уметь рассказывать русские народные сказк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7" descr="ae7125b032b97b698f903407ce24b4c0[1]"/>
          <p:cNvPicPr/>
          <p:nvPr/>
        </p:nvPicPr>
        <p:blipFill>
          <a:blip r:embed="rId1"/>
          <a:stretch/>
        </p:blipFill>
        <p:spPr>
          <a:xfrm>
            <a:off x="6215040" y="2492280"/>
            <a:ext cx="267192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779292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Дети должны уметь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74480" y="714240"/>
            <a:ext cx="866916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вободно ориентироваться в пространстве и на листе бумаги (правая - левая сторона, верх - низ и т.д.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личать и правильно называть плоскостные геометрические фигуры: круг, квадрат, прямоугольник, треугольник, овал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меть полно и последовательно пересказать прослушанный или прочитанный рассказ, составить (придумать) рассказ по картинк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личать гласные и согласные звук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делять слова на слоги с помощью хлопков, шагов, по количеству гласных звуков. Определять количество и последовательность звуков в словах типа "мак", "дом", "суп".                                                                                         -Ясно выражать свои мысли, иначе у него будут проблемы с устными ответ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-718200"/>
            <a:ext cx="7793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5884b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42600" y="214200"/>
            <a:ext cx="8286840" cy="607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48760" indent="-24876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довести свою мысль до конца.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48760" indent="-24876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рассказывать о произошедших событиях и анализировать их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48760" indent="-24876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грамотно отвечать на поставленные вопросы (простыми и сложными предложениями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48760" indent="-24876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Хорошо владеть ножницами (резать полоски, квадраты, круги, прямоугольники, треугольники, овалы, вырезать по контуру предмет)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48760" indent="-24876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Владеть карандашом: без линейки проводить вертикальные и горизонтальные линии, рисовать геометрические фигуры, животных, людей, различные предметы с опорой на геометрические формы, аккуратно закрашивать, штриховать карандашом, не выходя за контуры предметов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48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4876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932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884b0"/>
                </a:solidFill>
                <a:latin typeface="Tahoma"/>
              </a:rPr>
              <a:t>Разговорная реч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45760" y="1000080"/>
            <a:ext cx="85978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2080" indent="-262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вести свою мысль до конц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2080" indent="-262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ссказывать о произошедших событиях и анализировать их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2080" indent="-262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амотно отвечать на поставленные вопросы (простыми и сложными предложениями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2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2080" indent="-262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орошо владеть ножницами (резать полоски, квадраты, круги, прямоугольники, треугольники, овалы, вырезать по контуру предмет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2080" indent="-262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ладеть карандашом: без линейки проводить вертикальные и горизонтальные линии, рисовать геометрические фигуры, животных, людей, различные предметы с опорой на геометрические формы, аккуратно закрашивать, штриховать карандашом, не выходя за контуры предметов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2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2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20280"/>
            <a:ext cx="7792920" cy="105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Tahoma"/>
              </a:rPr>
              <a:t>Математика </a:t>
            </a:r>
            <a:br>
              <a:rPr sz="4800"/>
            </a:b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56760" y="714240"/>
            <a:ext cx="8597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ядок числового ряд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ть прямой и обратный счет до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ыдущие и последующие числа в пределах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еометрические фигуры (треугольник, круг, квадрат, прямоугольник) – называть, изображать, отличать от други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ть арифметические знаки: +, -, =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меть по части узнавать целое, находить недостающие элементы, видеть предмет через зашумленное восприяти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меть сравнивать числа (понимать какое больше, какое меньше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меть хорошо ориентировался в пространстве: вверху, внизу, слева, справа, между, впереди, сзади и т. д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7715160" y="857160"/>
          <a:ext cx="214560" cy="1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15160" y="857160"/>
                    <a:ext cx="214560" cy="1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9:17:49Z</dcterms:created>
  <dc:creator>*</dc:creator>
  <dc:description/>
  <dc:language>en-US</dc:language>
  <cp:lastModifiedBy>user</cp:lastModifiedBy>
  <dcterms:modified xsi:type="dcterms:W3CDTF">2013-02-20T05:05:56Z</dcterms:modified>
  <cp:revision>3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51049</vt:lpwstr>
  </property>
</Properties>
</file>