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AA5-6172-4B84-B0BB-97A58662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042-85CF-4235-94CD-29D0AD7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3EE-899B-4E1F-B728-D89346BA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225-B233-4DEB-99FB-A7261B1C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73F2-D9DF-40CB-AEB4-243898E7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D668-E6F9-42F2-A31E-DAE2B601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9ACE-D85C-480C-84E9-26A900DA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783B-77B5-4C42-854F-1C8F295A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953D-ADF1-4FFE-9379-D60AB403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7B8B-774E-4382-81F4-1C47E9C8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DCDD-D859-441E-B7D2-CEF6B1CC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8EC-0387-4CA5-A765-67DC4CCB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AB7D-398A-427E-8792-3C212835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C8D0-4A15-47D2-B0F4-7960A39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F63A-EB8B-4592-9BE6-A4C0D5B2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7C14-5F83-4D4C-919F-74C50938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CFE0-2EAA-442F-8765-5DC1A576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B6C-C805-45D4-ABBF-EEAD204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BDD-B1D9-47C0-B010-57E03084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9C6-172E-4152-A90C-EA5CCE0A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D10-D0B9-475D-8BE8-18120F11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71C-7794-4B88-B64A-89196DCC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4F8-1218-4AB6-912D-3D467CA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C71-7061-4ED0-838B-97AD0BA0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bd3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CE44-C06D-4739-BF4A-E7A2604787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bd3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E0AB-C424-4B75-8CD8-CE02F08D451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21420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ак узнать, готов ли  ребенок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 школе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13840" y="1928520"/>
            <a:ext cx="87505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539640" y="692280"/>
            <a:ext cx="7993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8429400" cy="47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ак подготовить ребенка к школе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огда начинать готовить к школе?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то должен это делать?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ему учить ребенка до школы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7">
            <a:hlinkClick r:id="rId1" action="ppaction://hlinksldjump"/>
          </p:cNvPr>
          <p:cNvSpPr/>
          <p:nvPr/>
        </p:nvSpPr>
        <p:spPr>
          <a:xfrm>
            <a:off x="32400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500040" y="1428840"/>
            <a:ext cx="800100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йчас дети буквально «купаются» в потоке информации, их словарный запас увеличивается, но важно, как они им распоряжаются. При этом ребёнок  должен знать самые элементарные вещи о себе и окружающем мире. Вся дошкольная жизнь ребенка - это и есть подготовка к школе. Родителям -не  пускать все на самотек, надеясь на воспитателей и учителей.  Самое главное - важно помнить : ребёнок идёт   в школу не только продемонстрировать свои знания , но и учиться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отовность к школ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Анатомо – физиологи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сихологи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ммуникатив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лев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ллектуальн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Речев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едагоги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Рисунок 3" descr="Как определить готовность ребенка к школе?"/>
          <p:cNvPicPr/>
          <p:nvPr/>
        </p:nvPicPr>
        <p:blipFill>
          <a:blip r:embed="rId1"/>
          <a:stretch/>
        </p:blipFill>
        <p:spPr>
          <a:xfrm rot="857400">
            <a:off x="5576760" y="2698920"/>
            <a:ext cx="30718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 rot="10800000">
            <a:off x="1150200" y="167760"/>
            <a:ext cx="7792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7" descr="sm"/>
          <p:cNvPicPr/>
          <p:nvPr/>
        </p:nvPicPr>
        <p:blipFill>
          <a:blip r:embed="rId1"/>
          <a:stretch/>
        </p:blipFill>
        <p:spPr>
          <a:xfrm>
            <a:off x="214200" y="428760"/>
            <a:ext cx="3913200" cy="5808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4071960" y="500040"/>
            <a:ext cx="4786200" cy="63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ючает в себя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ние строить отношения с учителем (умение регулировать свои действия и свое поведение, умение воспринимать учебную задач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ние общаться со сверстниками (принимать точку зрения другого, умение взглянуть на себя со стороны, умение выслушивать одноклассников, адекватно реагировать на неудачу других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ношение к себе (завышенная  само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растную зрелость (что ты умеешь дел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ahoma"/>
              </a:rPr>
              <a:t>Социальная зрел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требность ребенка в общении со сверстниками и умение подчинять свое поведение законам детских групп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особность исполнять роль ученика в ситуации школьного обучения, где нет бабушки или мамы, готовых взять на себя часть действий, которые ребенок должен выполнить самостоя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Интеллектуальная готов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3640" y="1143000"/>
            <a:ext cx="60483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е имя, отчество и фамилию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й возраст (желательно дату рождения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й домашний адрес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й город (село) и его главные достопримеча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ану, в которой живет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амилию, имя, отчество родителей, их профессию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а года (последовательность, месяцы, основные приметы каждого времени года, загадки) Домашних животных и их детеныш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ких животных наших лесов, жарких стран, Севера, их повадки, детеныш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анспорт наземный, водный, воздушны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личать одежду, обувь и головные уборы; зимующих и перелетных птиц; овощи, фрукты и ягод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 Знать и уметь рассказывать русские народные сказк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7" descr="ae7125b032b97b698f903407ce24b4c0[1]"/>
          <p:cNvPicPr/>
          <p:nvPr/>
        </p:nvPicPr>
        <p:blipFill>
          <a:blip r:embed="rId1"/>
          <a:stretch/>
        </p:blipFill>
        <p:spPr>
          <a:xfrm>
            <a:off x="6215040" y="2492280"/>
            <a:ext cx="267192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792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Дети должны уметь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4480" y="714240"/>
            <a:ext cx="86691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ободно ориентироваться в пространстве и на листе бумаги (правая - левая сторона, верх - низ и т.д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ать и правильно называть плоскостные геометрические фигуры: круг, квадрат, прямоугольник, треугольник, ова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ть полно и последовательно пересказать прослушанный или прочитанный рассказ, составить (придумать) рассказ по картин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ать гласные и согласные зву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делять слова на слоги с помощью хлопков, шагов, по количеству гласных звуков. Определять количество и последовательность звуков в словах типа "мак", "дом", "суп".                                                                                         -Ясно выражать свои мысли, иначе у него будут проблемы с устными ответ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-718200"/>
            <a:ext cx="779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5884b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2600" y="214200"/>
            <a:ext cx="828684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48760" indent="-24876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овести свою мысль до конца.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-24876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рассказывать о произошедших событиях и анализировать их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-24876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грамотно отвечать на поставленные вопросы (простыми и сложными предложениями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-248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Хорошо владеть ножницами (резать полоски, квадраты, круги, прямоугольники, треугольники, овалы, вырезать по контуру предмет)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-248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ладеть карандашом: без линейки проводить вертикальные и горизонтальные линии, рисовать геометрические фигуры, животных, людей, различные предметы с опорой на геометрические формы, аккуратно закрашивать, штриховать карандашом, не выходя за контуры предметов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932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884b0"/>
                </a:solidFill>
                <a:latin typeface="Tahoma"/>
              </a:rPr>
              <a:t>Разговорная реч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5760" y="1000080"/>
            <a:ext cx="8597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вести свою мысль до конц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казывать о произошедших событиях и анализировать и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мотно отвечать на поставленные вопросы (простыми и сложными предложениям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рошо владеть ножницами (резать полоски, квадраты, круги, прямоугольники, треугольники, овалы, вырезать по контуру предмет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ладеть карандашом: без линейки проводить вертикальные и горизонтальные линии, рисовать геометрические фигуры, животных, людей, различные предметы с опорой на геометрические формы, аккуратно закрашивать, штриховать карандашом, не выходя за контуры предмет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20280"/>
            <a:ext cx="779292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ahoma"/>
              </a:rPr>
              <a:t>Математика 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6760" y="714240"/>
            <a:ext cx="8597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числового ряд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ть прямой и обратный счет до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ыдущие и последующие числа в пределах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ометрические фигуры (треугольник, круг, квадрат, прямоугольник) – называть, изображать, отличать от други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ть арифметические знаки: +, -, =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ть по части узнавать целое, находить недостающие элементы, видеть предмет через зашумл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ть сравнивать числа (понимать какое больше, какое меньш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ть хорошо ориентировался в пространстве: вверху, внизу, слева, справа, между, впереди, сзади и т. д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7715160" y="857160"/>
          <a:ext cx="21456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5160" y="857160"/>
                    <a:ext cx="21456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17:49Z</dcterms:created>
  <dc:creator>*</dc:creator>
  <dc:description/>
  <dc:language>en-US</dc:language>
  <cp:lastModifiedBy>user</cp:lastModifiedBy>
  <dcterms:modified xsi:type="dcterms:W3CDTF">2013-02-20T05:05:5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