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E41-19E7-4FA9-AC87-E3AB6E75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B9E-7B88-4680-AC9C-82B16615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7B6-A319-423C-8E26-80BCE972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1D6-B529-421B-B129-CB7C082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BAF-8380-4724-8118-83B7068E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9765-04EC-4A29-8804-371EE9D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8919-73B5-420F-8EAF-570544D5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097E-5D91-4142-9D4B-1925218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65FE-4D51-494D-9126-2DE905D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9907-2ED4-4EFF-A481-0769DE7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50F-2CB7-4475-99CD-67973E3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CDB-4443-4C39-9880-DF9E37AE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162-EFCB-4E9A-BFF2-D495CE9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717-9A45-4CD0-87DD-8AB724F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4B24-CACF-49E9-9CCC-102F1BC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3BBE-94E7-45A9-9EF6-10D69ECA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BC49-7A32-42CD-B39D-2A8B14B3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A1-9651-45C5-8E16-20FC831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F24-C5BC-4793-9CEA-A3AD6C6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87F-7B27-4C96-AE83-A3E552C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8D4-1A1C-4816-B91E-CB45201B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D05-B5E7-4AEE-9492-E0CB165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EBC-B044-419D-924D-1D8AE38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040-E8C1-4488-9247-D122727D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285-2453-4FF8-BC1C-A48F092264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1FE-E022-4868-B171-ED6A9A5883A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Tahoma"/>
              </a:rPr>
              <a:t>Психогеометрический тест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932360" y="443664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ОУ СОШ №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. Дзержин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едагог-психоло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.И. Богдашк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547640" y="981000"/>
            <a:ext cx="1368720" cy="1224000"/>
          </a:xfrm>
          <a:prstGeom prst="rect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56360" y="1268280"/>
            <a:ext cx="2305080" cy="12240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492360" y="907920"/>
            <a:ext cx="1727280" cy="1943280"/>
          </a:xfrm>
          <a:prstGeom prst="triangle">
            <a:avLst>
              <a:gd name="adj" fmla="val 50000"/>
            </a:avLst>
          </a:prstGeom>
          <a:solidFill>
            <a:srgbClr val="fbaba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547640" y="3645000"/>
            <a:ext cx="1584360" cy="1439640"/>
          </a:xfrm>
          <a:prstGeom prst="ellipse">
            <a:avLst/>
          </a:prstGeom>
          <a:solidFill>
            <a:srgbClr val="ada9f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9"/>
          <p:cNvSpPr/>
          <p:nvPr/>
        </p:nvSpPr>
        <p:spPr>
          <a:xfrm>
            <a:off x="4211640" y="3933720"/>
            <a:ext cx="3382920" cy="1020960"/>
          </a:xfrm>
          <a:custGeom>
            <a:avLst/>
            <a:gdLst/>
            <a:ahLst/>
            <a:rect l="l" t="t" r="r" b="b"/>
            <a:pathLst>
              <a:path w="2131" h="643">
                <a:moveTo>
                  <a:pt x="0" y="643"/>
                </a:moveTo>
                <a:cubicBezTo>
                  <a:pt x="158" y="329"/>
                  <a:pt x="317" y="16"/>
                  <a:pt x="453" y="8"/>
                </a:cubicBezTo>
                <a:cubicBezTo>
                  <a:pt x="589" y="0"/>
                  <a:pt x="688" y="590"/>
                  <a:pt x="816" y="597"/>
                </a:cubicBezTo>
                <a:cubicBezTo>
                  <a:pt x="944" y="604"/>
                  <a:pt x="1103" y="53"/>
                  <a:pt x="1224" y="53"/>
                </a:cubicBezTo>
                <a:cubicBezTo>
                  <a:pt x="1345" y="53"/>
                  <a:pt x="1436" y="597"/>
                  <a:pt x="1542" y="597"/>
                </a:cubicBezTo>
                <a:cubicBezTo>
                  <a:pt x="1648" y="597"/>
                  <a:pt x="1761" y="45"/>
                  <a:pt x="1859" y="53"/>
                </a:cubicBezTo>
                <a:cubicBezTo>
                  <a:pt x="1957" y="61"/>
                  <a:pt x="2086" y="545"/>
                  <a:pt x="2131" y="64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вадра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 – неутомимый труженик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удолюбие, усердие, выносливость, терпение делают вас высококлассным специалистом в своей обла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рудит, коллекционер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имательны к деталям, любят поряд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ный исполнитель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еугольни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 – энергичный, неудержимый, сильный, уверенный в себе лидер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льная потребность быть первым, управлять положением де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лонность к соперничеству, риску, конкуренции, не любят менять решения и признавать свои ошиб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ямоугольни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переходного состоя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няты поиском лучшего положения, не удовлетворены современным образом жи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 для новых ид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ознательность, пытливость, живой интерес, смел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у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гармо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роший коммуникатор, самый доброжелательный слуш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сопереживать, «болеть» за коллектив, бесконфликт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и силами поддерживают ми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игзаг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творчества и креа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ое эстетическое чув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ирует несходные идеи, создает новое и оригиналь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терпит однообразия и зависи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ктичность, восторженность, наивность, несдержа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8:58:44Z</dcterms:created>
  <dc:creator>Customer</dc:creator>
  <dc:description/>
  <dc:language>en-US</dc:language>
  <cp:lastModifiedBy>BogdaschkinaAI</cp:lastModifiedBy>
  <dcterms:modified xsi:type="dcterms:W3CDTF">2013-03-22T11:02:39Z</dcterms:modified>
  <cp:revision>4</cp:revision>
  <dc:subject/>
  <dc:title>Слайд 1</dc:title>
</cp:coreProperties>
</file>