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C9F-DF73-4BED-85D1-87B76993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345-484C-4A1B-B6A6-1EEDB777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27D-3CCE-4771-A2BC-12694D79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C90-3A2A-4ADF-B6D1-137E5C58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0152-23D9-42C3-A37D-087C16E8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729C-243C-4CE4-AE39-B07391AD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1959-2515-4472-8629-837B5B2E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2036-9B94-476B-8EF7-7924E42F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4E08-CC09-4F41-9364-A18A76AE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9D11-7EAF-432B-B9C1-C2285FAA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08BB-40B5-4AC5-9AF4-446A23E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382-6F8F-4461-B16E-23AB00F8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4366-5C49-40BA-82D4-CAB979C5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1823-FB6E-44A7-9F64-4BACBA63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B36-E854-41CF-9C19-F4754462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AD37-DFFB-4CD9-AEEA-AC51438F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F207-2255-4CB5-8463-8AA58070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40A-E790-42A6-92A0-D7A25D3D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C1D-82CD-43D8-8FAF-75758625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C63-B905-4926-89F6-1CDACD60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54F-1C32-444F-AF0B-417127DC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959-78CA-4931-828E-C2B298C3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386-CF2F-401F-92A6-F358407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684-972D-4401-B3D8-B90009D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C285-F08F-4A39-95E9-3942076BBF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AE9-79BC-4368-A0DF-FFBCCF3507A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99"/>
                </a:solidFill>
                <a:latin typeface="Tahoma"/>
              </a:rPr>
              <a:t>Психогеометрический тест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932360" y="443664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МОУ СОШ №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Г. Дзержин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2011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педагог-психолог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.И. Богдашк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547640" y="981000"/>
            <a:ext cx="1368720" cy="1224000"/>
          </a:xfrm>
          <a:prstGeom prst="rect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56360" y="1268280"/>
            <a:ext cx="2305080" cy="12240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3492360" y="907920"/>
            <a:ext cx="1727280" cy="1943280"/>
          </a:xfrm>
          <a:prstGeom prst="triangle">
            <a:avLst>
              <a:gd name="adj" fmla="val 50000"/>
            </a:avLst>
          </a:prstGeom>
          <a:solidFill>
            <a:srgbClr val="fbaba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1547640" y="3645000"/>
            <a:ext cx="1584360" cy="1439640"/>
          </a:xfrm>
          <a:prstGeom prst="ellipse">
            <a:avLst/>
          </a:prstGeom>
          <a:solidFill>
            <a:srgbClr val="ada9f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reeform 9"/>
          <p:cNvSpPr/>
          <p:nvPr/>
        </p:nvSpPr>
        <p:spPr>
          <a:xfrm>
            <a:off x="4211640" y="3933720"/>
            <a:ext cx="3382920" cy="1020960"/>
          </a:xfrm>
          <a:custGeom>
            <a:avLst/>
            <a:gdLst/>
            <a:ahLst/>
            <a:rect l="l" t="t" r="r" b="b"/>
            <a:pathLst>
              <a:path w="2131" h="643">
                <a:moveTo>
                  <a:pt x="0" y="643"/>
                </a:moveTo>
                <a:cubicBezTo>
                  <a:pt x="158" y="329"/>
                  <a:pt x="317" y="16"/>
                  <a:pt x="453" y="8"/>
                </a:cubicBezTo>
                <a:cubicBezTo>
                  <a:pt x="589" y="0"/>
                  <a:pt x="688" y="590"/>
                  <a:pt x="816" y="597"/>
                </a:cubicBezTo>
                <a:cubicBezTo>
                  <a:pt x="944" y="604"/>
                  <a:pt x="1103" y="53"/>
                  <a:pt x="1224" y="53"/>
                </a:cubicBezTo>
                <a:cubicBezTo>
                  <a:pt x="1345" y="53"/>
                  <a:pt x="1436" y="597"/>
                  <a:pt x="1542" y="597"/>
                </a:cubicBezTo>
                <a:cubicBezTo>
                  <a:pt x="1648" y="597"/>
                  <a:pt x="1761" y="45"/>
                  <a:pt x="1859" y="53"/>
                </a:cubicBezTo>
                <a:cubicBezTo>
                  <a:pt x="1957" y="61"/>
                  <a:pt x="2086" y="545"/>
                  <a:pt x="2131" y="64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вадрат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 – неутомимый труженик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удолюбие, усердие, выносливость, терпение делают вас высококлассным специалистом в своей обла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рудит, коллекционер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имательны к деталям, любят поряд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ный исполнитель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реугольни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 – энергичный, неудержимый, сильный, уверенный в себе лидер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льная потребность быть первым, управлять положением де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лонность к соперничеству, риску, конкуренции, не любят менять решения и признавать свои ошиб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ямоугольни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мвол переходного состоя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няты поиском лучшего положения, не удовлетворены современным образом жиз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ты для новых ид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ознательность, пытливость, живой интерес, смел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ру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мвол гармо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роший коммуникатор, самый доброжелательный слуш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сопереживать, «болеть» за коллектив, бесконфликт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ми силами поддерживают ми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игзаг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мвол творчества и креатив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ое эстетическое чув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бинирует несходные идеи, создает новое и оригиналь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терпит однообразия и зависи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актичность, восторженность, наивность, несдержа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8:58:44Z</dcterms:created>
  <dc:creator>Customer</dc:creator>
  <dc:description/>
  <dc:language>en-US</dc:language>
  <cp:lastModifiedBy>BogdaschkinaAI</cp:lastModifiedBy>
  <dcterms:modified xsi:type="dcterms:W3CDTF">2013-03-22T11:02:39Z</dcterms:modified>
  <cp:revision>4</cp:revision>
  <dc:subject/>
  <dc:title>Слайд 1</dc:title>
</cp:coreProperties>
</file>