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156-5CCC-4CC0-96D6-08F9196E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33E-D8CE-48F3-BBC8-38F2B429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FBF-A761-48DD-A730-7A4A14BD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214-DF5F-4B4A-815B-6509C6C7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E688-DDFB-43FF-9178-05B8D0DA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C85C-72B0-4EED-B5A7-46BF91F7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F832-9443-4223-B03F-9F37B4F8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BA4D-C84D-45D3-A488-EA6EF408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56F1-ED5C-42A2-92A0-2A28BBD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A66D-116D-4DF5-B8C9-1FC3542F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AC2E-75EF-408A-864C-6811B9D5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3FC-FF2F-47F9-B86F-7C9936B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1641-9810-4135-B40B-73A8BE6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B46-DB18-4301-B57A-037C53C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74A-2A8C-4E9B-8EF3-B9D3962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765-4E47-42BE-B25C-00A7AD59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60AE-0AE4-4E4D-B4F2-97339FB8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3D2F-FBA8-447F-953C-F19FEB84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AA05-C64A-41AE-897A-3864093F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1EF1-17DF-4554-BEF8-5B6BB694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8A8F-2B67-40FD-ADE2-C49E0434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6F7E-C5A8-4509-B7E0-09F28AD3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D83-7B69-4084-86DB-75EEE56C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47CC-B3F8-4D2E-91C5-D15907F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1F7A-3327-44A0-9B36-1C52B62C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9B49-9472-4FA4-A1AD-2996001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8B28-0C7C-4D70-A9D6-979BC38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0F9A-9F2D-44F0-B88B-429E0944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8DDB-DDA9-41D1-87C5-28E6284F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D74D-5206-438F-AFAE-9588AAD9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B28E-1A44-41DB-BCF4-4B8F3829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D92A0-481C-45AB-A6A1-3F4CAC8C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B776-082B-4F9B-8ABA-57C1E198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F5A-4BB9-419B-98C4-8F52CA1C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B728-E0B0-49B6-BC14-E03DE3CC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7C39-B1A2-4D92-8831-4DF99FC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EEC1-0A7F-4DBF-BF32-01502ED0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86494-BD2B-4056-84B3-AB211095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C7C4-A6D2-45AE-98BF-61447AB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D262-43E7-483F-B24D-B5C90450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BDE2-C700-4F53-8FFF-4F7E9070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750C-85ED-41D2-8D43-82B07A2A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C38C-7703-486C-9B07-5865FF4A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DBF3-7084-4597-A640-E8B8A2C2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BCE-F430-4071-BC5A-B9D6BE69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7839-7E98-4A50-B305-AA5FB7A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045B7-7E9C-47E7-9DAD-083FD4A4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A18D5-6F3D-4983-B52A-DAEEE56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7CCF-B4B2-428E-BD08-ACB5C7A3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66D1-379D-4E1B-B982-ED73D2E6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3D2D-81F4-4F0E-8E17-B2083D0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568AD-436B-4BC6-9ADD-3132F4E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B6B0-0197-477A-982D-53C4301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AFB0-9F5B-462F-BEE1-04A55920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E373-2DA4-4470-A056-F66FA248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608-5F59-41CF-84FA-F83DF4B1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558F-7BFD-4839-8011-C56B9329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8700-E5CF-4AC4-B483-CCBCA3A6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1A6C-CE74-4843-9F3F-C510D081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7C99-FCBE-49B9-BE6C-4FAD9BE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8FE7-B93C-488B-90D6-E8F85A01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C49A1-9930-46FF-B912-4736AD38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9C48-CCC3-4E8D-B245-0C94AA40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42A29-9E4E-4BBF-AAD2-5BB956D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2E0A-2A63-4929-A11E-A5C4320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3993-CB0F-4725-AC19-4FD2EEA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58B-C9DA-4059-B9A6-EDE7FD0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D3E9-D47F-4D27-9D7E-E9D0634A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0912-C16C-4E4B-A717-BD78E864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7D47-E48D-44AC-A1D4-65A6A89E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5ADBC-3B4C-451D-8523-AB3ECDBF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7FEF-E528-406D-B83F-CD43EC0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AD4AF-FA19-4ABD-8212-4C307B90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62989-3A53-46EA-879B-93508F1C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D97D-858C-4CC0-A228-C4996BB5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50B5-9774-420A-AA2B-6E7D5B42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918E-0B91-45C4-ADAC-058A0BD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9B7-2ECE-42AA-BE51-01BD580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4B0D-BF95-49E4-BACF-26875AAB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E998D-2BE7-4AFC-84D0-51EDB20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F510C-247B-423B-8D76-869F5592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5A00-B62B-41CA-99F6-E206C2AC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25180-7913-4E7A-BBFA-8256F473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70D-4498-4BCA-B272-B7DB164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1D04-FD38-4AD8-8AED-3D8340D89C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CC98-69E3-4D6F-A389-1049708277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586E-7EA7-4FEC-8848-970790BFEA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95BD-E824-4F9B-9335-F40B29680F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F4E-530C-4AD9-9383-E7A9D1C1FD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456-4B1A-42A4-9518-B298CC43CB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779-EB75-4B64-BDD3-EB855D2AB2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99760" y="357120"/>
            <a:ext cx="61722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Голуб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71440" y="270792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резентация ученицы 3 «Б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МБОУ «СОШ №48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Варанкиной Ки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1408.jpg"/>
          <p:cNvPicPr/>
          <p:nvPr/>
        </p:nvPicPr>
        <p:blipFill>
          <a:blip r:embed="rId2"/>
          <a:stretch/>
        </p:blipFill>
        <p:spPr>
          <a:xfrm>
            <a:off x="1476360" y="1197000"/>
            <a:ext cx="66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                               Некоторые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                  разновидн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ЛУБИ (голубиные) (Columbidae), семейство птиц отряда голубеобразных. Около 290 видов, объединяемых в 41 род.Все породы домашних голубей (около 450), в том числе декоративные и почтовые, произошли от сизого голуб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Голуби являются объектом спортивной охоты, их добывают ради вкусного мяса. Имеют значение они и в качестве домашней птицы. Помимо множества декоративных пород, есть породы мясные и почтовы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6 видов и 9 подвидов голубей занесены в Красную книг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ОЙНЫЕ ГОЛУБИ,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ОКОЛЕТНЫЕ ГОЛУБ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ННЫЕ ГОЛУБ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ПОРТИВНЫЕ ГОЛУБ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Бойные                     Высоколетные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6" descr="images1.jpg"/>
          <p:cNvPicPr/>
          <p:nvPr/>
        </p:nvPicPr>
        <p:blipFill>
          <a:blip r:embed="rId1"/>
          <a:stretch/>
        </p:blipFill>
        <p:spPr>
          <a:xfrm>
            <a:off x="1357200" y="785880"/>
            <a:ext cx="3498840" cy="237960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9" descr="2.jpg"/>
          <p:cNvPicPr/>
          <p:nvPr/>
        </p:nvPicPr>
        <p:blipFill>
          <a:blip r:embed="rId2"/>
          <a:stretch/>
        </p:blipFill>
        <p:spPr>
          <a:xfrm>
            <a:off x="5214960" y="844560"/>
            <a:ext cx="3071880" cy="228924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1214280" y="3214800"/>
            <a:ext cx="39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йные голуби это большая группа голубей, которые привлекли многих голубеводов за свою привлекательную внешность, за прекрасные летные способности, за свою неприхотливос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йные голуби, это южная группа голубей, которые совершают упорядоченные кувырки через голову во время полета, с набором высоты и ударом крыло о крыло, которые называются бо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0"/>
          <p:cNvSpPr/>
          <p:nvPr/>
        </p:nvSpPr>
        <p:spPr>
          <a:xfrm>
            <a:off x="5286240" y="3357720"/>
            <a:ext cx="307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группа голубей, основным критерием отбора при выведении которых была высота и продолжительность по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кордсменами по продолжительности полета являются английские типплеры, которые способны около 20 ч находиться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зый голуб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4" descr="265px-Orsopapera-colombo_002.JPG"/>
          <p:cNvPicPr/>
          <p:nvPr/>
        </p:nvPicPr>
        <p:blipFill>
          <a:blip r:embed="rId1"/>
          <a:stretch/>
        </p:blipFill>
        <p:spPr>
          <a:xfrm>
            <a:off x="1214280" y="1357200"/>
            <a:ext cx="3519720" cy="264348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6" descr="120px-Rock_dove_egg.jpeg"/>
          <p:cNvPicPr/>
          <p:nvPr/>
        </p:nvPicPr>
        <p:blipFill>
          <a:blip r:embed="rId2"/>
          <a:stretch/>
        </p:blipFill>
        <p:spPr>
          <a:xfrm>
            <a:off x="4992840" y="1487520"/>
            <a:ext cx="2017440" cy="151272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5"/>
          <p:cNvSpPr/>
          <p:nvPr/>
        </p:nvSpPr>
        <p:spPr>
          <a:xfrm>
            <a:off x="1071720" y="4286160"/>
            <a:ext cx="414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упный голубь — длина тела 29—36 см, размах крыльев 50—67 см, вес 265—380 г. Оперение густое и плотное, но при этом перья слабо закреплены в коже. Окрас изменчивый, особенно у городских полудиких птиц — всего насчитывают 28 разновидностей окр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7"/>
          <p:cNvSpPr/>
          <p:nvPr/>
        </p:nvSpPr>
        <p:spPr>
          <a:xfrm>
            <a:off x="4814640" y="30002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йцо сизого голу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8" descr="Columba_livia_1_day_old.jpg"/>
          <p:cNvPicPr/>
          <p:nvPr/>
        </p:nvPicPr>
        <p:blipFill>
          <a:blip r:embed="rId3"/>
          <a:stretch/>
        </p:blipFill>
        <p:spPr>
          <a:xfrm>
            <a:off x="5572080" y="3429000"/>
            <a:ext cx="2189160" cy="158436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9"/>
          <p:cNvSpPr/>
          <p:nvPr/>
        </p:nvSpPr>
        <p:spPr>
          <a:xfrm>
            <a:off x="5429160" y="52862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тинцы сизого голу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в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нные                  Спортив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7" descr="images.jpg"/>
          <p:cNvPicPr/>
          <p:nvPr/>
        </p:nvPicPr>
        <p:blipFill>
          <a:blip r:embed="rId1"/>
          <a:stretch/>
        </p:blipFill>
        <p:spPr>
          <a:xfrm>
            <a:off x="1357200" y="1214280"/>
            <a:ext cx="3286080" cy="2608560"/>
          </a:xfrm>
          <a:prstGeom prst="rect">
            <a:avLst/>
          </a:prstGeom>
          <a:ln w="0">
            <a:noFill/>
          </a:ln>
        </p:spPr>
      </p:pic>
      <p:pic>
        <p:nvPicPr>
          <p:cNvPr id="338" name="Содержимое 9" descr="images.jpg"/>
          <p:cNvPicPr/>
          <p:nvPr/>
        </p:nvPicPr>
        <p:blipFill>
          <a:blip r:embed="rId2"/>
          <a:stretch/>
        </p:blipFill>
        <p:spPr>
          <a:xfrm>
            <a:off x="4929120" y="1285920"/>
            <a:ext cx="3494160" cy="24289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1214280" y="4000680"/>
            <a:ext cx="378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группе гонных голубей относят птиц, поднимающихся в воздух после принудительного спугивания с питомника - гона. Летают они группой, кругами на небольшой или средней высоте, садятся также все вместе, ку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5143680" y="385776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аринное название — почтовые голуби, применяемые для передачи посланий голуби. Особой, резко очерченной породы почтовых голубей не существует, а способности, необходимые для указанной деятельности, выработаны в них постепенным подбором родичей и тщательным уходом за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нешнее опис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елосложение у голубей плотное, голова небольшая, шея короткая, крылья обычно длинные и острые, хвост средней длины, закруглен. Ноги короткие, четырехпалые, пальцы длинные, с короткими сильными когтями. Клюв небольшой. Оперение у голубей густое и плотное, разнообразной, нередко яркой окраски. Самцы крупнее самок, по окраске они не различаютс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ит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Питаются голуби главным образом семенами различных растений, реже мелкими беспозвоночными. Ряд видов специализировался на питании плодами. Все голуби нуждаются в воде и часто летают на водопой на значительные расстоя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множ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Все голуби — моногамы и образуют прочные пары. Гнезда устраивают на деревьях, в скалах, норах обрывов, в постройках, а изредка и на земле. Большинство голубей откладывают по 2 яйца, некоторые по 3 или по 1. Яйца белой окраски, без рисунка. Насиживание длится у разных видов от 14 до 30 дней. В году бывает обычно 2, а у некоторых видов и больше — до 4—5 кладок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р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натые хищники, охотящиеся на сизых голубей — сапсан, беркут, ушастая сова, филин и некоторые другие птиц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земле птиц могут подстерегать кошки, опоссумы, еноты и лис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6:11:35Z</dcterms:created>
  <dc:creator>Виталий</dc:creator>
  <dc:description/>
  <dc:language>en-US</dc:language>
  <cp:lastModifiedBy>ТАТЬЯНА</cp:lastModifiedBy>
  <dcterms:modified xsi:type="dcterms:W3CDTF">2013-03-22T14:21:55Z</dcterms:modified>
  <cp:revision>19</cp:revision>
  <dc:subject/>
  <dc:title>Голуби</dc:title>
</cp:coreProperties>
</file>