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620-CE37-4DD3-8C4C-8A5BB0B3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4E7-678F-4236-A6FC-D9482DDC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8DA-2E79-4BDB-A8F3-5EFEB366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640-C861-4C35-B56B-C8414E7E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E97A-9DFE-45C0-87DE-8E5EEC9B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758C-0956-46F7-8F58-C8A7E6F6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CBE1-5917-4109-8E4E-0DB08F3C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D03A-9E76-4947-9BE0-1CB602BB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B300-FC47-4C37-982A-601F200A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A021-4837-4624-AFD7-F3A864CE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40ED-CE12-4BD8-A37E-E0D84CA8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B1E-0D56-45ED-94D9-70293784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D728-7C00-4E9E-A500-DA295F94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09FA-BC99-46FB-9B03-CC9A46E4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BEB8-3F04-4A0D-98ED-7B75B913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D263-2738-4681-94DD-EE29EBBD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4D7D-2C77-40B9-83DB-915F7A21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8BAB-64E1-4B4F-8F9F-DA5CDE8A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663E0-B2DC-402F-90B5-1F9AD17F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F910-8015-4389-8898-F77FEFC3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E7005-9449-41A7-A9AB-F1FE3B6C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09CAF-9F2D-4C24-9E59-DA225D03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16B-3A36-4B37-BAF8-26EFE36B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DD5AE-00F4-4D48-969D-2CE0673B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5984A-EDAD-43F1-A948-31B60631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A4BC6-4FE4-4E53-9566-73463F1A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9ED4C-8DB7-46CB-B46A-0C4818A9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58DB9-224B-440A-A034-476E28CB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32BF9-01B9-46C7-882B-75F05F3F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BF16C-4EB8-4A51-9BED-DABC8D68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0D892-96F6-41D6-879D-0A435127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3B496-4A9C-43BF-A99D-43DC347B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B7397-8C59-49AB-B4CE-67207739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76C-9548-47DB-8C73-C1675B70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AB010-A3F3-4F6B-94BF-CF280DEB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D11ED-3D6C-4199-875E-7217468F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665F9-C51D-4101-A21E-C7CFEBFC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F79B3-61A5-44AF-AA86-2981DE33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5025E-FD26-4B29-9EBC-0E19F113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25AEA-71AE-4666-A359-CB4EE276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24563-55E8-4B15-9D61-4A068A0E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4F6B3-4DFB-4DAF-855A-3DA8A38B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1D86B-7284-4448-BAFD-FD6B4FEA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519B1-A4F9-4278-8CB0-9149DD39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CF5-3E60-41BC-A65E-BBE2B72D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A443D-F67A-4316-A7DE-DA57E87A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5FD4D-E0CF-4456-BC63-C20A580B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0983D-29BB-4FDF-A85A-ED1073DF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0823E-F34E-4ED2-A950-BAC62BC3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4C277-E599-49FC-B1EC-786B97D2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950FD-1525-4265-9D91-4670627E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10999-55E6-492C-977B-D44FA8CA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92C86-35E8-4CC5-8EE3-A4FBCF02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79C18-5256-462B-92B9-87893E26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6DAE4-975E-4C98-8DFB-68BC7EBE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C29-6806-4DC2-896F-0B6AFBB6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595E7-A9D4-4AAA-A8F1-20E1CE23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C51D8-5B2D-4B1F-A3B5-7A412278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97A53-34D5-4D3E-883A-1451C8E5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2D7D9-5F01-4D00-9F21-F3F5F01A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21773-CA5A-476A-A3ED-943E97B7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FCF81-83EF-4995-AFDD-DFA7AFC5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64C39-F4F4-4229-8A30-399EB270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50201-1F4E-43C8-BAD2-284AC0FD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A0806-FB5A-4741-801B-4850A5AF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90749-4A43-4678-AA7F-4AE7F380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CEA-993D-4C6C-99BF-388AE114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3DE3F-5B8A-4780-AD75-74903778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1E87E-1870-4160-83AF-15A52ADA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2F6EF-8B6A-4A2F-98BF-EAEDFE96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937D8-2DFF-4C69-ACB9-7074F99C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EC04C-E6BF-4828-871B-A0CF7610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59335-8471-47F8-828B-F70CBE67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831F4-44B5-4B5A-9BDF-A2BF486A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76899-13A9-4898-A8F8-19B67445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0791A-7C57-4C21-874A-6CFCA252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DAE6A-D5DC-4AE8-A1D5-0ABAFBFD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73C-1C18-4E66-9E36-4D4EE665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56BD0-F5C1-4237-AF7D-7AE4C1BD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47C39-4173-432A-B985-671645EA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EFA5B-A68E-49B8-8EFB-A3DB39DA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058BB-6FC8-4188-967D-CD11BD5A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E8FDA-0C25-48C8-BB82-9A32F3E6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6C8-547E-4D58-B814-37A3DAB0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967F-694E-40B3-AAB6-905271F5CA1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C9A5-BC1F-400B-83A6-93BB93B8896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E826-BFE7-41CA-AE93-26EAAA26AFE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A7D7-CA58-4898-9D5A-98E4A1DA79A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FC25-2DA1-46E4-868A-0D4A8015F5F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4930-7957-4C87-9229-CAF63CC60EC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CF6F-C479-4270-8AEF-FCFE8A9A1F9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99760" y="357120"/>
            <a:ext cx="61722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Голуб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071440" y="270792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резентация ученицы 3 «Б» класс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Arial"/>
              </a:rPr>
              <a:t>МБОУ «СОШ №48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Варанкиной Кир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Рисунок 3" descr="1408.jpg"/>
          <p:cNvPicPr/>
          <p:nvPr/>
        </p:nvPicPr>
        <p:blipFill>
          <a:blip r:embed="rId2"/>
          <a:stretch/>
        </p:blipFill>
        <p:spPr>
          <a:xfrm>
            <a:off x="1476360" y="1197000"/>
            <a:ext cx="6643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иды                                Некоторые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                                      разновидност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ЛУБИ (голубиные) (Columbidae), семейство птиц отряда голубеобразных. Около 290 видов, объединяемых в 41 род.Все породы домашних голубей (около 450), в том числе декоративные и почтовые, произошли от сизого голубя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Голуби являются объектом спортивной охоты, их добывают ради вкусного мяса. Имеют значение они и в качестве домашней птицы. Помимо множества декоративных пород, есть породы мясные и почтовы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6 видов и 9 подвидов голубей занесены в Красную книг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БОЙНЫЕ ГОЛУБИ,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СОКОЛЕТНЫЕ ГОЛУБ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ГОННЫЕ ГОЛУБ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ПОРТИВНЫЕ ГОЛУБ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Бойные                     Высоколетные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6" descr="images1.jpg"/>
          <p:cNvPicPr/>
          <p:nvPr/>
        </p:nvPicPr>
        <p:blipFill>
          <a:blip r:embed="rId1"/>
          <a:stretch/>
        </p:blipFill>
        <p:spPr>
          <a:xfrm>
            <a:off x="1357200" y="785880"/>
            <a:ext cx="3498840" cy="2379600"/>
          </a:xfrm>
          <a:prstGeom prst="rect">
            <a:avLst/>
          </a:prstGeom>
          <a:ln w="0">
            <a:noFill/>
          </a:ln>
        </p:spPr>
      </p:pic>
      <p:pic>
        <p:nvPicPr>
          <p:cNvPr id="326" name="Содержимое 9" descr="2.jpg"/>
          <p:cNvPicPr/>
          <p:nvPr/>
        </p:nvPicPr>
        <p:blipFill>
          <a:blip r:embed="rId2"/>
          <a:stretch/>
        </p:blipFill>
        <p:spPr>
          <a:xfrm>
            <a:off x="5214960" y="844560"/>
            <a:ext cx="3071880" cy="228924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8"/>
          <p:cNvSpPr/>
          <p:nvPr/>
        </p:nvSpPr>
        <p:spPr>
          <a:xfrm>
            <a:off x="1214280" y="3214800"/>
            <a:ext cx="3929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йные голуби это большая группа голубей, которые привлекли многих голубеводов за свою привлекательную внешность, за прекрасные летные способности, за свою неприхотливос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йные голуби, это южная группа голубей, которые совершают упорядоченные кувырки через голову во время полета, с набором высоты и ударом крыло о крыло, которые называются бо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10"/>
          <p:cNvSpPr/>
          <p:nvPr/>
        </p:nvSpPr>
        <p:spPr>
          <a:xfrm>
            <a:off x="5286240" y="3357720"/>
            <a:ext cx="3071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группа голубей, основным критерием отбора при выведении которых была высота и продолжительность пол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екордсменами по продолжительности полета являются английские типплеры, которые способны около 20 ч находиться в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зый голуб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Содержимое 4" descr="265px-Orsopapera-colombo_002.JPG"/>
          <p:cNvPicPr/>
          <p:nvPr/>
        </p:nvPicPr>
        <p:blipFill>
          <a:blip r:embed="rId1"/>
          <a:stretch/>
        </p:blipFill>
        <p:spPr>
          <a:xfrm>
            <a:off x="1214280" y="1357200"/>
            <a:ext cx="3519720" cy="2643480"/>
          </a:xfrm>
          <a:prstGeom prst="rect">
            <a:avLst/>
          </a:prstGeom>
          <a:ln w="0">
            <a:noFill/>
          </a:ln>
        </p:spPr>
      </p:pic>
      <p:pic>
        <p:nvPicPr>
          <p:cNvPr id="331" name="Содержимое 6" descr="120px-Rock_dove_egg.jpeg"/>
          <p:cNvPicPr/>
          <p:nvPr/>
        </p:nvPicPr>
        <p:blipFill>
          <a:blip r:embed="rId2"/>
          <a:stretch/>
        </p:blipFill>
        <p:spPr>
          <a:xfrm>
            <a:off x="4992840" y="1487520"/>
            <a:ext cx="2017440" cy="151272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5"/>
          <p:cNvSpPr/>
          <p:nvPr/>
        </p:nvSpPr>
        <p:spPr>
          <a:xfrm>
            <a:off x="1071720" y="4286160"/>
            <a:ext cx="414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рупный голубь — длина тела 29—36 см, размах крыльев 50—67 см, вес 265—380 г. Оперение густое и плотное, но при этом перья слабо закреплены в коже. Окрас изменчивый, особенно у городских полудиких птиц — всего насчитывают 28 разновидностей окра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7"/>
          <p:cNvSpPr/>
          <p:nvPr/>
        </p:nvSpPr>
        <p:spPr>
          <a:xfrm>
            <a:off x="4814640" y="30002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йцо сизого голу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8" descr="Columba_livia_1_day_old.jpg"/>
          <p:cNvPicPr/>
          <p:nvPr/>
        </p:nvPicPr>
        <p:blipFill>
          <a:blip r:embed="rId3"/>
          <a:stretch/>
        </p:blipFill>
        <p:spPr>
          <a:xfrm>
            <a:off x="5572080" y="3429000"/>
            <a:ext cx="2189160" cy="158436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9"/>
          <p:cNvSpPr/>
          <p:nvPr/>
        </p:nvSpPr>
        <p:spPr>
          <a:xfrm>
            <a:off x="5429160" y="528624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тинцы сизого голуб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ервый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онные                  Спортивны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7" descr="images.jpg"/>
          <p:cNvPicPr/>
          <p:nvPr/>
        </p:nvPicPr>
        <p:blipFill>
          <a:blip r:embed="rId1"/>
          <a:stretch/>
        </p:blipFill>
        <p:spPr>
          <a:xfrm>
            <a:off x="1357200" y="1214280"/>
            <a:ext cx="3286080" cy="2608560"/>
          </a:xfrm>
          <a:prstGeom prst="rect">
            <a:avLst/>
          </a:prstGeom>
          <a:ln w="0">
            <a:noFill/>
          </a:ln>
        </p:spPr>
      </p:pic>
      <p:pic>
        <p:nvPicPr>
          <p:cNvPr id="338" name="Содержимое 9" descr="images.jpg"/>
          <p:cNvPicPr/>
          <p:nvPr/>
        </p:nvPicPr>
        <p:blipFill>
          <a:blip r:embed="rId2"/>
          <a:stretch/>
        </p:blipFill>
        <p:spPr>
          <a:xfrm>
            <a:off x="4929120" y="1285920"/>
            <a:ext cx="3494160" cy="24289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8"/>
          <p:cNvSpPr/>
          <p:nvPr/>
        </p:nvSpPr>
        <p:spPr>
          <a:xfrm>
            <a:off x="1214280" y="4000680"/>
            <a:ext cx="3786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 группе гонных голубей относят птиц, поднимающихся в воздух после принудительного спугивания с питомника - гона. Летают они группой, кругами на небольшой или средней высоте, садятся также все вместе, ку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0"/>
          <p:cNvSpPr/>
          <p:nvPr/>
        </p:nvSpPr>
        <p:spPr>
          <a:xfrm>
            <a:off x="5143680" y="3857760"/>
            <a:ext cx="36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таринное название — почтовые голуби, применяемые для передачи посланий голуби. Особой, резко очерченной породы почтовых голубей не существует, а способности, необходимые для указанной деятельности, выработаны в них постепенным подбором родичей и тщательным уходом за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нешнее опис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елосложение у голубей плотное, голова небольшая, шея короткая, крылья обычно длинные и острые, хвост средней длины, закруглен. Ноги короткие, четырехпалые, пальцы длинные, с короткими сильными когтями. Клюв небольшой. Оперение у голубей густое и плотное, разнообразной, нередко яркой окраски. Самцы крупнее самок, по окраске они не различаютс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ит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Питаются голуби главным образом семенами различных растений, реже мелкими беспозвоночными. Ряд видов специализировался на питании плодами. Все голуби нуждаются в воде и часто летают на водопой на значительные расстоя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змнож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 Все голуби — моногамы и образуют прочные пары. Гнезда устраивают на деревьях, в скалах, норах обрывов, в постройках, а изредка и на земле. Большинство голубей откладывают по 2 яйца, некоторые по 3 или по 1. Яйца белой окраски, без рисунка. Насиживание длится у разных видов от 14 до 30 дней. В году бывает обычно 2, а у некоторых видов и больше — до 4—5 кладок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раг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натые хищники, охотящиеся на сизых голубей — сапсан, беркут, ушастая сова, филин и некоторые другие птиц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земле птиц могут подстерегать кошки, опоссумы, еноты и лисиц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6:11:35Z</dcterms:created>
  <dc:creator>Виталий</dc:creator>
  <dc:description/>
  <dc:language>en-US</dc:language>
  <cp:lastModifiedBy>ТАТЬЯНА</cp:lastModifiedBy>
  <dcterms:modified xsi:type="dcterms:W3CDTF">2013-03-22T14:21:55Z</dcterms:modified>
  <cp:revision>19</cp:revision>
  <dc:subject/>
  <dc:title>Голуби</dc:title>
</cp:coreProperties>
</file>