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2A3-C685-45A8-86E3-1299540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9D7-8578-4493-AFD1-2D40F651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301-94CA-4DCA-8F59-55D1264A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98E-1710-4B10-BADD-EE97B199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0D6-E131-496A-9842-E85F9949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C25B-D131-41BD-8E85-F5C242B2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2AE-BEC6-4E42-B928-F386C0E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253-4594-40E5-89F7-9DD51FDE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83C8-AF6F-4691-99AF-9E817BD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B81F-F167-4D36-BD6C-D02F5B1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252-9F73-476E-AA74-D59D3A8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C36-9FB5-4996-9664-7ECD5CEA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5B9-CF4A-4D82-BFAB-9C989F3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B75-D7F2-444A-9A2C-35FE058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809-E09E-4532-8868-74A76071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FEB8-4C66-4C6F-8B05-25632FAB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C8F7-FB07-4B7E-9746-0599C2D4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DCA-856D-41CB-950D-FE34BACD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29B-4BC2-4633-A9D2-0CD9771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561-7210-449D-BF18-357942F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B21-1247-4D96-BC71-2F4E701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13F-15F7-418F-AF0D-0826B09E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96B-6182-40E5-9498-2B051D6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457-CE6C-478A-8B5C-48C7976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9A28-68B6-4C13-AA8C-6DD01F6D4FC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F1E8-4F68-4AE1-9137-31215B430E4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95120" y="384120"/>
            <a:ext cx="8882280" cy="2621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000680" y="3331800"/>
            <a:ext cx="49291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готовила: 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Антонова Алевтина Владимиро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МБОУ «Средняя общеобразовательная школа №14»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г.Новомосковск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42920" y="3214800"/>
            <a:ext cx="3890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 Авгусманова Т.В. Программа курса "Методика исследовательской деятельности учащихся"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 «Исследовательская работа школьников». Научно-методический и информационно-публицистический журнал. Редакция «Народное образование». Изд. 4 раза в год. Подписной индекс – 8141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3. Концепция развития исследовательской деятельности учащихся/Авт.: Алексеев Н.Г. и др. – В ж. «Исследовательская работа школьников»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4. Леонтович А.В. Исследовательская деятельность как способ формирования мировоззрения. // Народное образование, № 10, 199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5. Развитие исследовательской деятельности учащихся. Методический сборник. — М.: Народное образование, 2001. — 272 с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6. Савенков А.И. Детские исследования в домашнем обучении // Исследовательская работа школьников. 2002. №1. С. 34-4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7. Савенков А.И. Маленький исследователь. Как научить младшего школьника приобретать знания. Ярославль: Академия развития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8. Савенков А.И. Психология исследовательского поведения и исследовательские способности // Исследовательская работа школьников. 2003. №2. С. 38-4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9. Савенков А.И. Учебное исследование в начальной школе//Начальная школа, №12, 2000.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0. Чернышевой Светланы Николаевны. Статья в научно-методический журнал «Развитие исследовательских умений учителей и учащихся сельской школы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713880"/>
            <a:ext cx="5111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следуй все, пусть для тебя на первом месте будет разум; предоставь ему руководить собой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358480" cy="1218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бор те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становка цели и задач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теза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рганизация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ка к защите и защита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C:\Documents and Settings\Аля\Рабочий стол\Фото для печати\PA230177.JPG"/>
          <p:cNvPicPr/>
          <p:nvPr/>
        </p:nvPicPr>
        <p:blipFill>
          <a:blip r:embed="rId2"/>
          <a:stretch/>
        </p:blipFill>
        <p:spPr>
          <a:xfrm>
            <a:off x="357120" y="1643040"/>
            <a:ext cx="30751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Аля\Рабочий стол\Фото для печати\PA230178.JPG"/>
          <p:cNvPicPr/>
          <p:nvPr/>
        </p:nvPicPr>
        <p:blipFill>
          <a:blip r:embed="rId3"/>
          <a:stretch/>
        </p:blipFill>
        <p:spPr>
          <a:xfrm>
            <a:off x="1500120" y="364320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494080" y="96840"/>
            <a:ext cx="630864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1. Тема должна быть интерес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2. Тема должна быть выполнима, решение ее должно быть полезно участникам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3. Учитывая интересы детей, старайтесь держаться ближе к той сфере, в которой сами лучше всего разбираетесь, в которой чувствуете себя сильны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4. Тема должна быть оригинальной, с элементами неожиданности, необыч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Аля\Мои документы\сова рис..jpg"/>
          <p:cNvPicPr/>
          <p:nvPr/>
        </p:nvPicPr>
        <p:blipFill>
          <a:blip r:embed="rId2"/>
          <a:stretch/>
        </p:blipFill>
        <p:spPr>
          <a:xfrm>
            <a:off x="285840" y="142920"/>
            <a:ext cx="1857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ЧЕМ ТЫ ПРОВОДИШЬ ИССЛЕДОВАНИЕ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57520" y="1534680"/>
            <a:ext cx="3328920" cy="18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НАТЬ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СНИ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ЛЕДОВА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143680" y="3571920"/>
            <a:ext cx="330336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1214280" y="3322800"/>
            <a:ext cx="2455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ПОТЕЗА – это предположение, догадка, рассуждение, еще не доказанное опыт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Обычно гипотезы начинаются словам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положим…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пустим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можно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, если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357200" y="4286160"/>
            <a:ext cx="218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42920" y="5786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умать самостоятельно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мотреть книг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росить у других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накомиться с кино и телефильмам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титься к сети Интернет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наблюдать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вести эксперимен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3000240" y="3571920"/>
            <a:ext cx="1428840" cy="11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2500200" y="45007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357120" y="1214280"/>
            <a:ext cx="104796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1285920" y="1857240"/>
            <a:ext cx="116352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7"/>
          <a:stretch/>
        </p:blipFill>
        <p:spPr>
          <a:xfrm>
            <a:off x="2357280" y="257184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8"/>
          <a:stretch/>
        </p:blipFill>
        <p:spPr>
          <a:xfrm>
            <a:off x="1357200" y="521496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ить из текста основные понятия и дать им опреде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цировать основные предметы, процессы, я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троить по порядку основные иде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ить примеры, срав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выводы и умозаклю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ать пути дальнейшего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текст сообщения, презентац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товиться к ответам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ограничивай собственных исследований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бойся совершить ошибку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редоточьс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нимательно анализируй факты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ерь в себ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C:\Documents and Settings\Аля\Рабочий стол\Мои документы\ФОТО Научная конференция\P2030071.JPG"/>
          <p:cNvPicPr/>
          <p:nvPr/>
        </p:nvPicPr>
        <p:blipFill>
          <a:blip r:embed="rId2"/>
          <a:stretch/>
        </p:blipFill>
        <p:spPr>
          <a:xfrm>
            <a:off x="857160" y="1214280"/>
            <a:ext cx="3643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27:24Z</dcterms:created>
  <dc:creator>Аля</dc:creator>
  <dc:description/>
  <dc:language>en-US</dc:language>
  <cp:lastModifiedBy>Аля</cp:lastModifiedBy>
  <dcterms:modified xsi:type="dcterms:W3CDTF">2013-02-12T18:42:40Z</dcterms:modified>
  <cp:revision>14</cp:revision>
  <dc:subject/>
  <dc:title>ИССЛЕДОВАТЕЛЬСКАЯ ДЕЯТЕЛЬНОСТЬ МЛАДШИХ ШКОЛЬНИКОВ</dc:title>
</cp:coreProperties>
</file>