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BEC2-E458-4C97-A8E7-635D10C6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5DED-A58A-4C39-ABC1-AE04AC6B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04C8-7CF9-468D-9E95-B1E49E71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ADA-174B-4AB4-8F3D-C1972839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F0EF-5051-48A7-B40D-5F768D21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7F43-3F50-4952-B83C-7563E63E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98C1-B9FC-463A-BAB3-7ACD072F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37DC-268C-49A9-8C28-BEFC4257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FA73-1DDA-4BBC-9C89-768B0159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90AB-5BFF-4751-BAC2-59B85B55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9926-37F7-43BF-8D44-AB9A65AE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9477-C569-45AD-99E2-F48CAD9D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F022-0C60-47B5-9504-0A93AC23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53C5-003B-475A-9AF4-4C75CF1C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A729-154D-4631-A664-520EAD27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9E4E-F941-4B9E-BF40-D007A26E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0060-0FDF-4DA3-836B-17BFF91C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F004-1A1B-4DAB-9FC7-A79C257D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9CB4-AADA-482D-A822-7CB96DBC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F6E-F11D-42F9-ACB9-D4F79DE1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09C8-EC79-4073-BAA3-7592F805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A53-8311-4A56-B472-080C2073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3073-2FC1-4B23-9B16-E5D8EC36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13C-BB36-404C-A3D4-514A7094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5B53-9362-41AD-BE58-18E3508805F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B22C-577B-4165-B576-580D23DC2EF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Применение инновационных технологии в воспитательной работе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564000" y="3429000"/>
            <a:ext cx="2417760" cy="32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технология развития критического мышления через чтение и письмо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пособность ставить новые, полные смысла </a:t>
            </a:r>
            <a:r>
              <a:rPr b="1" i="1" lang="en-US" sz="3000" spc="-1" strike="noStrike">
                <a:solidFill>
                  <a:srgbClr val="ff7c80"/>
                </a:solidFill>
                <a:latin typeface="Arial"/>
              </a:rPr>
              <a:t>вопрос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ырабатывать разнообразные, подкрепляющие </a:t>
            </a:r>
            <a:r>
              <a:rPr b="1" i="1" lang="en-US" sz="3000" spc="-1" strike="noStrike">
                <a:solidFill>
                  <a:srgbClr val="ff7c80"/>
                </a:solidFill>
                <a:latin typeface="Arial"/>
              </a:rPr>
              <a:t>аргумент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нимать независимые продуманные </a:t>
            </a:r>
            <a:r>
              <a:rPr b="1" i="1" lang="en-US" sz="3000" spc="-1" strike="noStrike">
                <a:solidFill>
                  <a:srgbClr val="ff7c80"/>
                </a:solidFill>
                <a:latin typeface="Arial"/>
              </a:rPr>
              <a:t>решения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Garamond"/>
              </a:rPr>
              <a:t>информационно-коммуникационныхе технологии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позволяют на уроках, мероприятиях пробудить интерес к   изучаемому событию, актуальному вопросу, проблем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00600" y="3733920"/>
            <a:ext cx="39830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печатная маши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монстрация презентац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спользование всего потенциала цифровых образовательных ресурс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иск информации в Интерне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терактивные игр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информационно-коммуникационныхе технологии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все вышеназванные работы с компьютером объединяет в себе интерактивная доск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4360" y="2708280"/>
            <a:ext cx="2879640" cy="3384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3098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228240"/>
            <a:ext cx="89154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использование различных технологий в воспитательной работе в 6 б классе дало  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учащиеся класса воспринимают классный час как обязательный  час общения 1 раз в недел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роцент посещаемости родительских собраний вырос по сравнению с 2011-2012 учебным годом с 61% до 79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проведено 8 совместных мероприятий с родител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обрана копилка классных часов по технологиям: ТРКМПЧ, педагогические мастерские,  личностно-ориентированные классные часы, групповые технологии, компьютерные технолог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аписаны диски с компьютерными презентациями, роликами и интерактивными играми по темам: ЗОЖ, Наркомания, Патриотическое воспитание, Выбор профессии, Безопасность, Училища УР, Инновационные техн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Методическая тема школы:  развитие и воспитание творческой индивидуальности личности школьника 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cc"/>
                </a:solidFill>
                <a:latin typeface="Arial"/>
              </a:rPr>
              <a:t>Цели работы по реализации методической тем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здание условий для реализации учебных возможностей каждого обучающегося на основе творческой личности учите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Непрерывное совершенствование уровня педагогического мастерства учителей, их эрудиции и компетентности в организации, проведении и обеспечении образовательного процесс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Вопросы для размышления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Как поддержать интерес учащихся  к классным час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Как повысить мотивацию и вовлечь учащихся в активную деятель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В какой форме  проводить родительские собрания,  чтобы родители не потеряли желание посещать школ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Как остаться педагогическим грамотным специалистом, способным научить и воспитать чему-то ребёнка, когда  современные дети понимают в компьютерных технологиях лучше, чем классные руководител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cc"/>
                </a:solidFill>
                <a:latin typeface="Garamond"/>
              </a:rPr>
              <a:t>С целью повышения качества воспитательной работы, развития познавательного интереса в систему воспитательной работы я  начала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вводить информационно-коммуникационные инновационные технологии</a:t>
            </a: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Garamond"/>
              </a:rPr>
              <a:t>Педагогическая технология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- это продуманная  </a:t>
            </a: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модель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совместной педагогической деятельности по проектированию, организации и проведению учебного процесса с  обеспечением комфортных условий для учащихся и учителя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410080" y="3962520"/>
            <a:ext cx="2152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Garamond"/>
              </a:rPr>
              <a:t>здоровьесберегающие и оздоровительные технологии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необходимы для сохранения физического и психического здоровья ребенка и обучения  навыкам сохранения его.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1"/>
          <a:stretch/>
        </p:blipFill>
        <p:spPr>
          <a:xfrm>
            <a:off x="4419720" y="3745080"/>
            <a:ext cx="452124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технология личностно-ориентированного классного часа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в центре -  личность ребенка, обеспечение комфортных, бесконфликтных и безопасных условий его развития, реализации его природных потенциалов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562720" y="4495680"/>
            <a:ext cx="25113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технологию сотрудничества и групповые формы проведения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цель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технологии </a:t>
            </a:r>
            <a:r>
              <a:rPr b="1" i="1" lang="en-US" sz="3000" spc="-1" strike="noStrike">
                <a:solidFill>
                  <a:srgbClr val="0066ff"/>
                </a:solidFill>
                <a:latin typeface="Arial"/>
              </a:rPr>
              <a:t>воспитание подлинно свободной личности, умеющей  самостоятельно мыслить, добывать и применять знания,  эффективно сотрудничать в разнообразных по составу и профилю группах, быть открытыми для новых контактов и культурных связей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Технология педагогических мастерских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это такая форма обучения детей и взрослых, которая создает условия для восхождения каждого участника к новому знанию и новому опыту путем самостоятельного или коллективного открыт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2-01-01T03:29:2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