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A958-8EA8-443D-9375-6B2D64E5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A482-13D3-4C2F-AADB-1197AD27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5CF4-63E1-41A0-B9B1-8AFA187F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DF36-1668-4896-8AEB-795CAF0D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9CF8-323F-427F-B9BC-93E3CA0F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9B3B-C0E6-4C0C-B06A-57CEF74C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613A-4165-4C73-8878-CE04EDCA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5C9D-125C-4306-88A4-99F4EFC1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A93B-BA94-4633-9B26-C5BCB974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73B8-8241-4D97-9AAF-01261446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8632-AB2D-4E29-AB87-F54B8F2D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E63A-F4E9-4589-B10D-A93851B8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D67B-2852-4FD9-8503-2BD2FD6E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9BEF-0231-4061-91A7-82A8CA2E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9068-1024-451E-A161-7BAD2441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089B-E2B7-41A5-9EE1-B5C8496B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10DF-5F07-4A6B-96C4-FF7AA914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BDE-B7A3-4B81-9D88-4386EEB5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B275-8AE1-4956-817E-3A255D89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B9DE-3E42-4417-B694-04D9A599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AD17-B1C8-444A-A030-8DC0BE56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81FE-FAC8-42A5-9A3C-4D4F9890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F990-11BF-44EA-8059-6CEA51B6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29D2-D1D1-4630-BFEC-46781DBB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4011-F646-4D98-A8EC-75D989932C0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E7F1-0702-4002-9FAD-39B66571222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Применение инновационных технологии в воспитательной работе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564000" y="3429000"/>
            <a:ext cx="2417760" cy="32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технология развития критического мышления через чтение и письмо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пособность ставить новые, полные смысла </a:t>
            </a:r>
            <a:r>
              <a:rPr b="1" i="1" lang="en-US" sz="3000" spc="-1" strike="noStrike">
                <a:solidFill>
                  <a:srgbClr val="ff7c80"/>
                </a:solidFill>
                <a:latin typeface="Arial"/>
              </a:rPr>
              <a:t>вопрос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ырабатывать разнообразные, подкрепляющие </a:t>
            </a:r>
            <a:r>
              <a:rPr b="1" i="1" lang="en-US" sz="3000" spc="-1" strike="noStrike">
                <a:solidFill>
                  <a:srgbClr val="ff7c80"/>
                </a:solidFill>
                <a:latin typeface="Arial"/>
              </a:rPr>
              <a:t>аргумент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инимать независимые продуманные </a:t>
            </a:r>
            <a:r>
              <a:rPr b="1" i="1" lang="en-US" sz="3000" spc="-1" strike="noStrike">
                <a:solidFill>
                  <a:srgbClr val="ff7c80"/>
                </a:solidFill>
                <a:latin typeface="Arial"/>
              </a:rPr>
              <a:t>решения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Garamond"/>
              </a:rPr>
              <a:t>информационно-коммуникационныхе технологии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позволяют на уроках, мероприятиях пробудить интерес к   изучаемому событию, актуальному вопросу, проблем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00600" y="3733920"/>
            <a:ext cx="39830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печатная маши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емонстрация презентац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спользование всего потенциала цифровых образовательных ресурс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иск информации в Интерне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терактивные игр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информационно-коммуникационныхе технологии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все вышеназванные работы с компьютером объединяет в себе интерактивная доск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4360" y="2708280"/>
            <a:ext cx="2879640" cy="3384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3098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228240"/>
            <a:ext cx="89154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использование различных технологий в воспитательной работе в 6 б классе дало  результ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учащиеся класса воспринимают классный час как обязательный  час общения 1 раз в недел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роцент посещаемости родительских собраний вырос по сравнению с 2011-2012 учебным годом с 61% до 79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проведено 8 совместных мероприятий с родителя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Собрана копилка классных часов по технологиям: ТРКМПЧ, педагогические мастерские,  личностно-ориентированные классные часы, групповые технологии, компьютерные технолог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Записаны диски с компьютерными презентациями, роликами и интерактивными играми по темам: ЗОЖ, Наркомания, Патриотическое воспитание, Выбор профессии, Безопасность, Училища УР, Инновационные техн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Методическая тема школы:  развитие и воспитание творческой индивидуальности личности школьника 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cc"/>
                </a:solidFill>
                <a:latin typeface="Arial"/>
              </a:rPr>
              <a:t>Цели работы по реализации методической тем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здание условий для реализации учебных возможностей каждого обучающегося на основе творческой личности учител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Непрерывное совершенствование уровня педагогического мастерства учителей, их эрудиции и компетентности в организации, проведении и обеспечении образовательного процесс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Вопросы для размышления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Как поддержать интерес учащихся  к классным час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Как повысить мотивацию и вовлечь учащихся в активную деятель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В какой форме  проводить родительские собрания,  чтобы родители не потеряли желание посещать школ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Как остаться педагогическим грамотным специалистом, способным научить и воспитать чему-то ребёнка, когда  современные дети понимают в компьютерных технологиях лучше, чем классные руководител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cc"/>
                </a:solidFill>
                <a:latin typeface="Garamond"/>
              </a:rPr>
              <a:t>С целью повышения качества воспитательной работы, развития познавательного интереса в систему воспитательной работы я  начала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вводить информационно-коммуникационные инновационные технологии</a:t>
            </a: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Garamond"/>
              </a:rPr>
              <a:t>Педагогическая технология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- это продуманная  </a:t>
            </a: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модель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совместной педагогической деятельности по проектированию, организации и проведению учебного процесса с  обеспечением комфортных условий для учащихся и учителя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410080" y="3962520"/>
            <a:ext cx="2152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Garamond"/>
              </a:rPr>
              <a:t>здоровьесберегающие и оздоровительные технологии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необходимы для сохранения физического и психического здоровья ребенка и обучения  навыкам сохранения его.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1"/>
          <a:stretch/>
        </p:blipFill>
        <p:spPr>
          <a:xfrm>
            <a:off x="4419720" y="3745080"/>
            <a:ext cx="452124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технология личностно-ориентированного классного часа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в центре -  личность ребенка, обеспечение комфортных, бесконфликтных и безопасных условий его развития, реализации его природных потенциалов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562720" y="4495680"/>
            <a:ext cx="25113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технологию сотрудничества и групповые формы проведения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цель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технологии </a:t>
            </a:r>
            <a:r>
              <a:rPr b="1" i="1" lang="en-US" sz="3000" spc="-1" strike="noStrike">
                <a:solidFill>
                  <a:srgbClr val="0066ff"/>
                </a:solidFill>
                <a:latin typeface="Arial"/>
              </a:rPr>
              <a:t>воспитание подлинно свободной личности, умеющей  самостоятельно мыслить, добывать и применять знания,  эффективно сотрудничать в разнообразных по составу и профилю группах, быть открытыми для новых контактов и культурных связей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Технология педагогических мастерских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это такая форма обучения детей и взрослых, которая создает условия для восхождения каждого участника к новому знанию и новому опыту путем самостоятельного или коллективного открыт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2-01-01T03:29:2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