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86800" cy="967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025280" y="725040"/>
            <a:ext cx="4838760" cy="36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0204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A20AB02-7B9C-4945-8051-1246E2D2D1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«тащи и бросай» для копирования слайдов описан в ресурсе «Окно программ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B6D1C-C9F6-4F59-9A29-C6BB9D53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966E6-3622-410E-AC8A-5593C2E3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35653-356A-46E2-9438-AD327B77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4A09F-46C9-4474-AD23-01CD23AA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5136-E104-49AD-810E-B6DA7E53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21C8-B3BA-4710-A8C4-6DFFD0BA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3547-E20A-4456-9787-BC87771E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709A-8D9B-4FFB-BCD2-C2360FA9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FE7F-8A20-4130-A8E8-437D73D3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9A04-1714-4222-846D-8B9C6CD7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1B24-B5DC-4523-89DE-CA8242D0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333F8-5E70-4219-8A60-754851FC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B84D-EEC0-4E32-BEF8-928FDA94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0CD2-F570-4D63-9286-C3ED0A8A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B3F0-B803-4C3B-821E-43284605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8AE8-DE20-4757-9B30-4F25CB4B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E6B2-6EB1-4BDF-9C51-37F5819D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6E2D1-26C6-4BD7-8410-BBE02C4C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710ED-BD00-46EB-87D2-EF704CB3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12005-D148-4DCC-A966-6FD74DC6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E9E0C-6D41-4DFA-B7CE-F00193CA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418C2-3FDA-4F5A-8A2A-9BC2BA28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6564C-0B1B-46F6-82B1-4DFBD81B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1C390-E7DE-4F36-BCAA-59E964DC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FF64-6873-4DA9-BD79-48D8E4F9C9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0B6A-CBA2-489C-BDDF-8259F36410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Преобразование тригонометрической функции 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y=sin x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y=sinx   </a:t>
            </a: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y=sin(x+</a:t>
            </a:r>
            <a:r>
              <a:rPr b="0" lang="el-GR" sz="3600" spc="-1" strike="noStrike">
                <a:solidFill>
                  <a:srgbClr val="663300"/>
                </a:solidFill>
                <a:latin typeface="Arial"/>
              </a:rPr>
              <a:t>π/2</a:t>
            </a: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)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6600"/>
                </a:solidFill>
                <a:latin typeface="Arial"/>
              </a:rPr>
              <a:t>y=sin(x- </a:t>
            </a:r>
            <a:r>
              <a:rPr b="0" lang="el-GR" sz="3600" spc="-1" strike="noStrike">
                <a:solidFill>
                  <a:srgbClr val="006600"/>
                </a:solidFill>
                <a:latin typeface="Arial"/>
              </a:rPr>
              <a:t>π/2</a:t>
            </a:r>
            <a:r>
              <a:rPr b="1" i="1" lang="en-US" sz="36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619280" y="1981080"/>
            <a:ext cx="5902200" cy="38862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1692360" y="3357720"/>
            <a:ext cx="5546520" cy="7426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1692360" y="3357720"/>
            <a:ext cx="5543640" cy="7207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1692360" y="3357720"/>
            <a:ext cx="55436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32948E-006 L -0.06701 -0.00324 E">
                                      <p:cBhvr>
                                        <p:cTn id="220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4624E-007 L 0.07483 -0.00532 E">
                                      <p:cBhvr>
                                        <p:cTn id="228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аллельный перенос вдоль ос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с&gt;0, то график функции получается путем параллельного переноса графи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доль оси ординат на с единиц ввер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с&lt;0, то график функции получается путем параллельного переноса графи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доль оси ординат на |с| единиц вни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6732720" y="3860640"/>
            <a:ext cx="1871640" cy="419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6516720" y="2070000"/>
            <a:ext cx="1800360" cy="4017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3492360" y="1058760"/>
            <a:ext cx="215928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y=sin x  </a:t>
            </a: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y=sin x+</a:t>
            </a: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6600"/>
                </a:solidFill>
                <a:latin typeface="Arial"/>
              </a:rPr>
              <a:t>y=sin x-</a:t>
            </a: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785960" y="1700280"/>
            <a:ext cx="6027840" cy="48974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1835280" y="3429000"/>
            <a:ext cx="5762520" cy="9763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1835280" y="2565360"/>
            <a:ext cx="5832360" cy="7192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1835280" y="3429000"/>
            <a:ext cx="5762520" cy="9763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5"/>
          <a:stretch/>
        </p:blipFill>
        <p:spPr>
          <a:xfrm>
            <a:off x="1835280" y="3429000"/>
            <a:ext cx="575928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3.7037E-006 L -5E-006 -0.13657 E">
                                      <p:cBhvr>
                                        <p:cTn id="252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23699E-006 L 0.00018 0.11537 E">
                                      <p:cBhvr>
                                        <p:cTn id="275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1981080" y="228600"/>
            <a:ext cx="4876560" cy="6400800"/>
            <a:chOff x="1981080" y="228600"/>
            <a:chExt cx="4876560" cy="6400800"/>
          </a:xfrm>
        </p:grpSpPr>
        <p:sp>
          <p:nvSpPr>
            <p:cNvPr id="115" name=""/>
            <p:cNvSpPr/>
            <p:nvPr/>
          </p:nvSpPr>
          <p:spPr>
            <a:xfrm>
              <a:off x="685764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8108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8752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9360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0004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0648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92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1936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2580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3224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3868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4512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5120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1981080" y="228600"/>
              <a:ext cx="4876560" cy="6400800"/>
              <a:chOff x="1981080" y="228600"/>
              <a:chExt cx="4876560" cy="6400800"/>
            </a:xfrm>
          </p:grpSpPr>
          <p:sp>
            <p:nvSpPr>
              <p:cNvPr id="129" name=""/>
              <p:cNvSpPr/>
              <p:nvPr/>
            </p:nvSpPr>
            <p:spPr>
              <a:xfrm>
                <a:off x="1981080" y="2286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981080" y="66294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981080" y="6048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981080" y="9810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81080" y="13590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981080" y="17352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81080" y="21114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81080" y="24876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81080" y="28638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981080" y="32400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81080" y="36180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981080" y="39942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981080" y="43704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81080" y="47466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81080" y="51228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81080" y="54990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981080" y="58770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981080" y="62532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"/>
          <p:cNvSpPr/>
          <p:nvPr/>
        </p:nvSpPr>
        <p:spPr>
          <a:xfrm>
            <a:off x="1981080" y="3581280"/>
            <a:ext cx="4749840" cy="12960"/>
          </a:xfrm>
          <a:custGeom>
            <a:avLst/>
            <a:gdLst/>
            <a:ahLst/>
            <a:rect l="l" t="t" r="r" b="b"/>
            <a:pathLst>
              <a:path w="2992" h="8">
                <a:moveTo>
                  <a:pt x="0" y="8"/>
                </a:moveTo>
                <a:lnTo>
                  <a:pt x="299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0"/>
            <a:ext cx="1440" cy="6603840"/>
          </a:xfrm>
          <a:custGeom>
            <a:avLst/>
            <a:gdLst/>
            <a:ahLst/>
            <a:rect l="l" t="t" r="r" b="b"/>
            <a:pathLst>
              <a:path w="1" h="4160">
                <a:moveTo>
                  <a:pt x="0" y="416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8800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26280" y="37339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64320" y="1522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228600"/>
            <a:ext cx="2425680" cy="337968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138080" y="1660320"/>
            <a:ext cx="1532880" cy="1285200"/>
            <a:chOff x="7138080" y="1660320"/>
            <a:chExt cx="1532880" cy="1285200"/>
          </a:xfrm>
        </p:grpSpPr>
        <p:sp>
          <p:nvSpPr>
            <p:cNvPr id="154" name=""/>
            <p:cNvSpPr/>
            <p:nvPr/>
          </p:nvSpPr>
          <p:spPr>
            <a:xfrm>
              <a:off x="7873920" y="2280960"/>
              <a:ext cx="2948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24080" y="192852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04880" y="2350800"/>
              <a:ext cx="2491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98400" y="1660320"/>
              <a:ext cx="2491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1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74600" y="1968120"/>
              <a:ext cx="2491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38080" y="1968120"/>
              <a:ext cx="2203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y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26800" y="1911240"/>
              <a:ext cx="393840" cy="594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200400" y="228600"/>
            <a:ext cx="2425680" cy="337968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4064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501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164000" y="765000"/>
            <a:ext cx="1122840" cy="666720"/>
            <a:chOff x="7164000" y="765000"/>
            <a:chExt cx="1122840" cy="666720"/>
          </a:xfrm>
        </p:grpSpPr>
        <p:sp>
          <p:nvSpPr>
            <p:cNvPr id="165" name=""/>
            <p:cNvSpPr/>
            <p:nvPr/>
          </p:nvSpPr>
          <p:spPr>
            <a:xfrm>
              <a:off x="7893000" y="82188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007d"/>
                  </a:solidFill>
                  <a:latin typeface="Times New Roman"/>
                  <a:ea typeface="Arial"/>
                </a:rPr>
                <a:t>x</a:t>
              </a:r>
              <a:r>
                <a:rPr b="1" lang="en-US" sz="3900" spc="-1" strike="noStrike" baseline="30000">
                  <a:solidFill>
                    <a:srgbClr val="00007d"/>
                  </a:solidFill>
                  <a:latin typeface="Times New Roman"/>
                  <a:ea typeface="Arial"/>
                </a:rPr>
                <a:t>2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4000" y="821880"/>
              <a:ext cx="226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7d"/>
                  </a:solidFill>
                  <a:latin typeface="Times New Roman"/>
                  <a:ea typeface="Arial"/>
                </a:rPr>
                <a:t>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47680" y="76500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164000" y="3068640"/>
            <a:ext cx="1370880" cy="651600"/>
            <a:chOff x="7164000" y="3068640"/>
            <a:chExt cx="1370880" cy="651600"/>
          </a:xfrm>
        </p:grpSpPr>
        <p:sp>
          <p:nvSpPr>
            <p:cNvPr id="169" name=""/>
            <p:cNvSpPr/>
            <p:nvPr/>
          </p:nvSpPr>
          <p:spPr>
            <a:xfrm>
              <a:off x="7892640" y="3125520"/>
              <a:ext cx="6422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2</a:t>
              </a:r>
              <a:r>
                <a:rPr b="1" i="1" lang="en-US" sz="39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x</a:t>
              </a:r>
              <a:r>
                <a:rPr b="1" lang="en-US" sz="3900" spc="-1" strike="noStrike" baseline="30000">
                  <a:solidFill>
                    <a:srgbClr val="006600"/>
                  </a:solidFill>
                  <a:latin typeface="Times New Roman"/>
                  <a:ea typeface="Arial"/>
                </a:rPr>
                <a:t>2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4000" y="3125520"/>
              <a:ext cx="2203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y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47680" y="306864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200400" y="228600"/>
            <a:ext cx="2425680" cy="337968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1908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203640" y="3645000"/>
            <a:ext cx="2425680" cy="337968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3168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164000" y="3933720"/>
            <a:ext cx="1287720" cy="666720"/>
            <a:chOff x="7164000" y="3933720"/>
            <a:chExt cx="1287720" cy="666720"/>
          </a:xfrm>
        </p:grpSpPr>
        <p:sp>
          <p:nvSpPr>
            <p:cNvPr id="175" name=""/>
            <p:cNvSpPr/>
            <p:nvPr/>
          </p:nvSpPr>
          <p:spPr>
            <a:xfrm>
              <a:off x="7893360" y="3990600"/>
              <a:ext cx="558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6600cc"/>
                  </a:solidFill>
                  <a:latin typeface="Times New Roman"/>
                  <a:ea typeface="Arial"/>
                </a:rPr>
                <a:t>-x</a:t>
              </a:r>
              <a:r>
                <a:rPr b="1" lang="en-US" sz="3900" spc="-1" strike="noStrike" baseline="30000">
                  <a:solidFill>
                    <a:srgbClr val="6600cc"/>
                  </a:solidFill>
                  <a:latin typeface="Times New Roman"/>
                  <a:ea typeface="Arial"/>
                </a:rPr>
                <a:t>2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64000" y="3990600"/>
              <a:ext cx="226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6600cc"/>
                  </a:solidFill>
                  <a:latin typeface="Times New Roman"/>
                  <a:ea typeface="Arial"/>
                </a:rPr>
                <a:t>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47680" y="393372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6600cc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284720" y="3213000"/>
            <a:ext cx="216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3500280"/>
            <a:ext cx="0" cy="216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1584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4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72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1905120" y="304920"/>
            <a:ext cx="4876560" cy="6400800"/>
            <a:chOff x="1905120" y="304920"/>
            <a:chExt cx="4876560" cy="6400800"/>
          </a:xfrm>
        </p:grpSpPr>
        <p:sp>
          <p:nvSpPr>
            <p:cNvPr id="182" name=""/>
            <p:cNvSpPr/>
            <p:nvPr/>
          </p:nvSpPr>
          <p:spPr>
            <a:xfrm>
              <a:off x="6781680" y="30492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120" y="30492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11560" y="30492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17640" y="30492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24080" y="30492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30520" y="30492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36960" y="30492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43400" y="30492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49840" y="30492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56280" y="30492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62720" y="30492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69160" y="30492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75240" y="30492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1905120" y="304920"/>
              <a:ext cx="4876560" cy="6400800"/>
              <a:chOff x="1905120" y="304920"/>
              <a:chExt cx="4876560" cy="6400800"/>
            </a:xfrm>
          </p:grpSpPr>
          <p:sp>
            <p:nvSpPr>
              <p:cNvPr id="196" name=""/>
              <p:cNvSpPr/>
              <p:nvPr/>
            </p:nvSpPr>
            <p:spPr>
              <a:xfrm>
                <a:off x="1905120" y="3049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905120" y="67057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905120" y="6811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905120" y="10573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905120" y="14353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905120" y="18115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05120" y="21877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05120" y="25639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05120" y="29401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05120" y="33163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905120" y="36943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905120" y="40705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905120" y="44467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905120" y="48229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05120" y="51991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05120" y="55753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05120" y="59533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905120" y="63295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1981080" y="4038480"/>
            <a:ext cx="4749840" cy="12960"/>
          </a:xfrm>
          <a:custGeom>
            <a:avLst/>
            <a:gdLst/>
            <a:ahLst/>
            <a:rect l="l" t="t" r="r" b="b"/>
            <a:pathLst>
              <a:path w="2992" h="8">
                <a:moveTo>
                  <a:pt x="0" y="8"/>
                </a:moveTo>
                <a:lnTo>
                  <a:pt x="299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43400" y="254160"/>
            <a:ext cx="1440" cy="6603840"/>
          </a:xfrm>
          <a:custGeom>
            <a:avLst/>
            <a:gdLst/>
            <a:ahLst/>
            <a:rect l="l" t="t" r="r" b="b"/>
            <a:pathLst>
              <a:path w="1" h="4160">
                <a:moveTo>
                  <a:pt x="0" y="4160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3572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26280" y="3352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11680" y="2286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380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53080" y="270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09440" y="5013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47080" y="2703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51640" y="346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78560" y="549360"/>
            <a:ext cx="1760760" cy="720000"/>
            <a:chOff x="178560" y="549360"/>
            <a:chExt cx="1760760" cy="720000"/>
          </a:xfrm>
        </p:grpSpPr>
        <p:sp>
          <p:nvSpPr>
            <p:cNvPr id="225" name=""/>
            <p:cNvSpPr/>
            <p:nvPr/>
          </p:nvSpPr>
          <p:spPr>
            <a:xfrm>
              <a:off x="1139400" y="62676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46080" y="98856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23040" y="626760"/>
              <a:ext cx="2491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8560" y="606240"/>
              <a:ext cx="2203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2600" y="54936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12840" y="626760"/>
              <a:ext cx="72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876360" y="1844640"/>
            <a:ext cx="1621440" cy="720360"/>
            <a:chOff x="6876360" y="1844640"/>
            <a:chExt cx="1621440" cy="720360"/>
          </a:xfrm>
        </p:grpSpPr>
        <p:sp>
          <p:nvSpPr>
            <p:cNvPr id="232" name=""/>
            <p:cNvSpPr/>
            <p:nvPr/>
          </p:nvSpPr>
          <p:spPr>
            <a:xfrm>
              <a:off x="7837200" y="192240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2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43880" y="22842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0840" y="1922400"/>
              <a:ext cx="2491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x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76360" y="1901880"/>
              <a:ext cx="2203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y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60400" y="184464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910280" y="1922400"/>
              <a:ext cx="58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876360" y="1125360"/>
            <a:ext cx="1735920" cy="720360"/>
            <a:chOff x="6876360" y="1125360"/>
            <a:chExt cx="1735920" cy="720360"/>
          </a:xfrm>
        </p:grpSpPr>
        <p:sp>
          <p:nvSpPr>
            <p:cNvPr id="239" name=""/>
            <p:cNvSpPr/>
            <p:nvPr/>
          </p:nvSpPr>
          <p:spPr>
            <a:xfrm>
              <a:off x="7837200" y="120312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6600cc"/>
                  </a:solidFill>
                  <a:latin typeface="Times New Roman"/>
                  <a:ea typeface="Arial"/>
                </a:rPr>
                <a:t>2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43880" y="156492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20840" y="1203120"/>
              <a:ext cx="2491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6600cc"/>
                  </a:solidFill>
                  <a:latin typeface="Times New Roman"/>
                  <a:ea typeface="Arial"/>
                </a:rPr>
                <a:t>x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76360" y="1182600"/>
              <a:ext cx="2203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6600cc"/>
                  </a:solidFill>
                  <a:latin typeface="Times New Roman"/>
                  <a:ea typeface="Arial"/>
                </a:rPr>
                <a:t>y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60400" y="112536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6600cc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0280" y="1203120"/>
              <a:ext cx="70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00cc"/>
                  </a:solidFill>
                  <a:latin typeface="Arial"/>
                  <a:ea typeface="Arial"/>
                </a:rPr>
                <a:t>+</a:t>
              </a:r>
              <a:r>
                <a:rPr b="1" lang="ru-RU" sz="3600" spc="-1" strike="noStrike">
                  <a:solidFill>
                    <a:srgbClr val="6600cc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164000" y="333360"/>
            <a:ext cx="1122840" cy="666720"/>
            <a:chOff x="7164000" y="333360"/>
            <a:chExt cx="1122840" cy="666720"/>
          </a:xfrm>
        </p:grpSpPr>
        <p:sp>
          <p:nvSpPr>
            <p:cNvPr id="246" name=""/>
            <p:cNvSpPr/>
            <p:nvPr/>
          </p:nvSpPr>
          <p:spPr>
            <a:xfrm>
              <a:off x="7893000" y="39024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007d"/>
                  </a:solidFill>
                  <a:latin typeface="Times New Roman"/>
                  <a:ea typeface="Arial"/>
                </a:rPr>
                <a:t>x</a:t>
              </a:r>
              <a:r>
                <a:rPr b="1" lang="en-US" sz="3900" spc="-1" strike="noStrike" baseline="30000">
                  <a:solidFill>
                    <a:srgbClr val="00007d"/>
                  </a:solidFill>
                  <a:latin typeface="Times New Roman"/>
                  <a:ea typeface="Arial"/>
                </a:rPr>
                <a:t>2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64000" y="390240"/>
              <a:ext cx="226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7d"/>
                  </a:solidFill>
                  <a:latin typeface="Times New Roman"/>
                  <a:ea typeface="Arial"/>
                </a:rPr>
                <a:t>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47680" y="33336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132000" y="620640"/>
            <a:ext cx="2425680" cy="338004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31680">
            <a:solidFill>
              <a:srgbClr val="0000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2924280"/>
            <a:ext cx="216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11640" y="5229360"/>
            <a:ext cx="2890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32000" y="620640"/>
            <a:ext cx="2425680" cy="338004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3168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620640"/>
            <a:ext cx="2425680" cy="338004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3168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81503E-006 L 0.00122 -0.16208 E">
                                      <p:cBhvr>
                                        <p:cTn id="52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81503E-006 L 0.00122 0.17341 E">
                                      <p:cBhvr>
                                        <p:cTn id="64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2133720" y="228600"/>
            <a:ext cx="4876560" cy="6400800"/>
            <a:chOff x="2133720" y="228600"/>
            <a:chExt cx="4876560" cy="6400800"/>
          </a:xfrm>
        </p:grpSpPr>
        <p:sp>
          <p:nvSpPr>
            <p:cNvPr id="255" name=""/>
            <p:cNvSpPr/>
            <p:nvPr/>
          </p:nvSpPr>
          <p:spPr>
            <a:xfrm>
              <a:off x="701028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3372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4016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4624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5268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5912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6556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7844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8488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9132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9776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0384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2133720" y="228600"/>
              <a:ext cx="4876560" cy="6400800"/>
              <a:chOff x="2133720" y="228600"/>
              <a:chExt cx="4876560" cy="6400800"/>
            </a:xfrm>
          </p:grpSpPr>
          <p:sp>
            <p:nvSpPr>
              <p:cNvPr id="269" name=""/>
              <p:cNvSpPr/>
              <p:nvPr/>
            </p:nvSpPr>
            <p:spPr>
              <a:xfrm>
                <a:off x="2133720" y="2286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33720" y="66294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33720" y="6048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33720" y="9810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33720" y="13590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17352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33720" y="21114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33720" y="24876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33720" y="28638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33720" y="32400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33720" y="36180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33720" y="39942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33720" y="43704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47466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33720" y="51228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3720" y="54990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33720" y="58770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33720" y="62532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 flipV="1" rot="21451200">
            <a:off x="1979640" y="3502440"/>
            <a:ext cx="5261040" cy="228960"/>
          </a:xfrm>
          <a:custGeom>
            <a:avLst/>
            <a:gdLst/>
            <a:ahLst/>
            <a:rect l="l" t="t" r="r" b="b"/>
            <a:pathLst>
              <a:path w="2992" h="8">
                <a:moveTo>
                  <a:pt x="0" y="8"/>
                </a:moveTo>
                <a:lnTo>
                  <a:pt x="299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254160"/>
            <a:ext cx="1440" cy="6603840"/>
          </a:xfrm>
          <a:custGeom>
            <a:avLst/>
            <a:gdLst/>
            <a:ahLst/>
            <a:rect l="l" t="t" r="r" b="b"/>
            <a:pathLst>
              <a:path w="1" h="4160">
                <a:moveTo>
                  <a:pt x="0" y="416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929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8348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16600" y="1522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0240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48000" y="260280"/>
            <a:ext cx="2425680" cy="337968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487760" y="-117360"/>
            <a:ext cx="720720" cy="331560"/>
            <a:chOff x="4487760" y="-117360"/>
            <a:chExt cx="720720" cy="331560"/>
          </a:xfrm>
        </p:grpSpPr>
        <p:sp>
          <p:nvSpPr>
            <p:cNvPr id="295" name=""/>
            <p:cNvSpPr/>
            <p:nvPr/>
          </p:nvSpPr>
          <p:spPr>
            <a:xfrm>
              <a:off x="5207040" y="-604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87760" y="-604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32280" y="-11736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493440" y="3645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78160" y="3645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78920" y="620640"/>
            <a:ext cx="1954080" cy="651600"/>
            <a:chOff x="178920" y="620640"/>
            <a:chExt cx="1954080" cy="651600"/>
          </a:xfrm>
        </p:grpSpPr>
        <p:sp>
          <p:nvSpPr>
            <p:cNvPr id="305" name=""/>
            <p:cNvSpPr/>
            <p:nvPr/>
          </p:nvSpPr>
          <p:spPr>
            <a:xfrm>
              <a:off x="908640" y="677520"/>
              <a:ext cx="1224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x+</a:t>
              </a:r>
              <a:r>
                <a:rPr b="1" i="1" lang="en-US" sz="3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)</a:t>
              </a:r>
              <a:r>
                <a:rPr b="1" lang="ru-RU" sz="39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8920" y="677520"/>
              <a:ext cx="2203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2600" y="62064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7380000" y="476280"/>
            <a:ext cx="1122840" cy="666720"/>
            <a:chOff x="7380000" y="476280"/>
            <a:chExt cx="1122840" cy="666720"/>
          </a:xfrm>
        </p:grpSpPr>
        <p:sp>
          <p:nvSpPr>
            <p:cNvPr id="309" name=""/>
            <p:cNvSpPr/>
            <p:nvPr/>
          </p:nvSpPr>
          <p:spPr>
            <a:xfrm>
              <a:off x="8109000" y="53316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007d"/>
                  </a:solidFill>
                  <a:latin typeface="Times New Roman"/>
                  <a:ea typeface="Arial"/>
                </a:rPr>
                <a:t>x</a:t>
              </a:r>
              <a:r>
                <a:rPr b="1" lang="en-US" sz="3900" spc="-1" strike="noStrike" baseline="30000">
                  <a:solidFill>
                    <a:srgbClr val="00007d"/>
                  </a:solidFill>
                  <a:latin typeface="Times New Roman"/>
                  <a:ea typeface="Arial"/>
                </a:rPr>
                <a:t>2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80000" y="533160"/>
              <a:ext cx="226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7d"/>
                  </a:solidFill>
                  <a:latin typeface="Times New Roman"/>
                  <a:ea typeface="Arial"/>
                </a:rPr>
                <a:t>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63680" y="47628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3348000" y="260280"/>
            <a:ext cx="2425680" cy="337968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31680">
            <a:solidFill>
              <a:srgbClr val="0000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019640" y="1413000"/>
            <a:ext cx="1982520" cy="651600"/>
            <a:chOff x="7019640" y="1413000"/>
            <a:chExt cx="1982520" cy="651600"/>
          </a:xfrm>
        </p:grpSpPr>
        <p:sp>
          <p:nvSpPr>
            <p:cNvPr id="314" name=""/>
            <p:cNvSpPr/>
            <p:nvPr/>
          </p:nvSpPr>
          <p:spPr>
            <a:xfrm>
              <a:off x="7749000" y="1469880"/>
              <a:ext cx="12531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900" spc="-1" strike="noStrike">
                  <a:solidFill>
                    <a:srgbClr val="cc0000"/>
                  </a:solidFill>
                  <a:latin typeface="Times New Roman"/>
                  <a:ea typeface="Arial"/>
                </a:rPr>
                <a:t>(x+2</a:t>
              </a:r>
              <a:r>
                <a:rPr b="1" i="1" lang="en-US" sz="3900" spc="-1" strike="noStrike">
                  <a:solidFill>
                    <a:srgbClr val="cc0000"/>
                  </a:solidFill>
                  <a:latin typeface="Times New Roman"/>
                  <a:ea typeface="Arial"/>
                </a:rPr>
                <a:t>)</a:t>
              </a:r>
              <a:r>
                <a:rPr b="1" lang="ru-RU" sz="3900" spc="-1" strike="noStrike" baseline="30000">
                  <a:solidFill>
                    <a:srgbClr val="cc0000"/>
                  </a:solidFill>
                  <a:latin typeface="Times New Roman"/>
                  <a:ea typeface="Arial"/>
                </a:rPr>
                <a:t>2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19640" y="1469880"/>
              <a:ext cx="2203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cc0000"/>
                  </a:solidFill>
                  <a:latin typeface="Times New Roman"/>
                  <a:ea typeface="Arial"/>
                </a:rPr>
                <a:t>y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03320" y="141300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7019640" y="2421000"/>
            <a:ext cx="1865160" cy="651600"/>
            <a:chOff x="7019640" y="2421000"/>
            <a:chExt cx="1865160" cy="651600"/>
          </a:xfrm>
        </p:grpSpPr>
        <p:sp>
          <p:nvSpPr>
            <p:cNvPr id="318" name=""/>
            <p:cNvSpPr/>
            <p:nvPr/>
          </p:nvSpPr>
          <p:spPr>
            <a:xfrm>
              <a:off x="7749000" y="2477880"/>
              <a:ext cx="11358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9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(x-2</a:t>
              </a:r>
              <a:r>
                <a:rPr b="1" i="1" lang="en-US" sz="39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)</a:t>
              </a:r>
              <a:r>
                <a:rPr b="1" lang="ru-RU" sz="3900" spc="-1" strike="noStrike" baseline="30000">
                  <a:solidFill>
                    <a:srgbClr val="006600"/>
                  </a:solidFill>
                  <a:latin typeface="Times New Roman"/>
                  <a:ea typeface="Arial"/>
                </a:rPr>
                <a:t>2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19640" y="2477880"/>
              <a:ext cx="2203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y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03320" y="242100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348000" y="260280"/>
            <a:ext cx="2448000" cy="337968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3168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5549E-006 L -0.08663 4.85549E-006 E">
                                      <p:cBhvr>
                                        <p:cTn id="90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6.35838E-007 L 0.09444 -0.00485 E">
                                      <p:cBhvr>
                                        <p:cTn id="108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&gt;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 график функции получается растяжением графика функц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sin 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доль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y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оэффициентом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&lt;a&lt;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 график функции получается сжатием графика функц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sin 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доль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y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оэффициентом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916360" y="981000"/>
            <a:ext cx="2881080" cy="69228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0" y="404640"/>
            <a:ext cx="8964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тяжение(сжати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доль ос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6516720" y="2060640"/>
            <a:ext cx="1727280" cy="4316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7164360" y="4149720"/>
            <a:ext cx="1692360" cy="4316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8459640" y="4869000"/>
            <a:ext cx="349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y=sinx       </a:t>
            </a:r>
            <a:r>
              <a:rPr b="1" i="1" lang="en-US" sz="3600" spc="-1" strike="noStrike">
                <a:solidFill>
                  <a:srgbClr val="ff3399"/>
                </a:solidFill>
                <a:latin typeface="Arial"/>
              </a:rPr>
              <a:t>y=2sinx 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y=1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  <a:ea typeface="Times New Roman"/>
              </a:rPr>
              <a:t>/2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si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619280" y="1981080"/>
            <a:ext cx="5902200" cy="38862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619280" y="3357720"/>
            <a:ext cx="5618160" cy="7189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1619280" y="2852640"/>
            <a:ext cx="5616720" cy="16988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1619280" y="3573360"/>
            <a:ext cx="56167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тяжение(сжати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доль ос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&gt;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 график функции получается сжатием графика функц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sin 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доль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оэффициенто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&lt;k&lt;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 график функции получается растяжением графика функц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sin 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доль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оэффициен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3203640" y="1284120"/>
            <a:ext cx="2089080" cy="5889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067280" y="5157720"/>
            <a:ext cx="504720" cy="7765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6659640" y="1989000"/>
            <a:ext cx="1511280" cy="5479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7236000" y="3789360"/>
            <a:ext cx="12618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82400" y="466560"/>
            <a:ext cx="815796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y=sinx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y=sin2x  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y=sin(1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  <a:ea typeface="Times New Roman"/>
              </a:rPr>
              <a:t>/2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619280" y="1981080"/>
            <a:ext cx="5902200" cy="38862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3132000" y="3357720"/>
            <a:ext cx="3888000" cy="7189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619280" y="3357720"/>
            <a:ext cx="5689440" cy="7603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1979640" y="3284640"/>
            <a:ext cx="64087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аллельный перенос вдоль ос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gt;0, то график функции получается путем параллельного переноса графи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доль оси абсцисс 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диниц вле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0, то график функции получается путем параллельного переноса графи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доль оси абсцисс на 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| единиц в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3276720" y="981000"/>
            <a:ext cx="2374920" cy="5256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6516720" y="2060640"/>
            <a:ext cx="1655640" cy="4316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6732720" y="3860640"/>
            <a:ext cx="1655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06:30:00Z</dcterms:created>
  <dc:creator>XTreme</dc:creator>
  <dc:description/>
  <dc:language>en-US</dc:language>
  <cp:lastModifiedBy>XTreme</cp:lastModifiedBy>
  <dcterms:modified xsi:type="dcterms:W3CDTF">2011-11-15T06:56:45Z</dcterms:modified>
  <cp:revision>24</cp:revision>
  <dc:subject/>
  <dc:title>Преобразование тригонометрической функции y=sin x</dc:title>
</cp:coreProperties>
</file>