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E4A-4644-40F2-815F-09B7F443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B32-4AB1-491C-B2A9-2B7A860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757-2D0E-4312-83BA-ECD8EDBC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523-7111-421B-9ABD-F757901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D02-6FC0-404E-956D-BFF67393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41A0-9536-4C50-B7C8-CEA7FD23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2DEC-6300-4A0A-9887-EC6A4D27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D526-752C-4F46-BC88-8C2DB0E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6A1B-745F-4729-AEBE-87FD8EF9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58D4-D8C4-4960-9504-D16305D1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842B-A7E8-4B95-AEF7-DC8A8794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87E-E14E-4BA0-A034-5E3A8C53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9183-DF3C-48CA-8347-3167C8C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455E-4536-4023-87ED-C496A82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FB78-88FA-4E31-B3E5-D491086D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AB11-B702-4E27-8722-F370CF26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9136-F2EC-4A13-9CE3-C5FB1C86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DC7-ED91-4A5F-B3DC-6F895AB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0AC-53CF-464E-96C2-64CEB33F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7DF-B411-4A88-92A8-C184031C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39F-CD1B-456E-AF22-39E0D92C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3EB-81B8-4182-AB67-06A0A86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BDF-4869-45F5-BF1B-4C8493B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365-0609-4C78-822A-969A4C5B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66F5-BE88-431A-95EF-91BFF4F60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3D0-74A1-403C-ADEF-B43F405B82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валова Ю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2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« СОШ№111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инского рай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Барна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. руковод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рова И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1-2012 уч.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1054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м бывает сне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]["/>
          <p:cNvPicPr/>
          <p:nvPr/>
        </p:nvPicPr>
        <p:blipFill>
          <a:blip r:embed="rId1"/>
          <a:stretch/>
        </p:blipFill>
        <p:spPr>
          <a:xfrm>
            <a:off x="468360" y="1533600"/>
            <a:ext cx="82072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 .Бурсов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нег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–ка , ребя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округ покрыла в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 ответ раздался сме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то выпал первый сне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огласна только Люб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вовсе не снежо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д Мороз почистил зуб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ассыпал порош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!)))_1~1 Машет рукой"/>
          <p:cNvPicPr/>
          <p:nvPr/>
        </p:nvPicPr>
        <p:blipFill>
          <a:blip r:embed="rId1"/>
          <a:stretch/>
        </p:blipFill>
        <p:spPr>
          <a:xfrm>
            <a:off x="4716360" y="1844640"/>
            <a:ext cx="4032360" cy="42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3:49:29Z</dcterms:created>
  <dc:creator>Комаровы</dc:creator>
  <dc:description/>
  <dc:language>en-US</dc:language>
  <cp:lastModifiedBy>Администратор</cp:lastModifiedBy>
  <dcterms:modified xsi:type="dcterms:W3CDTF">2013-03-22T11:02:02Z</dcterms:modified>
  <cp:revision>28</cp:revision>
  <dc:subject/>
  <dc:title>Каким бывает снег</dc:title>
</cp:coreProperties>
</file>