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413-164F-4EBA-A095-6A09A4BC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A1EC-AA22-43EE-864B-31F49F8E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33E-0084-41B5-90EA-CA55F196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92A-3445-418E-892E-56F4B57D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1E85-9B5E-40F2-AB67-95EAA927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A0ED-2121-4C24-A809-F76F363D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76AF-FB9C-4908-9743-F6E2B412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B97A-FF7F-43C7-9899-D7364479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5846-6EB4-4154-B77A-65B81FD0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D97B-F11C-4390-BCE1-0D06F05C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252F-5610-4C97-B180-53053D38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1E3E-17E7-4A01-8F30-4BC81D8C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03FF-565D-4EFF-AFB8-C9AB9BE6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7E16-44AB-420F-B9FA-F11C9DF5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C1EE-B2D1-41C3-B759-76CC24D5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2265-5260-40AE-A64D-A0E73C86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FDCB-07C2-43CD-99FB-530A0344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73DE-7AB4-4E78-B546-C766DB4B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27C-2301-480D-9FCA-D44F62C6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BB8-6102-419D-ADA9-99E11D4B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41E-9C08-4C12-A859-949CEA35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920D-4B11-41BF-B15B-C4616268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D55-B3AB-4B84-89B3-537BBB3D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EE5F-9B6E-4057-A008-C704E063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B46D-937F-4B1D-A08D-853D2AA31D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D915-247D-40C8-9947-569FD2A6B4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валова Юл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ца 2 «А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БОУ « СОШ№111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нинского райо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.Барнау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. руководи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арова И.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11-2012 уч.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357120" y="1285920"/>
            <a:ext cx="410544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им бывает сне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7" descr="]["/>
          <p:cNvPicPr/>
          <p:nvPr/>
        </p:nvPicPr>
        <p:blipFill>
          <a:blip r:embed="rId1"/>
          <a:stretch/>
        </p:blipFill>
        <p:spPr>
          <a:xfrm>
            <a:off x="468360" y="1533600"/>
            <a:ext cx="8207280" cy="45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 .Бурсов.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нег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мотрите –ка , ребя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вокруг покрыла в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в ответ раздался сме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Это выпал первый сне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огласна только Люб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вовсе не снежок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д Мороз почистил зуб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рассыпал порош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!)))_1~1 Машет рукой"/>
          <p:cNvPicPr/>
          <p:nvPr/>
        </p:nvPicPr>
        <p:blipFill>
          <a:blip r:embed="rId1"/>
          <a:stretch/>
        </p:blipFill>
        <p:spPr>
          <a:xfrm>
            <a:off x="4716360" y="1844640"/>
            <a:ext cx="4032360" cy="4295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3:49:29Z</dcterms:created>
  <dc:creator>Комаровы</dc:creator>
  <dc:description/>
  <dc:language>en-US</dc:language>
  <cp:lastModifiedBy>Администратор</cp:lastModifiedBy>
  <dcterms:modified xsi:type="dcterms:W3CDTF">2013-03-22T11:02:02Z</dcterms:modified>
  <cp:revision>28</cp:revision>
  <dc:subject/>
  <dc:title>Каким бывает снег</dc:title>
</cp:coreProperties>
</file>