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625-6458-46CF-98FB-6CED590E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0FD-5C82-4868-9E00-394A4043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6B8-C6C0-43A3-B2F7-49691F95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46F-CBA3-423C-B6C4-FC6213A9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A1B1-086B-4C84-B708-223CFD49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DA76-2736-4634-B955-9A434DCF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66D1-5335-473D-9B5E-90B46DF4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8C01-6988-44A6-8F19-F859DBD7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6BED-3AA2-4DB3-8C36-5D1B914D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BADE-8DF7-4673-92F8-32EF6317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4B43-5A02-45E0-A7C4-A9774C30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E14-BDB4-40D0-8C90-6D88A96E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4B82-57B4-4FCA-AF5F-327C21A4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E6CE-6882-4476-AAFA-41554243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7B6F-6713-4C8E-A366-20E69B6F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4C72-E87F-4039-890B-6702F3D8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90F9-7759-4EE9-A582-42D416FE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620-5591-439C-BE3A-AF8B04C5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86E-C1E3-4D63-900E-8395C548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525-CDFA-4D51-AC07-B7365D06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23E-C87C-40D3-BD47-7DF74ED7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1C9-F64A-4B3A-9BDE-B4C40041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052-5A04-4C5F-8E7F-D786D07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531-05D2-47EE-B076-76AC48F8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995E-48F9-4BE9-9DCF-7508D0BE8E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8BAB-F5E8-4CFA-BE12-A2E489B898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050560" y="189000"/>
            <a:ext cx="7093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нистерство образования Российской  Феде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я начальных клас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У «СОШ №111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нинского райо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аровой И.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826920" y="1125360"/>
            <a:ext cx="3171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ртфоли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" name="Picture 9" descr="Школа- осень 019"/>
          <p:cNvPicPr/>
          <p:nvPr/>
        </p:nvPicPr>
        <p:blipFill>
          <a:blip r:embed="rId1"/>
          <a:stretch/>
        </p:blipFill>
        <p:spPr>
          <a:xfrm>
            <a:off x="468360" y="2205000"/>
            <a:ext cx="4008240" cy="3108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771640" y="6237360"/>
            <a:ext cx="17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111480" y="618660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3059280" y="630864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рнаул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держ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ая информация об учител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ение квалифик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сти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зультаты педагогическ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бно- воспитательная раб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неклассная раб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одическая 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стижения учителя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стие в общественно-педагогической деятельност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ститель директора по учебно-воспитательной  работе в начальной школе.1995-2005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лен районной аттестационной комиссии.1995-2005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лен методического совета школы.1995-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ководитель МО начальных классов.2005-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лен школьной аттестационной комиссии.1995-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кретарь пед.совета школы.2006-2007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ассный руководитель.1994-2008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тель группы продленного дня 2006-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стница фольклорного ансамбля «Лидушка» 1995-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стница конкурса «Наш классный- самый классный» 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Мои грамоты"/>
          <p:cNvPicPr/>
          <p:nvPr/>
        </p:nvPicPr>
        <p:blipFill>
          <a:blip r:embed="rId1"/>
          <a:stretch/>
        </p:blipFill>
        <p:spPr>
          <a:xfrm>
            <a:off x="324000" y="404640"/>
            <a:ext cx="1511280" cy="201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Мои грамоты 001"/>
          <p:cNvPicPr/>
          <p:nvPr/>
        </p:nvPicPr>
        <p:blipFill>
          <a:blip r:embed="rId2"/>
          <a:stretch/>
        </p:blipFill>
        <p:spPr>
          <a:xfrm>
            <a:off x="1476360" y="1916280"/>
            <a:ext cx="1727280" cy="230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Мои грамоты 002"/>
          <p:cNvPicPr/>
          <p:nvPr/>
        </p:nvPicPr>
        <p:blipFill>
          <a:blip r:embed="rId3"/>
          <a:stretch/>
        </p:blipFill>
        <p:spPr>
          <a:xfrm>
            <a:off x="6732720" y="404640"/>
            <a:ext cx="1871640" cy="251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Мои грамоты 003"/>
          <p:cNvPicPr/>
          <p:nvPr/>
        </p:nvPicPr>
        <p:blipFill>
          <a:blip r:embed="rId4"/>
          <a:stretch/>
        </p:blipFill>
        <p:spPr>
          <a:xfrm>
            <a:off x="5219640" y="1989000"/>
            <a:ext cx="176544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Мои грамоты 004"/>
          <p:cNvPicPr/>
          <p:nvPr/>
        </p:nvPicPr>
        <p:blipFill>
          <a:blip r:embed="rId5"/>
          <a:stretch/>
        </p:blipFill>
        <p:spPr>
          <a:xfrm>
            <a:off x="3276720" y="4395960"/>
            <a:ext cx="1877760" cy="2462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Мои грамоты класса 015"/>
          <p:cNvPicPr/>
          <p:nvPr/>
        </p:nvPicPr>
        <p:blipFill>
          <a:blip r:embed="rId6"/>
          <a:stretch/>
        </p:blipFill>
        <p:spPr>
          <a:xfrm>
            <a:off x="179280" y="393372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Мои грамоты класса 014"/>
          <p:cNvPicPr/>
          <p:nvPr/>
        </p:nvPicPr>
        <p:blipFill>
          <a:blip r:embed="rId7"/>
          <a:stretch/>
        </p:blipFill>
        <p:spPr>
          <a:xfrm>
            <a:off x="3492360" y="189000"/>
            <a:ext cx="1511280" cy="20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Мои грамоты класса 013"/>
          <p:cNvPicPr/>
          <p:nvPr/>
        </p:nvPicPr>
        <p:blipFill>
          <a:blip r:embed="rId8"/>
          <a:stretch/>
        </p:blipFill>
        <p:spPr>
          <a:xfrm>
            <a:off x="6948360" y="3860640"/>
            <a:ext cx="2000520" cy="2521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Мои грамоты класса 012"/>
          <p:cNvPicPr/>
          <p:nvPr/>
        </p:nvPicPr>
        <p:blipFill>
          <a:blip r:embed="rId9"/>
          <a:stretch/>
        </p:blipFill>
        <p:spPr>
          <a:xfrm>
            <a:off x="3492360" y="2276640"/>
            <a:ext cx="1511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9:58:26Z</dcterms:created>
  <dc:creator>КЛАСС 5</dc:creator>
  <dc:description/>
  <dc:language>en-US</dc:language>
  <cp:lastModifiedBy>Администратор</cp:lastModifiedBy>
  <dcterms:modified xsi:type="dcterms:W3CDTF">2013-03-22T11:54:13Z</dcterms:modified>
  <cp:revision>29</cp:revision>
  <dc:subject/>
  <dc:title>Слайд 1</dc:title>
</cp:coreProperties>
</file>