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85D-1DE8-457C-9C55-3F9EF371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6A7-6355-4581-881B-9C3DDFD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E7C-5268-4E7A-8C10-75E65B0C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EE5-A6B8-485A-B658-5D1C641B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F4B-799D-4593-AF2F-C5C07750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7E1-1BCE-45DA-AAF9-CE0E35D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484-EF04-4B69-8BC4-2A9DBC38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0ED3-063D-48DF-AA92-0A7F24D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C29-C7B7-46DF-B6DB-91D03AA0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A09-EDAB-4BF0-94D6-7AFAD5F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22E0-28E0-4DF6-B036-48B8B1B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B7C-947E-4AE4-8A09-8445AD3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26F8-D958-401A-976B-6E8659E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9336-1173-4D83-AC4B-31FEF950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B04F-8509-4038-BDD8-00AC22F4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652D-C355-4695-B20D-DE789D5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466-E97B-4089-BF36-72F05FE0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FDC-5302-430A-8934-231586D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DAC-2D0B-4D6F-8370-7531BBB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D61-5FE8-41C8-B6FA-E757DC01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765-D05C-45E3-8E65-C57E105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732-3172-486D-B3ED-AD3E43A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072-1060-4608-8AF6-A4BCB34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EFC-9DF5-42CD-920D-F246719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AC9-4708-4369-93E8-ABE186BD04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22F-8CFE-492C-AFD9-4FF5258AFC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050560" y="189000"/>
            <a:ext cx="7093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нистерство образования Российской 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«СОШ №111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нинского рай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аровой И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826920" y="1125360"/>
            <a:ext cx="3171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тфоли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9" descr="Школа- осень 019"/>
          <p:cNvPicPr/>
          <p:nvPr/>
        </p:nvPicPr>
        <p:blipFill>
          <a:blip r:embed="rId1"/>
          <a:stretch/>
        </p:blipFill>
        <p:spPr>
          <a:xfrm>
            <a:off x="468360" y="2205000"/>
            <a:ext cx="4008240" cy="3108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771640" y="623736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111480" y="61866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059280" y="6308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наул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информация об учите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квалифик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ы педагог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бно- воспитатель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екласс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ическая 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стижения учител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общественно-педагогической деятельно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ститель директора по учебно-воспитательной  работе в начальной школе.1995-20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районной аттестационной комиссии.1995-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методического совета школы.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МО начальных классов.200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лен школьной аттестационной комиссии.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кретарь пед.совета школы.2006-2007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ный руководитель.1994-200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группы продленного дня 2006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ца фольклорного ансамбля «Лидушка» 1995-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ца конкурса «Наш классный- самый классный» 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Мои грамоты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Мои грамоты 001"/>
          <p:cNvPicPr/>
          <p:nvPr/>
        </p:nvPicPr>
        <p:blipFill>
          <a:blip r:embed="rId2"/>
          <a:stretch/>
        </p:blipFill>
        <p:spPr>
          <a:xfrm>
            <a:off x="1476360" y="1916280"/>
            <a:ext cx="1727280" cy="230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Мои грамоты 002"/>
          <p:cNvPicPr/>
          <p:nvPr/>
        </p:nvPicPr>
        <p:blipFill>
          <a:blip r:embed="rId3"/>
          <a:stretch/>
        </p:blipFill>
        <p:spPr>
          <a:xfrm>
            <a:off x="6732720" y="404640"/>
            <a:ext cx="1871640" cy="251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Мои грамоты 003"/>
          <p:cNvPicPr/>
          <p:nvPr/>
        </p:nvPicPr>
        <p:blipFill>
          <a:blip r:embed="rId4"/>
          <a:stretch/>
        </p:blipFill>
        <p:spPr>
          <a:xfrm>
            <a:off x="5219640" y="1989000"/>
            <a:ext cx="176544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Мои грамоты 004"/>
          <p:cNvPicPr/>
          <p:nvPr/>
        </p:nvPicPr>
        <p:blipFill>
          <a:blip r:embed="rId5"/>
          <a:stretch/>
        </p:blipFill>
        <p:spPr>
          <a:xfrm>
            <a:off x="3276720" y="4395960"/>
            <a:ext cx="1877760" cy="2462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Мои грамоты класса 015"/>
          <p:cNvPicPr/>
          <p:nvPr/>
        </p:nvPicPr>
        <p:blipFill>
          <a:blip r:embed="rId6"/>
          <a:stretch/>
        </p:blipFill>
        <p:spPr>
          <a:xfrm>
            <a:off x="179280" y="393372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Мои грамоты класса 014"/>
          <p:cNvPicPr/>
          <p:nvPr/>
        </p:nvPicPr>
        <p:blipFill>
          <a:blip r:embed="rId7"/>
          <a:stretch/>
        </p:blipFill>
        <p:spPr>
          <a:xfrm>
            <a:off x="3492360" y="18900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Мои грамоты класса 013"/>
          <p:cNvPicPr/>
          <p:nvPr/>
        </p:nvPicPr>
        <p:blipFill>
          <a:blip r:embed="rId8"/>
          <a:stretch/>
        </p:blipFill>
        <p:spPr>
          <a:xfrm>
            <a:off x="6948360" y="3860640"/>
            <a:ext cx="2000520" cy="252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ои грамоты класса 012"/>
          <p:cNvPicPr/>
          <p:nvPr/>
        </p:nvPicPr>
        <p:blipFill>
          <a:blip r:embed="rId9"/>
          <a:stretch/>
        </p:blipFill>
        <p:spPr>
          <a:xfrm>
            <a:off x="3492360" y="2276640"/>
            <a:ext cx="1511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9:58:26Z</dcterms:created>
  <dc:creator>КЛАСС 5</dc:creator>
  <dc:description/>
  <dc:language>en-US</dc:language>
  <cp:lastModifiedBy>Администратор</cp:lastModifiedBy>
  <dcterms:modified xsi:type="dcterms:W3CDTF">2013-03-22T11:54:13Z</dcterms:modified>
  <cp:revision>29</cp:revision>
  <dc:subject/>
  <dc:title>Слайд 1</dc:title>
</cp:coreProperties>
</file>