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5.jpeg" ContentType="image/jpeg"/>
  <Override PartName="/ppt/media/image14.jpeg" ContentType="image/jpeg"/>
  <Override PartName="/ppt/media/image9.jpeg" ContentType="image/jpeg"/>
  <Override PartName="/ppt/media/image10.wmf" ContentType="image/x-wmf"/>
  <Override PartName="/ppt/media/image2.png" ContentType="image/png"/>
  <Override PartName="/ppt/media/image1.jpeg" ContentType="image/jpeg"/>
  <Override PartName="/ppt/media/image3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5A6-C6D5-4824-8D9E-9A21E766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65D-9094-4479-A28B-1705B3DC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BD9-EEDC-4D18-9BA5-1773A970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87F-0ACE-472D-8F62-4696350F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9A16-8EA0-42D7-89AD-99248184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DAF9-0C0E-453C-888E-AB53AC11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9C1C-842E-48C0-89A3-455A6247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3E91-7832-4335-A6B8-AA8D0967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FCB3-20CD-4118-B328-7B470C0F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C7B2-1EBC-46B7-AAF9-BBF0279F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9038-4EC1-4E6A-8DAE-650B8BB7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280-490A-424E-91FE-5EF4D956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8187-9EA5-4EBA-BD46-75D5BE1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FC63-E2D7-4C68-A0A7-600219D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093C-1B1F-47C6-89B3-62C2A672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C295-A289-4329-B62D-450612FF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6FB9-83F1-43AE-B991-0F332F42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C27-13E6-45C4-BC0C-E4140F5C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7A9-0CD1-4B6C-A889-8F3522FF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242-D495-4C4D-873C-95DBC12D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683-9706-49C0-8323-7DDBC3FF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547-E57E-45C9-A423-EE40A6E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36B-2CBE-4639-933F-F3E2BDF0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AA3-A874-4411-86BB-54B34B28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0843-5557-469D-B083-FC5FA42E122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33D6-3D81-4900-9807-95F50FBEA56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E:\Документы\Мои рисунки\Животные\авп.png"/>
          <p:cNvPicPr/>
          <p:nvPr/>
        </p:nvPicPr>
        <p:blipFill>
          <a:blip r:embed="rId2"/>
          <a:stretch/>
        </p:blipFill>
        <p:spPr>
          <a:xfrm>
            <a:off x="179280" y="4653000"/>
            <a:ext cx="1224000" cy="189540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908000" y="227664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Ребята и зверята"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332000" y="400536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SCN1758"/>
          <p:cNvPicPr/>
          <p:nvPr/>
        </p:nvPicPr>
        <p:blipFill>
          <a:blip r:embed="rId2"/>
          <a:stretch/>
        </p:blipFill>
        <p:spPr>
          <a:xfrm>
            <a:off x="812880" y="457200"/>
            <a:ext cx="7518240" cy="563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E:\Документы\Мои рисунки\Животные\авп.png"/>
          <p:cNvPicPr/>
          <p:nvPr/>
        </p:nvPicPr>
        <p:blipFill>
          <a:blip r:embed="rId3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SCN1769"/>
          <p:cNvPicPr/>
          <p:nvPr/>
        </p:nvPicPr>
        <p:blipFill>
          <a:blip r:embed="rId2"/>
          <a:stretch/>
        </p:blipFill>
        <p:spPr>
          <a:xfrm>
            <a:off x="812880" y="457200"/>
            <a:ext cx="7518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258920" y="2205000"/>
            <a:ext cx="68421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21" name="Picture 1" descr="E:\Документы\Мои рисунки\Животные\авп.png"/>
          <p:cNvPicPr/>
          <p:nvPr/>
        </p:nvPicPr>
        <p:blipFill>
          <a:blip r:embed="rId2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DSCN1758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E:\Документы\Мои рисунки\Животные\авп.png"/>
          <p:cNvPicPr/>
          <p:nvPr/>
        </p:nvPicPr>
        <p:blipFill>
          <a:blip r:embed="rId3"/>
          <a:stretch/>
        </p:blipFill>
        <p:spPr>
          <a:xfrm>
            <a:off x="7020000" y="4653000"/>
            <a:ext cx="1114200" cy="1895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1403280" y="620640"/>
            <a:ext cx="115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DSCN1773"/>
          <p:cNvPicPr/>
          <p:nvPr/>
        </p:nvPicPr>
        <p:blipFill>
          <a:blip r:embed="rId5"/>
          <a:stretch/>
        </p:blipFill>
        <p:spPr>
          <a:xfrm>
            <a:off x="0" y="2941560"/>
            <a:ext cx="52196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DSCN1775"/>
          <p:cNvPicPr/>
          <p:nvPr/>
        </p:nvPicPr>
        <p:blipFill>
          <a:blip r:embed="rId2"/>
          <a:stretch/>
        </p:blipFill>
        <p:spPr>
          <a:xfrm>
            <a:off x="1187280" y="333360"/>
            <a:ext cx="7272360" cy="545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E:\Документы\Мои рисунки\Животные\авп.png"/>
          <p:cNvPicPr/>
          <p:nvPr/>
        </p:nvPicPr>
        <p:blipFill>
          <a:blip r:embed="rId3"/>
          <a:stretch/>
        </p:blipFill>
        <p:spPr>
          <a:xfrm>
            <a:off x="7812000" y="479736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DSCN1737"/>
          <p:cNvPicPr/>
          <p:nvPr/>
        </p:nvPicPr>
        <p:blipFill>
          <a:blip r:embed="rId2"/>
          <a:stretch/>
        </p:blipFill>
        <p:spPr>
          <a:xfrm>
            <a:off x="4140360" y="189000"/>
            <a:ext cx="4825800" cy="361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DSCN1750"/>
          <p:cNvPicPr/>
          <p:nvPr/>
        </p:nvPicPr>
        <p:blipFill>
          <a:blip r:embed="rId3"/>
          <a:stretch/>
        </p:blipFill>
        <p:spPr>
          <a:xfrm>
            <a:off x="250920" y="2852640"/>
            <a:ext cx="4787640" cy="3591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539640" y="476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Анкетирование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076720" y="450864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Обработка результат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c2b"/>
                </a:solidFill>
                <a:latin typeface="Times New Roman"/>
              </a:rPr>
              <a:t>1. Есть ли у вас необходимость заводить дома животное?</a:t>
            </a:r>
            <a:endParaRPr b="0" lang="en-US" sz="2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0" y="1484280"/>
          <a:ext cx="896472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896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95280" y="33336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Какое животное проживает вместе с вами?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0" y="1268280"/>
          <a:ext cx="9144000" cy="511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91440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95280" y="33336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Кто ухаживает за животными дома?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0" y="1197000"/>
          <a:ext cx="8893080" cy="51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88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395280" y="33336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4. Какое животное вы хотели бы завести дома?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052640"/>
          <a:ext cx="3960720" cy="5584680"/>
        </p:xfrm>
        <a:graphic>
          <a:graphicData uri="http://schemas.openxmlformats.org/drawingml/2006/table">
            <a:tbl>
              <a:tblPr/>
              <a:tblGrid>
                <a:gridCol w="745920"/>
                <a:gridCol w="1893960"/>
                <a:gridCol w="13208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Животное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л-во челове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0819"/>
                          </a:solidFill>
                          <a:latin typeface="Times New Roman"/>
                        </a:rPr>
                        <a:t>Грызуны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80819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0819"/>
                          </a:solidFill>
                          <a:latin typeface="Times New Roman"/>
                        </a:rPr>
                        <a:t>Собака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80819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0448"/>
                          </a:solidFill>
                          <a:latin typeface="Times New Roman"/>
                        </a:rPr>
                        <a:t>Попугай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30448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0448"/>
                          </a:solidFill>
                          <a:latin typeface="Times New Roman"/>
                        </a:rPr>
                        <a:t>Рыбки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30448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Черепаха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шка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Обезьяна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Лошадь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648320" y="1052640"/>
          <a:ext cx="4244760" cy="5586120"/>
        </p:xfrm>
        <a:graphic>
          <a:graphicData uri="http://schemas.openxmlformats.org/drawingml/2006/table">
            <a:tbl>
              <a:tblPr/>
              <a:tblGrid>
                <a:gridCol w="608040"/>
                <a:gridCol w="2628720"/>
                <a:gridCol w="10080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Животное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л-во челове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Ящерица, игуана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мея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рокодил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Голубь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Рысь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Тритон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Шиншилла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Осьминог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DSCN1755"/>
          <p:cNvPicPr/>
          <p:nvPr/>
        </p:nvPicPr>
        <p:blipFill>
          <a:blip r:embed="rId2"/>
          <a:stretch/>
        </p:blipFill>
        <p:spPr>
          <a:xfrm>
            <a:off x="812880" y="457200"/>
            <a:ext cx="7518240" cy="563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E:\Документы\Мои рисунки\Животные\авп.png"/>
          <p:cNvPicPr/>
          <p:nvPr/>
        </p:nvPicPr>
        <p:blipFill>
          <a:blip r:embed="rId3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1:19:51Z</dcterms:created>
  <dc:creator>Гоха</dc:creator>
  <dc:description/>
  <dc:language>en-US</dc:language>
  <cp:lastModifiedBy>1</cp:lastModifiedBy>
  <dcterms:modified xsi:type="dcterms:W3CDTF">2011-06-30T03:34:10Z</dcterms:modified>
  <cp:revision>7</cp:revision>
  <dc:subject/>
  <dc:title>МУНИЦИПАЛЬНОЕ ОБРАЗОВАТЕЛЬНОЕ УЧРЕЖДЕНИЕ ДОПОЛНИТЕЛЬНОГО ОБРАЗОВАНИЯ ДЕТЕЙ ДЕТСКИЙ</dc:title>
</cp:coreProperties>
</file>