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5.jpeg" ContentType="image/jpeg"/>
  <Override PartName="/ppt/media/image14.jpeg" ContentType="image/jpeg"/>
  <Override PartName="/ppt/media/image9.jpeg" ContentType="image/jpeg"/>
  <Override PartName="/ppt/media/image10.wmf" ContentType="image/x-wmf"/>
  <Override PartName="/ppt/media/image2.png" ContentType="image/png"/>
  <Override PartName="/ppt/media/image1.jpeg" ContentType="image/jpeg"/>
  <Override PartName="/ppt/media/image3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4.png" ContentType="image/png"/>
  <Override PartName="/ppt/media/image12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D759-48D6-4609-A826-F040B9F0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A050-25A0-42E2-8408-A20D3589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81C2-9536-4C9B-89B6-9B0DFDAD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A1FF-C442-4268-98EA-4DECF035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ED0B-ED8A-4DCE-8643-74849122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F860-3954-4240-921D-C8366DB8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ADC2-4033-4D74-844C-C936A141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3022-2F7D-46B1-9C12-49F0C784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BA74-C046-444F-8841-DD7D2BB1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D718-D283-4728-A69F-CCD50ECD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A236-F52A-46FE-A55D-E9D4B368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8897-71FD-4A52-A21B-759FFC1F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6017-2256-4718-BCD2-5E115971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3B62-05BA-42BB-8A6F-F43B7974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0F18-EEA6-43D6-B282-2CAC67E7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2AAA-1450-4667-AD14-62A6390A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E951-8380-4A4C-ABAA-689E7A66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840B-596F-4B28-AA8D-4E220A18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6C20-BE8F-4E34-9B57-5602BBA4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C7BF-FBBF-4D82-BC8E-9BD8F8E5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F1A8-D5AA-468B-B3E7-57D0C9F3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63C9-437D-4CBF-805E-5E942D9C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0CE7-E2E4-46DD-BC67-5C091996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E2B6-609B-4801-9A2C-1AC063D2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5C6F-3558-41E4-AFBA-B3325040E29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94AF-E583-4DBE-90AB-2CF39310009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E:\Документы\Мои рисунки\Животные\авп.png"/>
          <p:cNvPicPr/>
          <p:nvPr/>
        </p:nvPicPr>
        <p:blipFill>
          <a:blip r:embed="rId2"/>
          <a:stretch/>
        </p:blipFill>
        <p:spPr>
          <a:xfrm>
            <a:off x="179280" y="4653000"/>
            <a:ext cx="1224000" cy="189540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1908000" y="2276640"/>
            <a:ext cx="561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"Ребята и зверята"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332000" y="4005360"/>
            <a:ext cx="69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DSCN1758"/>
          <p:cNvPicPr/>
          <p:nvPr/>
        </p:nvPicPr>
        <p:blipFill>
          <a:blip r:embed="rId2"/>
          <a:stretch/>
        </p:blipFill>
        <p:spPr>
          <a:xfrm>
            <a:off x="812880" y="457200"/>
            <a:ext cx="7518240" cy="5638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" descr="E:\Документы\Мои рисунки\Животные\авп.png"/>
          <p:cNvPicPr/>
          <p:nvPr/>
        </p:nvPicPr>
        <p:blipFill>
          <a:blip r:embed="rId3"/>
          <a:stretch/>
        </p:blipFill>
        <p:spPr>
          <a:xfrm>
            <a:off x="8029440" y="4962600"/>
            <a:ext cx="11145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DSCN1769"/>
          <p:cNvPicPr/>
          <p:nvPr/>
        </p:nvPicPr>
        <p:blipFill>
          <a:blip r:embed="rId2"/>
          <a:stretch/>
        </p:blipFill>
        <p:spPr>
          <a:xfrm>
            <a:off x="812880" y="457200"/>
            <a:ext cx="75182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1258920" y="2205000"/>
            <a:ext cx="6842160" cy="14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Спасибо  за  внимание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pic>
        <p:nvPicPr>
          <p:cNvPr id="121" name="Picture 1" descr="E:\Документы\Мои рисунки\Животные\авп.png"/>
          <p:cNvPicPr/>
          <p:nvPr/>
        </p:nvPicPr>
        <p:blipFill>
          <a:blip r:embed="rId2"/>
          <a:stretch/>
        </p:blipFill>
        <p:spPr>
          <a:xfrm>
            <a:off x="8029440" y="4962600"/>
            <a:ext cx="11145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DSCN1758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" descr="E:\Документы\Мои рисунки\Животные\авп.png"/>
          <p:cNvPicPr/>
          <p:nvPr/>
        </p:nvPicPr>
        <p:blipFill>
          <a:blip r:embed="rId3"/>
          <a:stretch/>
        </p:blipFill>
        <p:spPr>
          <a:xfrm>
            <a:off x="7020000" y="4653000"/>
            <a:ext cx="1114200" cy="1895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" descr="E:\Документы\Мои рисунки\Животные\авп.png"/>
          <p:cNvPicPr/>
          <p:nvPr/>
        </p:nvPicPr>
        <p:blipFill>
          <a:blip r:embed="rId4"/>
          <a:stretch/>
        </p:blipFill>
        <p:spPr>
          <a:xfrm>
            <a:off x="1403280" y="620640"/>
            <a:ext cx="1152720" cy="1895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DSCN1773"/>
          <p:cNvPicPr/>
          <p:nvPr/>
        </p:nvPicPr>
        <p:blipFill>
          <a:blip r:embed="rId5"/>
          <a:stretch/>
        </p:blipFill>
        <p:spPr>
          <a:xfrm>
            <a:off x="0" y="2941560"/>
            <a:ext cx="521964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9" descr="DSCN1775"/>
          <p:cNvPicPr/>
          <p:nvPr/>
        </p:nvPicPr>
        <p:blipFill>
          <a:blip r:embed="rId2"/>
          <a:stretch/>
        </p:blipFill>
        <p:spPr>
          <a:xfrm>
            <a:off x="1187280" y="333360"/>
            <a:ext cx="7272360" cy="5454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" descr="E:\Документы\Мои рисунки\Животные\авп.png"/>
          <p:cNvPicPr/>
          <p:nvPr/>
        </p:nvPicPr>
        <p:blipFill>
          <a:blip r:embed="rId3"/>
          <a:stretch/>
        </p:blipFill>
        <p:spPr>
          <a:xfrm>
            <a:off x="7812000" y="4797360"/>
            <a:ext cx="11145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DSCN1737"/>
          <p:cNvPicPr/>
          <p:nvPr/>
        </p:nvPicPr>
        <p:blipFill>
          <a:blip r:embed="rId2"/>
          <a:stretch/>
        </p:blipFill>
        <p:spPr>
          <a:xfrm>
            <a:off x="4140360" y="189000"/>
            <a:ext cx="4825800" cy="3619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DSCN1750"/>
          <p:cNvPicPr/>
          <p:nvPr/>
        </p:nvPicPr>
        <p:blipFill>
          <a:blip r:embed="rId3"/>
          <a:stretch/>
        </p:blipFill>
        <p:spPr>
          <a:xfrm>
            <a:off x="250920" y="2852640"/>
            <a:ext cx="4787640" cy="3591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539640" y="4762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Анкетирование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5076720" y="4508640"/>
            <a:ext cx="38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Обработка результатов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Picture 1" descr="E:\Документы\Мои рисунки\Животные\авп.png"/>
          <p:cNvPicPr/>
          <p:nvPr/>
        </p:nvPicPr>
        <p:blipFill>
          <a:blip r:embed="rId4"/>
          <a:stretch/>
        </p:blipFill>
        <p:spPr>
          <a:xfrm>
            <a:off x="8029440" y="4962600"/>
            <a:ext cx="11145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c2b"/>
                </a:solidFill>
                <a:latin typeface="Times New Roman"/>
              </a:rPr>
              <a:t>1. Есть ли у вас необходимость заводить дома животное?</a:t>
            </a:r>
            <a:endParaRPr b="0" lang="en-US" sz="2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9" name="Object 6"/>
          <p:cNvGraphicFramePr/>
          <p:nvPr/>
        </p:nvGraphicFramePr>
        <p:xfrm>
          <a:off x="0" y="1484280"/>
          <a:ext cx="8964720" cy="475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84280"/>
                    <a:ext cx="896472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1" descr="E:\Документы\Мои рисунки\Животные\авп.png"/>
          <p:cNvPicPr/>
          <p:nvPr/>
        </p:nvPicPr>
        <p:blipFill>
          <a:blip r:embed="rId4"/>
          <a:stretch/>
        </p:blipFill>
        <p:spPr>
          <a:xfrm>
            <a:off x="8029440" y="4962600"/>
            <a:ext cx="11145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95280" y="333360"/>
            <a:ext cx="828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2. Какое животное проживает вместе с вами?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04" name="Object 5"/>
          <p:cNvGraphicFramePr/>
          <p:nvPr/>
        </p:nvGraphicFramePr>
        <p:xfrm>
          <a:off x="0" y="1268280"/>
          <a:ext cx="9144000" cy="511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68280"/>
                    <a:ext cx="914400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1" descr="E:\Документы\Мои рисунки\Животные\авп.png"/>
          <p:cNvPicPr/>
          <p:nvPr/>
        </p:nvPicPr>
        <p:blipFill>
          <a:blip r:embed="rId4"/>
          <a:stretch/>
        </p:blipFill>
        <p:spPr>
          <a:xfrm>
            <a:off x="8029440" y="4962600"/>
            <a:ext cx="11145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95280" y="333360"/>
            <a:ext cx="828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3. Кто ухаживает за животными дома?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09" name="Object 5"/>
          <p:cNvGraphicFramePr/>
          <p:nvPr/>
        </p:nvGraphicFramePr>
        <p:xfrm>
          <a:off x="0" y="1197000"/>
          <a:ext cx="8893080" cy="511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7000"/>
                    <a:ext cx="889308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Picture 1" descr="E:\Документы\Мои рисунки\Животные\авп.png"/>
          <p:cNvPicPr/>
          <p:nvPr/>
        </p:nvPicPr>
        <p:blipFill>
          <a:blip r:embed="rId4"/>
          <a:stretch/>
        </p:blipFill>
        <p:spPr>
          <a:xfrm>
            <a:off x="8029440" y="4962600"/>
            <a:ext cx="11145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395280" y="333360"/>
            <a:ext cx="828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4. Какое животное вы хотели бы завести дома?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24000" y="1052640"/>
          <a:ext cx="3960720" cy="5584680"/>
        </p:xfrm>
        <a:graphic>
          <a:graphicData uri="http://schemas.openxmlformats.org/drawingml/2006/table">
            <a:tbl>
              <a:tblPr/>
              <a:tblGrid>
                <a:gridCol w="745920"/>
                <a:gridCol w="1893960"/>
                <a:gridCol w="1320840"/>
              </a:tblGrid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п\п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Животное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Кол-во человек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0819"/>
                          </a:solidFill>
                          <a:latin typeface="Times New Roman"/>
                        </a:rPr>
                        <a:t>Грызуны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80819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0819"/>
                          </a:solidFill>
                          <a:latin typeface="Times New Roman"/>
                        </a:rPr>
                        <a:t>Собака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80819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30448"/>
                          </a:solidFill>
                          <a:latin typeface="Times New Roman"/>
                        </a:rPr>
                        <a:t>Попугай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30448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30448"/>
                          </a:solidFill>
                          <a:latin typeface="Times New Roman"/>
                        </a:rPr>
                        <a:t>Рыбки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30448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Черепаха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Кошка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Обезьяна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Лошадь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648320" y="1052640"/>
          <a:ext cx="4244760" cy="5586120"/>
        </p:xfrm>
        <a:graphic>
          <a:graphicData uri="http://schemas.openxmlformats.org/drawingml/2006/table">
            <a:tbl>
              <a:tblPr/>
              <a:tblGrid>
                <a:gridCol w="608040"/>
                <a:gridCol w="2628720"/>
                <a:gridCol w="10080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п\п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Животное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Кол-во человек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Ящерица, игуана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Змея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Крокодил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Голубь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Рысь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Тритон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Шиншилла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Осьминог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DSCN1755"/>
          <p:cNvPicPr/>
          <p:nvPr/>
        </p:nvPicPr>
        <p:blipFill>
          <a:blip r:embed="rId2"/>
          <a:stretch/>
        </p:blipFill>
        <p:spPr>
          <a:xfrm>
            <a:off x="812880" y="457200"/>
            <a:ext cx="7518240" cy="5638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" descr="E:\Документы\Мои рисунки\Животные\авп.png"/>
          <p:cNvPicPr/>
          <p:nvPr/>
        </p:nvPicPr>
        <p:blipFill>
          <a:blip r:embed="rId3"/>
          <a:stretch/>
        </p:blipFill>
        <p:spPr>
          <a:xfrm>
            <a:off x="8029440" y="4962600"/>
            <a:ext cx="11145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1:19:51Z</dcterms:created>
  <dc:creator>Гоха</dc:creator>
  <dc:description/>
  <dc:language>en-US</dc:language>
  <cp:lastModifiedBy>1</cp:lastModifiedBy>
  <dcterms:modified xsi:type="dcterms:W3CDTF">2011-06-30T03:34:10Z</dcterms:modified>
  <cp:revision>7</cp:revision>
  <dc:subject/>
  <dc:title>МУНИЦИПАЛЬНОЕ ОБРАЗОВАТЕЛЬНОЕ УЧРЕЖДЕНИЕ ДОПОЛНИТЕЛЬНОГО ОБРАЗОВАНИЯ ДЕТЕЙ ДЕТСКИЙ</dc:title>
</cp:coreProperties>
</file>