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F288-AC39-4118-9AB5-475B6690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DE25-9C07-404A-88FB-B6C7C955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08FC-FD80-47C5-916D-CB177B4F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1827-5D5C-4622-BCB4-240EAAB8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120-8642-43DA-B22A-5B451994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F12-9D05-4308-B81E-7DDB1C3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A301-012E-49D1-B20C-9BD3D24D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489F-54EA-4A86-9018-DD7B07CD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414F-91BD-4490-850F-7EB20A9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613F-6748-42C5-8D43-46A476D4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719-4094-48D3-B4C0-35A450B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D63F-B230-4BBE-8E03-B7574AD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F696-23E8-4D02-BAAB-9DC5155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3024-C18D-4655-A227-842D630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F124-5829-4576-867C-10894BD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681A-35EC-45E6-8515-AF9F73DE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C6D1-7A56-4392-8DC4-55B92484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F0A4-25EB-4D3E-911B-5689F347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FD93-0F4D-40AD-B1A4-C1C3580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B878-6F8D-430D-B4CB-BBE81C1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9F81-2008-4334-BFFA-9106C9F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761F-B188-4D48-A6B9-5E2A56A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F274-5F90-4B25-96C2-33AB682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3EF8-5E05-494A-BB81-0B963E9C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FB8-39CC-4411-AF80-7D6AA931F271}" type="slidenum"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B72B-B63C-49BA-8679-68F921B62DCA}" type="slidenum"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204162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0416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84360" y="3933720"/>
            <a:ext cx="5112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РЕФЕРАТ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ыполнила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оспитатель ГПД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оропова Татьяна Александровна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12000" y="3573360"/>
            <a:ext cx="1174680" cy="12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016360" cy="276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826920" y="333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МОУ ЛУЖАЙСКАЯ  СРЕДНЯЯ ОБЩЕОБРАЗОВАТЕЛЬНАЯ ШКОЛА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По характеру используемого материала </a:t>
            </a:r>
            <a:r>
              <a:rPr b="0" i="1" lang="en-US" sz="3500" spc="-1" strike="noStrike">
                <a:solidFill>
                  <a:srgbClr val="669900"/>
                </a:solidFill>
                <a:latin typeface="Arial"/>
              </a:rPr>
              <a:t>дидактические игры</a:t>
            </a: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 делятся на:</a:t>
            </a:r>
            <a:endParaRPr b="0" lang="en-US" sz="35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Предметные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( дидактические материалы, игрушки)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Настольно печатные и логические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( лото, домино, разрезные карточки)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Словесные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 ( игры – загадки, задачи, предложения, игры-путешествия, игры – упражнения)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75936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204162"/>
                </a:solidFill>
                <a:latin typeface="Arial"/>
              </a:rPr>
              <a:t>Учебно-дидактические игры имеют свои особенности</a:t>
            </a: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63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04162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20416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творческую атмосферу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свободу от шаблонов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раскрепощает творческие резервы человеческой психики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создает ощущение спокойствия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облегчают межличностное общение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0000" y="3141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410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Arial"/>
              </a:rPr>
              <a:t>Назначение:</a:t>
            </a:r>
            <a:endParaRPr b="0" lang="en-US" sz="4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2997000"/>
            <a:ext cx="77756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Развитие познавательных способностей у школьников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( восприятия, внимания, памяти, наблюдательности, сообразительности)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Закрепление знаний, полученных на уроках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796000" y="404640"/>
          <a:ext cx="2962080" cy="22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04640"/>
                    <a:ext cx="296208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45684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Положительное и отрицательное в дидактической игре</a:t>
            </a:r>
            <a:r>
              <a:rPr b="1" i="1" lang="en-US" sz="43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9436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204162"/>
                </a:solidFill>
                <a:latin typeface="Arial"/>
              </a:rPr>
              <a:t>Положительное</a:t>
            </a:r>
            <a:endParaRPr b="0" lang="en-US" sz="25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Активизация внимания детей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Расширение кругозора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Развитие интереса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Развитие творчества, фантазии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Воспитание некоторых нравственных качеств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Создание повышенной мотивации к урокам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Формирование коммуникативных качеств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Нет ни одного «зевающего». 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486400" y="1981080"/>
            <a:ext cx="3657600" cy="4114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204162"/>
                </a:solidFill>
                <a:latin typeface="Arial"/>
              </a:rPr>
              <a:t>Отрицательное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1. Часто игровой азарт заслоняет познавательные цели. 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2. Требует значительных затрат времени и усилий при подготовке 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9880" y="1371600"/>
          <a:ext cx="1524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1600"/>
                    <a:ext cx="152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i="1" lang="en-US" sz="4300" spc="-1" strike="noStrike">
                <a:solidFill>
                  <a:srgbClr val="204162"/>
                </a:solidFill>
                <a:latin typeface="Arial"/>
              </a:rPr>
              <a:t>Игра имеет свою структуру:</a:t>
            </a:r>
            <a:endParaRPr b="0" lang="en-US" sz="43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2493720"/>
            <a:ext cx="701028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цель ( игровая и учебная);</a:t>
            </a:r>
            <a:endParaRPr b="0" lang="en-US" sz="32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средства;</a:t>
            </a:r>
            <a:endParaRPr b="0" lang="en-US" sz="36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процесс игры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результат.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00"/>
                </a:solidFill>
                <a:latin typeface="Arial"/>
              </a:rPr>
              <a:t>Памятка к организации игр 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Игра должна основываться на свободном творчестве и самодеятельности учащихся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Игра должна быть доступной, цель игры – достижимой, а оформление – красочным, разнообразным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Обязательный элемент каждой игры – ее эмоциональность. Игра должна вызывать удовольствие, веселое настроение, удовлетворение от удачного ответа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В играх обязателен элемент соревнования между командами или отдельными участниками игры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Конец игры должен быть результативным, четким, кратким по времени, ярким, эмоциональным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Результаты: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33440" y="2006640"/>
          <a:ext cx="7985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006640"/>
                    <a:ext cx="7985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907920"/>
            <a:ext cx="6994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Главная цель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en-US" sz="2000" spc="-1" strike="noStrike" u="sng">
                <a:solidFill>
                  <a:srgbClr val="204162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204162"/>
                </a:solidFill>
                <a:latin typeface="Arial"/>
              </a:rPr>
              <a:t>средствами игры способствовать разрешению проблем личностного развития учащихся, формированию нравственно и физически здоровой личности ребенка.</a:t>
            </a: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2276640"/>
            <a:ext cx="7010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04162"/>
                </a:solidFill>
                <a:uFillTx/>
                <a:latin typeface="Arial"/>
              </a:rPr>
              <a:t>Задачи </a:t>
            </a:r>
            <a:r>
              <a:rPr b="0" lang="en-US" sz="1800" spc="-1" strike="noStrike" u="sng">
                <a:solidFill>
                  <a:srgbClr val="204162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пособствовать развитию познавательной сферы воспитанников, расширение у них знаний о мире и человеке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интеллектуальному развитию детей (развитию у воспитанников внимания, памяти, логики, творческого воображения, вербального интеллекта и т.д.)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развитию креативности (творческого начала)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развитию мыслительных и коммуникативных навыков ребенка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приобщению к культурным традициям русского народа, народов мира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организации досуга детей.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59280" y="981000"/>
            <a:ext cx="562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Мы придаем такое важное значение детским играм, что если бы устраивали учительскую семинарию, мужскую и женскую, то сделали бы теоретическое и практическое изучение детских игр одним из главных предметов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33"/>
                </a:solidFill>
                <a:latin typeface="Arial"/>
              </a:rPr>
              <a:t>К.Д.Ушинский</a:t>
            </a:r>
            <a:endParaRPr b="0" lang="en-US" sz="32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79640" y="1268280"/>
          <a:ext cx="101772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268280"/>
                    <a:ext cx="1017720" cy="966960"/>
                  </a:xfrm>
                  <a:prstGeom prst="rect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56000" y="981000"/>
            <a:ext cx="6130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«Игра – это искра, зажигающая в детях огонек пытливости. Мы, взрослые,  часто забываем о том, что может помочь нам в воспитании детей, научить нас знать и понимать друг друга. Чему только не учат ребенка – иностранным языкам, музыке, танцам, общению с компьютерной техникой, но редко кто из педагогов учитывает то, что путь к душе растущего человека лежит через игру»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В.А. Сухомлинский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92360" y="1341360"/>
          <a:ext cx="10080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341360"/>
                    <a:ext cx="1008000" cy="1224000"/>
                  </a:xfrm>
                  <a:prstGeom prst="rect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00"/>
                </a:solidFill>
                <a:latin typeface="Arial"/>
              </a:rPr>
              <a:t>В.В.Давыдов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19280" y="2071800"/>
            <a:ext cx="5267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162"/>
                </a:solidFill>
                <a:latin typeface="Arial"/>
              </a:rPr>
              <a:t>«Правильно поставленная игра позволяет многому научить ребенка. Организация игровой деятельности детей требует не менее глубоких специальных научных знаний, чем выработка медико-генетических норм обеспечения жизни ребенка»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1093000">
            <a:off x="1187280" y="2781000"/>
            <a:ext cx="1605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457200"/>
            <a:ext cx="691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04162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204162"/>
                </a:solidFill>
                <a:latin typeface="Arial"/>
              </a:rPr>
              <a:t>Типы игр:</a:t>
            </a:r>
            <a:endParaRPr b="0" lang="en-US" sz="40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54160" y="2127240"/>
            <a:ext cx="6632280" cy="3935520"/>
            <a:chOff x="2054160" y="2127240"/>
            <a:chExt cx="6632280" cy="3935520"/>
          </a:xfrm>
        </p:grpSpPr>
        <p:cxnSp>
          <p:nvCxnSpPr>
            <p:cNvPr id="132" name="_s80955"/>
            <p:cNvCxnSpPr>
              <a:stCxn id="133" idx="0"/>
              <a:endCxn id="134" idx="2"/>
            </p:cNvCxnSpPr>
            <p:nvPr/>
          </p:nvCxnSpPr>
          <p:spPr>
            <a:xfrm flipV="1">
              <a:off x="3584520" y="4629600"/>
              <a:ext cx="2160" cy="40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0956"/>
            <p:cNvCxnSpPr>
              <a:stCxn id="136" idx="0"/>
              <a:endCxn id="137" idx="2"/>
            </p:cNvCxnSpPr>
            <p:nvPr/>
          </p:nvCxnSpPr>
          <p:spPr>
            <a:xfrm flipV="1">
              <a:off x="7155720" y="4629600"/>
              <a:ext cx="1800" cy="40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0957"/>
            <p:cNvCxnSpPr>
              <a:stCxn id="137" idx="0"/>
              <a:endCxn id="139" idx="2"/>
            </p:cNvCxnSpPr>
            <p:nvPr/>
          </p:nvCxnSpPr>
          <p:spPr>
            <a:xfrm flipV="1" rot="16200000">
              <a:off x="6060600" y="2463120"/>
              <a:ext cx="405000" cy="1786320"/>
            </a:xfrm>
            <a:prstGeom prst="bentConnector3">
              <a:avLst>
                <a:gd name="adj1" fmla="val 32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0958"/>
            <p:cNvCxnSpPr>
              <a:stCxn id="134" idx="0"/>
              <a:endCxn id="139" idx="2"/>
            </p:cNvCxnSpPr>
            <p:nvPr/>
          </p:nvCxnSpPr>
          <p:spPr>
            <a:xfrm flipH="1" flipV="1" rot="5400000">
              <a:off x="4275000" y="2463120"/>
              <a:ext cx="405000" cy="1786680"/>
            </a:xfrm>
            <a:prstGeom prst="bentConnector3">
              <a:avLst>
                <a:gd name="adj1" fmla="val 32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80959"/>
            <p:cNvSpPr/>
            <p:nvPr/>
          </p:nvSpPr>
          <p:spPr>
            <a:xfrm>
              <a:off x="3839760" y="212724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204162"/>
                  </a:solidFill>
                  <a:latin typeface="Times New Roman"/>
                </a:rPr>
                <a:t>ИГРЫ</a:t>
              </a:r>
              <a:endParaRPr b="0" lang="en-US" sz="2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4" name="_s80960"/>
            <p:cNvSpPr/>
            <p:nvPr/>
          </p:nvSpPr>
          <p:spPr>
            <a:xfrm>
              <a:off x="2054160" y="3602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6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Творческие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7" name="_s80961"/>
            <p:cNvSpPr/>
            <p:nvPr/>
          </p:nvSpPr>
          <p:spPr>
            <a:xfrm>
              <a:off x="5625360" y="3602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6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С правилами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(дидактические) </a:t>
              </a:r>
              <a:r>
                <a:rPr b="0" lang="en-US" sz="600" spc="-1" strike="noStrike">
                  <a:solidFill>
                    <a:srgbClr val="204162"/>
                  </a:solidFill>
                  <a:latin typeface="Times New Roman"/>
                </a:rPr>
                <a:t>)</a:t>
              </a:r>
              <a:endParaRPr b="0" lang="en-US" sz="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6" name="_s80962"/>
            <p:cNvSpPr/>
            <p:nvPr/>
          </p:nvSpPr>
          <p:spPr>
            <a:xfrm>
              <a:off x="5625360" y="5078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Настольн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Подвижные игры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Компьютерн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3" name="_s80963"/>
            <p:cNvSpPr/>
            <p:nvPr/>
          </p:nvSpPr>
          <p:spPr>
            <a:xfrm>
              <a:off x="2054160" y="5078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Ролев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Игры – состязания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Компьютерн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204162"/>
                </a:solidFill>
                <a:latin typeface="Arial"/>
              </a:rPr>
              <a:t>Игры - состязания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844640"/>
            <a:ext cx="70106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Особенности: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Занимательность – средство привлечения внимания;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Соревновательность;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Привлекают много участников;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Могут быть коллективными (КВН) и  индивидуальными (викторины, «Аукцион знаний»)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Подвижные игры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1569960" cy="1730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41907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04162"/>
                </a:solidFill>
                <a:uFillTx/>
                <a:latin typeface="Arial"/>
              </a:rPr>
              <a:t>Назначение:</a:t>
            </a: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 средство физического воспитания (активные двигательные действия, направленные на достижение условной цели. 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04162"/>
                </a:solidFill>
                <a:uFillTx/>
                <a:latin typeface="Arial"/>
              </a:rPr>
              <a:t>Особенность -  </a:t>
            </a: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Соревновательность , творческое решение ситуаций, коллективный характер действий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59640" y="4076640"/>
            <a:ext cx="2052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95120" y="692280"/>
            <a:ext cx="586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1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204162"/>
                </a:solidFill>
                <a:latin typeface="Arial"/>
              </a:rPr>
              <a:t>Дидактические игры –</a:t>
            </a:r>
            <a:r>
              <a:rPr b="0" lang="en-US" sz="29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336633"/>
                </a:solidFill>
                <a:latin typeface="Arial"/>
              </a:rPr>
              <a:t>формы, специально создаваемые педагогикой, способствуют как приобретению знаний, так и развитию многих качеств личности.</a:t>
            </a:r>
            <a:br>
              <a:rPr sz="2900"/>
            </a:br>
            <a:r>
              <a:rPr b="0" lang="en-US" sz="2900" spc="-1" strike="noStrike">
                <a:solidFill>
                  <a:srgbClr val="336633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4343400"/>
          <a:ext cx="205740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20574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1:08Z</dcterms:created>
  <dc:creator>Пользователь</dc:creator>
  <dc:description/>
  <dc:language>en-US</dc:language>
  <cp:lastModifiedBy>FuckYouBill</cp:lastModifiedBy>
  <dcterms:modified xsi:type="dcterms:W3CDTF">2008-03-21T07:26:27Z</dcterms:modified>
  <cp:revision>11</cp:revision>
  <dc:subject/>
  <dc:title>«Учебно-дидактические игры как средство развития познавательной активности».</dc:title>
</cp:coreProperties>
</file>