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8BA-F8E2-4109-96D6-8E306B80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D8F-10FD-4778-B9E5-5F1EF6C2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D30-7C9F-4FA0-9817-94E4C4A9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090-7273-438A-8051-A3FE4142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4531-90DD-4ECC-9C4C-3940780B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5CAA-CF38-4DB8-B2A7-9188D83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1B13-B4F3-410B-A1BC-084783A0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EC81-7DA1-4BAE-9000-8A27354E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FF35-06ED-4EBE-B580-F65F1D24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20F1-DDEA-41BD-AFAA-9F6879C7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9F2C-5355-43B2-BFBB-C9234FA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041-F8A4-46E9-BAF7-230880F7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DC74-84A5-429B-B617-55D79437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EB5D-BB4C-4359-9779-9660754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F6EF-B12E-426E-8C12-8154F54D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55A7-91F1-4F47-9742-1E4A8226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DCFD-7C68-42F6-9612-64D67565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EDF-9C56-4983-B3A4-1807C054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EBE-A651-4421-84FF-A271B337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5C1-4837-41AE-9FB6-085DEBDD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DD9-56CE-4CBB-9813-494D0770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632-1684-42D6-89A6-B91707C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AAE-5317-4A8F-BAA8-1BA7EEC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098-2D2D-4E25-BF17-E13CBDE1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F7E3-4BAE-43E1-9755-E20105241A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43E1-2847-4CFA-AAB8-41BCB0B41A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8"/>
          <p:cNvPicPr/>
          <p:nvPr/>
        </p:nvPicPr>
        <p:blipFill>
          <a:blip r:embed="rId1"/>
          <a:stretch/>
        </p:blipFill>
        <p:spPr>
          <a:xfrm>
            <a:off x="539640" y="765000"/>
            <a:ext cx="8282160" cy="51850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908000" y="4437000"/>
            <a:ext cx="56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яя общеобразовательная школа №111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тодическое объединение начальных класс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1" descr="Учителя 2011 033"/>
          <p:cNvPicPr/>
          <p:nvPr/>
        </p:nvPicPr>
        <p:blipFill>
          <a:blip r:embed="rId1"/>
          <a:stretch/>
        </p:blipFill>
        <p:spPr>
          <a:xfrm>
            <a:off x="539640" y="1600200"/>
            <a:ext cx="381636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Учителя 2011 027"/>
          <p:cNvPicPr/>
          <p:nvPr/>
        </p:nvPicPr>
        <p:blipFill>
          <a:blip r:embed="rId2"/>
          <a:stretch/>
        </p:blipFill>
        <p:spPr>
          <a:xfrm>
            <a:off x="4716360" y="1557360"/>
            <a:ext cx="3961080" cy="218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Учителя 2011 037"/>
          <p:cNvPicPr/>
          <p:nvPr/>
        </p:nvPicPr>
        <p:blipFill>
          <a:blip r:embed="rId3"/>
          <a:stretch/>
        </p:blipFill>
        <p:spPr>
          <a:xfrm>
            <a:off x="539640" y="3938760"/>
            <a:ext cx="38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Уроки 010"/>
          <p:cNvPicPr/>
          <p:nvPr/>
        </p:nvPicPr>
        <p:blipFill>
          <a:blip r:embed="rId4"/>
          <a:stretch/>
        </p:blipFill>
        <p:spPr>
          <a:xfrm>
            <a:off x="4643280" y="3933720"/>
            <a:ext cx="4105440" cy="2152800"/>
          </a:xfrm>
          <a:prstGeom prst="rect">
            <a:avLst/>
          </a:prstGeom>
          <a:ln w="0">
            <a:noFill/>
          </a:ln>
        </p:spPr>
      </p:pic>
    </p:spTree>
  </p:cSld>
  <p:transition advTm="182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ши учител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6560" y="1052280"/>
            <a:ext cx="77770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нетина Людмила Григо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вченко Надежд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нкова Ирина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дакова Ольга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рова Ири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тьякова Любовь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урина Людмила Васил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гульских татьяна андр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калина Светлана Ю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ркова Ирина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кина Светлана Иван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лешоваОльг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2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44:15Z</dcterms:created>
  <dc:creator>Комаровы</dc:creator>
  <dc:description/>
  <dc:language>en-US</dc:language>
  <cp:lastModifiedBy>Администратор</cp:lastModifiedBy>
  <dcterms:modified xsi:type="dcterms:W3CDTF">2013-03-22T11:38:25Z</dcterms:modified>
  <cp:revision>46</cp:revision>
  <dc:subject/>
  <dc:title>Слайд 1</dc:title>
</cp:coreProperties>
</file>