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7F19-5EF9-4874-A40E-41498A82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882-1F46-43FB-8C90-C84B9A5D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0DA-A0C4-4E31-8293-C7A0EE96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586-55BF-473B-A48B-1C45C65F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D1D0-EF28-4B90-B7C4-F352AE10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67A4-ADCD-4192-B9A2-A0F9950F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EE6B-38E1-48BD-BDAF-F981AC00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2DE1-FC6D-44B6-BD4D-C6161AD1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D57F-1052-44FB-91C1-67936DCC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0FAD-E59C-4F0A-8C54-9FE2F869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6251-46B2-4DF5-83ED-3B5A814E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B64-1941-4B4B-9D45-7EDC020D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0235-9001-4379-B3AE-C381A35F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DCFD-4D8A-4040-A773-DE8C0E86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5468-8F1A-467E-8A1B-BFFE5DB7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2C40-3FDF-405A-92EC-58281C87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EEA5-57BE-41FF-AB43-616E6F3E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583-5F80-40C1-8142-27D7FBA7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7E1-CE89-4478-A60C-B6AED568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857-885B-4A9D-B390-920EDDA5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1D8-CA79-4758-BCF5-2B769E90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7BF-836F-4337-92BF-FFA8B9DF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2EB-7743-43DE-97A3-C0B41676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C2C-8896-4193-935D-3258F489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D5BF-05F9-4E70-8929-34F1161C2C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C8D7-DC00-4C9D-9FBB-B15F45D8D5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8"/>
          <p:cNvPicPr/>
          <p:nvPr/>
        </p:nvPicPr>
        <p:blipFill>
          <a:blip r:embed="rId1"/>
          <a:stretch/>
        </p:blipFill>
        <p:spPr>
          <a:xfrm>
            <a:off x="539640" y="765000"/>
            <a:ext cx="8282160" cy="51850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908000" y="4437000"/>
            <a:ext cx="568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яя общеобразовательная школа №111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2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етодическое объединение начальных класс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11" descr="Учителя 2011 033"/>
          <p:cNvPicPr/>
          <p:nvPr/>
        </p:nvPicPr>
        <p:blipFill>
          <a:blip r:embed="rId1"/>
          <a:stretch/>
        </p:blipFill>
        <p:spPr>
          <a:xfrm>
            <a:off x="539640" y="1600200"/>
            <a:ext cx="3816360" cy="2185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Учителя 2011 027"/>
          <p:cNvPicPr/>
          <p:nvPr/>
        </p:nvPicPr>
        <p:blipFill>
          <a:blip r:embed="rId2"/>
          <a:stretch/>
        </p:blipFill>
        <p:spPr>
          <a:xfrm>
            <a:off x="4716360" y="1557360"/>
            <a:ext cx="3961080" cy="2185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Учителя 2011 037"/>
          <p:cNvPicPr/>
          <p:nvPr/>
        </p:nvPicPr>
        <p:blipFill>
          <a:blip r:embed="rId3"/>
          <a:stretch/>
        </p:blipFill>
        <p:spPr>
          <a:xfrm>
            <a:off x="539640" y="3938760"/>
            <a:ext cx="3816360" cy="2187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Уроки 010"/>
          <p:cNvPicPr/>
          <p:nvPr/>
        </p:nvPicPr>
        <p:blipFill>
          <a:blip r:embed="rId4"/>
          <a:stretch/>
        </p:blipFill>
        <p:spPr>
          <a:xfrm>
            <a:off x="4643280" y="3933720"/>
            <a:ext cx="4105440" cy="2152800"/>
          </a:xfrm>
          <a:prstGeom prst="rect">
            <a:avLst/>
          </a:prstGeom>
          <a:ln w="0">
            <a:noFill/>
          </a:ln>
        </p:spPr>
      </p:pic>
    </p:spTree>
  </p:cSld>
  <p:transition advTm="182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ши учител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6560" y="1052280"/>
            <a:ext cx="77770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нетина Людмила Григор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вченко Надежда Пет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нкова Ирина Владими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дакова Ольга Владими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арова Ирина Михай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етьякова Любовь Никола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урина Людмила Васил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гульских татьяна андре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екалина Светлана Юр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ркова Ирина Владими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ркина Светлана Иван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лешоваОльга Никола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2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44:15Z</dcterms:created>
  <dc:creator>Комаровы</dc:creator>
  <dc:description/>
  <dc:language>en-US</dc:language>
  <cp:lastModifiedBy>Администратор</cp:lastModifiedBy>
  <dcterms:modified xsi:type="dcterms:W3CDTF">2013-03-22T11:38:25Z</dcterms:modified>
  <cp:revision>46</cp:revision>
  <dc:subject/>
  <dc:title>Слайд 1</dc:title>
</cp:coreProperties>
</file>