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34290-C15B-4073-9501-8AEDC2583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7084B-0B72-4D27-A146-B379710F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48E59F-5FC9-4BEB-B3E2-D4BB3187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D2615D-421D-4007-92FB-271405F2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ADF74-7388-460C-81BD-22647FA2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57B0D-B88A-4B92-BA39-E8D9C7C0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36AFD-9088-4E9A-AE60-A51A5134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1BA78-566C-4072-89FC-10AB5A84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41932-E2B3-41BF-BBAF-791759FF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D0415-7EA3-4A4E-BE5B-B05948771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76759-7D7B-4668-8956-38C5445A6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96F31B-0C2D-4ECD-A9AF-FB2DF2188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55D99-9EE7-4BF0-8FDD-4E75E5762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E214FD-819E-4FB6-BD35-EC74A7C2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BDBE4-937E-4726-A4B0-1A096F22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3E7C94-D58B-4979-8AEC-E065DC1D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98603-722D-4F32-8992-2EF894DB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19939-869D-4608-9BB6-E5A80991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F0596-5DF2-4545-864C-E7878D61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8C63AD-5B96-4080-BDE5-73F507A5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9ECB1-45BA-48AE-BF74-6ADEBEAB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72B34-4F1B-44D0-9023-BA594A35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4C8150-D794-43A3-93A5-ED9EE7211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BC8C8-E155-4FAB-96CC-8684EF15F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35FED-65B1-401B-AE66-5A92A2E98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0D597-1A76-487B-AF01-8A4B8AD80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47E24-4B28-4E12-8493-F7BC1227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67915-00B8-4636-9B7A-1E67D217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1007C-D920-4817-996E-E09588AD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5D2B9-22B8-4C16-ACCE-6CD7F5A7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CF50D-AB9E-4FE4-A684-0F8CC484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426111-69AC-4BEE-8B49-D52DB984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0AD13-D99B-494F-87B7-27521CB4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98E66-2D32-465A-9486-3396AEAA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58DF-8C93-490F-BD6C-78B7867D4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14CA9-2C78-46B7-A60D-17A05A2B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61F20-B217-4CC9-8D1B-47E1C4367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8B4CF-BA93-4A59-B3C2-7CCF833E4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223BEC-2D52-455E-BACF-D3DECF454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45E656-FB8C-4572-9D77-BC47017B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0D9EE2-BEF5-436A-876E-00915746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F2CDE7-656E-4A3A-8F0A-3BD46C18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1F12BF-1776-44BB-B463-3EB83327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F3B9A0-0D5F-440D-AB6B-F9FD5486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9AC6D-453A-448A-A0E6-C7EE294C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6A29-47E7-42F7-BDDA-2A3DEE99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AEF972-60D4-4D14-85F1-0BE1B056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C4729E-ED6D-4D3A-ACF7-313B2652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020FE-3928-4956-BBA9-36E251EA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2AB53E-A3FD-46DF-A5EB-8395AB7A1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275A30-B9A7-48EA-B375-6021DA25A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155EFD-9D4F-47F8-835B-725044113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891A1C-47AF-4F9F-BC0F-0FE15BA9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92E2FD-8885-4F02-8236-6AE78DC2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059251-8014-43A3-B5EF-1D84BB77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480B77-2A4B-43EF-9C67-30204357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CFF7-40AE-4EF4-BD2E-988EE0BC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84D1A2-9FE0-46A8-A8D2-24A182C4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FBCAC0-69BB-45E7-8AEB-12B8FCAF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51C84B-1521-4E3E-85F7-B2ABDDAB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FB812F-52AA-4AD5-AA78-475B5C35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9C5CCD-AE8B-4F66-A0BF-06290662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43081D-F87A-44A4-8F05-0E2D0EABA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7F92C3-B529-4AD1-9D48-5348B5222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42886C-073B-44A8-9593-B03F5A545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C55F36-5237-4B07-A9C4-3899FCD2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AA1756-5C1A-4807-9C2E-C0C62EA2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9C4F-3A1B-475E-B6C0-A856538F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FB8E33-283D-4A27-A3C6-30098A44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B67830-F259-4DAA-948A-3A5B68D6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1A263E-D2D4-4742-B142-DC379F7C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3EA484-E13F-4928-A023-FC75C1A7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DE0A23-2311-4E50-B9BC-630A139A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06901E-F0B7-409A-A020-6C350B2A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B84F01-B476-4647-B468-7DF10C3C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6ACE06-0252-4B60-A9C4-83FF52075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F5237C-46B0-4037-824C-B27A4509E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02488E-F58C-4F1E-A588-D7050517E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2DC8-3DB6-4D33-84A0-A407BEB5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BE1125-0B95-46C9-90B2-107FEDD5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33EFB9-1AB1-4051-9B32-75B7AD5C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11306E-C855-4692-9971-F733F1A9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26580F-6498-4126-9A5B-02577DC4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4FFA71-9577-4547-AB69-E4FD9AB7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B68055-0F47-41DA-99FA-C35017B9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78514F-0140-4061-8849-69A5CD05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4E2A0B-E2D0-4544-AF01-1EEA3B77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77D639-6F5C-449A-B69F-7A8875DB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BFCF1C-14C7-4B4C-9235-D09845E97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DB13-1858-48BB-83E3-1BE7DB0A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48095A-D3EC-4A32-8377-41117F04A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65BD53-A639-47D9-9EC0-452A31DA8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D73875-8011-46C9-A0F8-4EFCF99C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A2BE2B-699E-41B4-8B4A-3A690E83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4369C9-DCC2-484A-9FE6-1B6BE2BF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AC9422-9DA7-4F7E-894C-7736FD2C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9F806B-3ADF-4363-A018-A7FE888E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CA1CFA-74CE-4DF4-B7EB-FC4F61BD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86D35A-D6F8-495F-99B8-BBB70C62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608D0A-6502-4DD5-A114-9AD738A8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2E8D-C4A4-4B17-86E3-2FB27557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6BA576-A96B-4041-B479-9CEB540A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2BC5D8-0F2C-420F-A327-1478A3E29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220F9A-50D6-47FB-B598-F179488E0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77C3D-B3CC-4AFC-A5F9-6CE9FEB7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E718-E95C-47DC-974C-688FA761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FB5F-B983-45CB-A5D5-0BA68E58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0BE4-3B0E-41A0-983A-AE6352B4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5386-7FDA-45FA-A129-F7CC49761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3020-F2D6-4B25-A2D8-F453FFC85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807E8-36C5-4898-82DE-AB6ED53A5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896E1-094C-4A0C-815B-52AF8F91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0EECD-5DAF-4782-A53C-E083EF52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D7705-B0E0-4453-B332-D0B87696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B6E7F-4EED-4145-86AA-BDC0A18B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32D97-12EF-4D52-B60D-BD64C889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FA1E6-1A87-4B70-B56C-6939F449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FCF36-5DAD-45B6-92CD-0EBAEB11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AABED-83D9-4298-8CAB-1AD0650B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372E3-8C98-43E5-B152-EB73E94E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440E1-4A54-4727-BF2E-5846F12E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EC93E-2CFA-4E2F-A43B-85948BC10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DFF37-8933-4377-87FB-ABE3A9485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3CF07-288E-48D2-AB23-06599E785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3DEF1-9FBA-4A25-B8E9-F26F0ADB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19C4F-45A0-473B-A5EC-BACFD472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B0934-2377-4867-8D4D-484689BB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E6E60-CC5B-496A-A10F-66664D4A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1AC06-3314-4C3A-AA27-BDCACE1C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A1ECB-6091-46D1-9EA1-2C992678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0ED92-2D9D-472D-8144-D3047BC6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AA6A3-8EFA-41E5-AF62-B8D17F4D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482D0-0221-4544-9233-8B4B062E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E711B-1A55-4658-9E53-2C8F02CD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113AD-ACED-4E49-B028-3AECABCD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60936-2C90-459A-9CF4-88C927F75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B30BE-6C13-4028-8507-1FDE0D6CF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47FE9-D743-4E14-BC37-E64EB4C1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5CB91-F693-43F4-A537-1027A08D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DACB1-86A5-40DD-921C-9C287D17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B8436-2CDD-4381-AF7D-20723241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2ED0B-B88D-408D-B770-58A730A4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7A0AD-91CC-4BA1-BD90-C44FE810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F444F-8992-4E75-ABEF-8D06A6BF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9828F-7D3A-4B05-A9A5-0F77D6D0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D67D8-29FD-4077-9DCA-306FD3D9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D58D6-7F23-4873-99E2-E63215DB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39E19-59DB-4BF5-B7E5-1DA7B3F02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4B3BE-4904-460B-BE64-1EDE9A41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8EF6D-061C-4089-B7BE-1206149B4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135D44-AFA2-4B15-B89B-2B258E0D5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E5F69C-C904-4A8B-9E8A-C8950AB5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67947E-1EDB-4FC7-88E5-A023929B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CC1D32-6FAB-4D68-8B9D-FA5534A0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11FE91-5E75-4566-9851-6139F2C9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2976BA-68AD-43A1-B292-E4BB85F3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09DD18-071D-4197-95B0-FAAEEB02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A4011B-69DE-4EEF-BB54-C4B429AE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276FE2-6F08-414E-BCF0-B98E8E1A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EFFDA-83A5-4085-B14B-8FD90864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35DB30-7D56-48EA-9C7E-D4D165DE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E6BDE0-A787-4AFD-84C6-F734ABEA8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C926AE-B7EE-4C12-8624-9F58132BB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67C2A4-CC57-49F6-8BD5-52C77700B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AD78D5-1748-4BE0-8D6D-BEECE863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C429F6-A5B0-4E11-B7E0-CA8A45AA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1A47D4-9CAE-4CF6-8910-475B5D57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7E40F0-27F8-4C08-880D-5A864194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6A891B-BD60-420A-87C0-174B5218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F92CF2-2E62-4ECB-B89D-725E8746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742F3-C5AD-4EE8-9421-DF1D8E85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7CD14F-507C-40D0-AB13-3CA2880B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67A5FE-72F6-4FC7-81E2-BCDC1E30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BFC4E8-4FB2-402E-9DE8-7DEE035D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4EFF90-7ED8-4434-9FBF-CA3060B1D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CB7142-D63E-40F0-8F07-61B926D54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52A42-CC48-490A-A512-C0217B448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C6196-016B-4D8F-9729-E7EC1032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A97AF-4533-46E9-ADF0-05B609E4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AED95-A9D9-47A0-AAE3-4316603D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9A9D9-3F80-4289-8B0D-D6312EB3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03ABD-6AD9-444F-B2A8-773A3087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D2B71-9C7E-488C-9F5B-BC8C507C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B765C-69AA-4D3E-9BCE-6D9B5840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717CC-90DB-48DB-88B1-1E943502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F8904-2F4A-415C-BA80-E35BFFEE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11948-0902-4BF4-B40B-DCEBF220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FEF89-B640-4903-8B8F-DD02BBEEB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EEC7A-4124-4144-AA9F-CB3A821A2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0AACB-D1E3-455B-9E9E-B4B1C59DC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85D93-4C1F-4F79-9D0A-010DA8BC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CDD2B-C96B-44D5-9C0A-173905FF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21.xml"/><Relationship Id="rId35" Type="http://schemas.openxmlformats.org/officeDocument/2006/relationships/slideLayout" Target="../slideLayouts/slideLayout122.xml"/><Relationship Id="rId36" Type="http://schemas.openxmlformats.org/officeDocument/2006/relationships/slideLayout" Target="../slideLayouts/slideLayout123.xml"/><Relationship Id="rId37" Type="http://schemas.openxmlformats.org/officeDocument/2006/relationships/slideLayout" Target="../slideLayouts/slideLayout124.xml"/><Relationship Id="rId38" Type="http://schemas.openxmlformats.org/officeDocument/2006/relationships/slideLayout" Target="../slideLayouts/slideLayout125.xml"/><Relationship Id="rId39" Type="http://schemas.openxmlformats.org/officeDocument/2006/relationships/slideLayout" Target="../slideLayouts/slideLayout126.xml"/><Relationship Id="rId40" Type="http://schemas.openxmlformats.org/officeDocument/2006/relationships/slideLayout" Target="../slideLayouts/slideLayout127.xml"/><Relationship Id="rId41" Type="http://schemas.openxmlformats.org/officeDocument/2006/relationships/slideLayout" Target="../slideLayouts/slideLayout128.xml"/><Relationship Id="rId42" Type="http://schemas.openxmlformats.org/officeDocument/2006/relationships/slideLayout" Target="../slideLayouts/slideLayout129.xml"/><Relationship Id="rId43" Type="http://schemas.openxmlformats.org/officeDocument/2006/relationships/slideLayout" Target="../slideLayouts/slideLayout130.xml"/><Relationship Id="rId44" Type="http://schemas.openxmlformats.org/officeDocument/2006/relationships/slideLayout" Target="../slideLayouts/slideLayout131.xml"/><Relationship Id="rId4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3.xml"/><Relationship Id="rId32" Type="http://schemas.openxmlformats.org/officeDocument/2006/relationships/slideLayout" Target="../slideLayouts/slideLayout134.xml"/><Relationship Id="rId33" Type="http://schemas.openxmlformats.org/officeDocument/2006/relationships/slideLayout" Target="../slideLayouts/slideLayout135.xml"/><Relationship Id="rId34" Type="http://schemas.openxmlformats.org/officeDocument/2006/relationships/slideLayout" Target="../slideLayouts/slideLayout136.xml"/><Relationship Id="rId35" Type="http://schemas.openxmlformats.org/officeDocument/2006/relationships/slideLayout" Target="../slideLayouts/slideLayout137.xml"/><Relationship Id="rId36" Type="http://schemas.openxmlformats.org/officeDocument/2006/relationships/slideLayout" Target="../slideLayouts/slideLayout138.xml"/><Relationship Id="rId37" Type="http://schemas.openxmlformats.org/officeDocument/2006/relationships/slideLayout" Target="../slideLayouts/slideLayout139.xml"/><Relationship Id="rId38" Type="http://schemas.openxmlformats.org/officeDocument/2006/relationships/slideLayout" Target="../slideLayouts/slideLayout140.xml"/><Relationship Id="rId39" Type="http://schemas.openxmlformats.org/officeDocument/2006/relationships/slideLayout" Target="../slideLayouts/slideLayout141.xml"/><Relationship Id="rId40" Type="http://schemas.openxmlformats.org/officeDocument/2006/relationships/slideLayout" Target="../slideLayouts/slideLayout142.xml"/><Relationship Id="rId41" Type="http://schemas.openxmlformats.org/officeDocument/2006/relationships/slideLayout" Target="../slideLayouts/slideLayout143.xml"/><Relationship Id="rId42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490D-6FFE-4715-AD39-227EFA501E4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9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0A15-BBE6-491D-AA63-F059DEA9B7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5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5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5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5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6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6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7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7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9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3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3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sldNum" idx="3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5223-A560-485B-90F0-2F2F74C0586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4"/>
    <p:sldLayoutId id="2147483780" r:id="rId35"/>
    <p:sldLayoutId id="2147483781" r:id="rId36"/>
    <p:sldLayoutId id="2147483782" r:id="rId37"/>
    <p:sldLayoutId id="2147483783" r:id="rId38"/>
    <p:sldLayoutId id="2147483784" r:id="rId39"/>
    <p:sldLayoutId id="2147483785" r:id="rId40"/>
    <p:sldLayoutId id="2147483786" r:id="rId41"/>
    <p:sldLayoutId id="2147483787" r:id="rId42"/>
    <p:sldLayoutId id="2147483788" r:id="rId43"/>
    <p:sldLayoutId id="2147483789" r:id="rId44"/>
    <p:sldLayoutId id="2147483790" r:id="rId4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4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5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5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5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5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6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7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7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9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dt" idx="3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ftr" idx="3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sldNum" idx="3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0E7A-96CD-4948-8CDB-D1CA68EB0B7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1"/>
    <p:sldLayoutId id="2147483793" r:id="rId32"/>
    <p:sldLayoutId id="2147483794" r:id="rId33"/>
    <p:sldLayoutId id="2147483795" r:id="rId34"/>
    <p:sldLayoutId id="2147483796" r:id="rId35"/>
    <p:sldLayoutId id="2147483797" r:id="rId36"/>
    <p:sldLayoutId id="2147483798" r:id="rId37"/>
    <p:sldLayoutId id="2147483799" r:id="rId38"/>
    <p:sldLayoutId id="2147483800" r:id="rId39"/>
    <p:sldLayoutId id="2147483801" r:id="rId40"/>
    <p:sldLayoutId id="2147483802" r:id="rId41"/>
    <p:sldLayoutId id="2147483803" r:id="rId42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744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5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746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58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77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95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2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AC63-3E52-46F1-9D74-5E8BFB2945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8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49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0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51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863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1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882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00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07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2501-2C10-4878-931F-47DD7D7A9B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2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953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5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4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4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B8A4-AEA8-4A2B-A2DB-853C9198182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97" name="PlaceHolder 1"/>
          <p:cNvSpPr>
            <a:spLocks noGrp="1"/>
          </p:cNvSpPr>
          <p:nvPr>
            <p:ph type="dt" idx="4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sldNum" idx="4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1CE1-7771-453C-9459-43AEC0331A6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3866-F7AD-475C-8045-74AC0799B06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0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26BE-169A-44C2-8C72-71541E1C74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7519-8A13-48DA-A42D-7FFD79FBC4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8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02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04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1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2D44-3B7F-4346-899B-A28FD2FE849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59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63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65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DE54-AB77-4514-A448-C267E8D825F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603E-4619-4A53-B659-2880923F169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326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8550-E76C-4CCA-9B4D-F83A2007360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382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3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CEB5-B0C7-466B-8909-67663613DE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2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2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2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-360" y="-603360"/>
            <a:ext cx="9396360" cy="7461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Arial"/>
              </a:rPr>
              <a:t>Родительское собрание по теме:</a:t>
            </a:r>
            <a:br>
              <a:rPr sz="4800"/>
            </a:br>
            <a:br>
              <a:rPr sz="4800"/>
            </a:br>
            <a:r>
              <a:rPr b="1" lang="en-US" sz="4800" spc="-1" strike="noStrike" u="sng">
                <a:solidFill>
                  <a:srgbClr val="33cccc"/>
                </a:solidFill>
                <a:uFillTx/>
                <a:latin typeface="Arial"/>
              </a:rPr>
              <a:t>« Как помочь ребенку стать внимательным»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f1f45"/>
                </a:solidFill>
                <a:latin typeface="Arial"/>
              </a:rPr>
              <a:t>Объём внимания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н характеризуется количеством одновременно воспринимаемых и удерживаемых в сознании объек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7" name="" descr=""/>
          <p:cNvPicPr/>
          <p:nvPr/>
        </p:nvPicPr>
        <p:blipFill>
          <a:blip r:embed="rId1"/>
          <a:stretch/>
        </p:blipFill>
        <p:spPr>
          <a:xfrm>
            <a:off x="5724360" y="3789360"/>
            <a:ext cx="3203640" cy="285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f1f45"/>
                </a:solidFill>
                <a:latin typeface="Arial"/>
              </a:rPr>
              <a:t>Устойчивость внимания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Это возможность длительного сосредоточения на одном и том же объекте, одной и той же пробле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f1f45"/>
                </a:solidFill>
                <a:latin typeface="Arial"/>
              </a:rPr>
              <a:t>Распределение внима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это одновременное внимание к одному или нескольким объектам при одновременном выполнении действий с ними или наблюдений за ни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3" name="" descr=""/>
          <p:cNvPicPr/>
          <p:nvPr/>
        </p:nvPicPr>
        <p:blipFill>
          <a:blip r:embed="rId1"/>
          <a:stretch/>
        </p:blipFill>
        <p:spPr>
          <a:xfrm>
            <a:off x="5580000" y="3068640"/>
            <a:ext cx="1868400" cy="177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f1f45"/>
                </a:solidFill>
                <a:latin typeface="Arial"/>
              </a:rPr>
              <a:t>Переключение внима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это перемещение внимания с одного объекта на другой или с одного вида деятельности на другой в связи с постановкой  новой зада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692000" y="476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3399"/>
                </a:solidFill>
                <a:latin typeface="Arial"/>
              </a:rPr>
              <a:t>Внимание – это не раз и навсегда данное качество!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нимание можно и нужно развивать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амому ребёнку это сделать трудно.  Ему необходимо помочь научиться управлять своим вниманием. И главным помощниками ребёнку могут стать мама  и пап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Индивидуальные особенности внимания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Устойчивое, но слабо переключаемое внимание: дети могут долго и старательно решать одну задачу, но с трудом переходят к следующе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Индивидуальные особенности внима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 Легко переключаемое внимание в процессе работы, но так же и легко отвлекаемое на посторонние момент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Индивидуальные особенности вниман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. Хорошо организованное внимание сочетается с малым объёмом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. Легко отвлекаемое внимание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Индивидуальные особенности вниман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5. Устойчивое непроизвольное внимание: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Дети  сосредотачивают  внимание  на интересных  особенностях  изучаемого  материала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Если у детей не сформировано произвольное внимание, то -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39272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Они будут заменять буквы – гласные или согласные, близкие по  акустическим признакам:  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дети –теди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дети – бети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з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уки –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ук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10920" y="1125000"/>
            <a:ext cx="78469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1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. Часто ли Ваш ребёнок отвлекается во время выполнения заданий?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1368360" y="3430080"/>
            <a:ext cx="640872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Да.                               -  17 че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Трудно сказать             -   3  че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Нет                              -   5  че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Если  у детей недостаточно развита устойчивость внимания, то они будут: 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259160"/>
          </a:xfrm>
          <a:prstGeom prst="rect">
            <a:avLst/>
          </a:prstGeom>
          <a:solidFill>
            <a:srgbClr val="f0b854"/>
          </a:solidFill>
          <a:ln w="9360">
            <a:solidFill>
              <a:srgbClr val="2f131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ропускать буквы в словах –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тава –трава, трва – трава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 примерах  пропускают цифры и знаки: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12-6=5  1 -6=5   12- 6 5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Если ребёнок переставляет слоги в словах, то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4360" y="2565000"/>
            <a:ext cx="8229600" cy="3538440"/>
          </a:xfrm>
          <a:prstGeom prst="rect">
            <a:avLst/>
          </a:prstGeom>
          <a:solidFill>
            <a:srgbClr val="f0b854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это связано с неустойчивостью внимания, например, стройка – сытыройка, </a:t>
            </a: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проходили – прохолиди,  собрались – собрасьли,   трава - твар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Если ребёнок добавляет в слова гласные, то -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это связано с неустойчивостью произвольного внимания, например, 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3514c2"/>
                </a:solidFill>
                <a:latin typeface="Arial"/>
              </a:rPr>
              <a:t>дрова –дорова, стройка – сытыройка.</a:t>
            </a:r>
            <a:r>
              <a:rPr b="0" lang="en-US" sz="3200" spc="-1" strike="noStrike">
                <a:solidFill>
                  <a:srgbClr val="3514c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95280" y="-7480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cc"/>
                </a:solidFill>
                <a:uFillTx/>
                <a:latin typeface="Arial"/>
              </a:rPr>
              <a:t>Рекомендации родителям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229600" cy="67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могите вашим детям стать внимательн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обретайте, читайте и используйте книги, в которых  можно найти упражнения и игры, способствующие развитию вним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основе внимания лежит интерес. Играйте вместе с детьми  в различные игры, развивающие все свойства вним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учитесь играть в шахматы и шашки, ведь эти игры называют «Школой внимания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 забывайте о спортивных и подвижных играх, благодаря которым можно развивать не только силу и ловкость, но и внимание, воображение, быстроту мыш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чите детей быть наблюдательными – умеющими замечать изменения, происходящие в окружающем мире, видеть необычное в обычном, незнакомое- в знаком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стоянно тренируйте внимание своего ребенка. Используйте для этого прогулки на свежем воздухе, походы, любую возмож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имулируйте интерес к развитию внимания собственными примерами и примерами из жизни других люд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семейном кругу демонстрируйте достижения ребенка по развитию собственного вним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беритесь терпения и не ждите немедленных, успешных результа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2411280" y="2636640"/>
            <a:ext cx="6400800" cy="11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С П А С И Б О </a:t>
            </a:r>
            <a:br>
              <a:rPr sz="3600"/>
            </a:b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                 ЗА</a:t>
            </a:r>
            <a:br>
              <a:rPr sz="3600"/>
            </a:b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         ВНИМАНИЕ!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23640" y="691920"/>
            <a:ext cx="837396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2.Можно ли назвать Вашего ребёнка сосредоточенным, усидчивым?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546120" y="2349360"/>
            <a:ext cx="777240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Да                                   -     5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Трудно  сказать               -     9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Нет                                 -   11 чел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300880" cy="15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3.Хотелось бы Вам, чтобы Ваш ребёнок был внимательным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394920" y="2491920"/>
            <a:ext cx="8302680" cy="40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Да                                  24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Трудно сказать                 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т                                  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Другое                           1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4. Что Вы делаете для того, чтобы у Вашего ребёнка развивалось внимание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394920" y="2565360"/>
            <a:ext cx="8218440" cy="35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Занимаемся                     17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Затрудняюсь ответить       3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Не знаем                           1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Без ответа                         4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30268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5. Считаете ли Вы, что такие собрания необходимо посещать всей семьёй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4000" y="2781360"/>
            <a:ext cx="784836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Да                               21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Да, но не всег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лучается                   2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обязательно             1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Без ответа                   1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989840" cy="28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Garamond"/>
              </a:rPr>
              <a:t>Внимание</a:t>
            </a: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 – это способность человека сосредоточиться на определённом объекте и явлениях.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сновные свойства:  концентрация, объём, устойчивость, распределение, и переключен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нимание может быть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514c2"/>
                </a:solidFill>
                <a:latin typeface="Arial"/>
              </a:rPr>
              <a:t>Непроизвольны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не имеющим цели и волевого усилия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a7920"/>
                </a:solidFill>
                <a:latin typeface="Arial"/>
              </a:rPr>
              <a:t>Произвольны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наличие цели и  и активное её поддержание посредством  силы вол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f1f45"/>
                </a:solidFill>
                <a:latin typeface="Arial"/>
              </a:rPr>
              <a:t>Послепроизвольным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 наличие цели, но без волевого усилия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f1f45"/>
                </a:solidFill>
                <a:latin typeface="Arial"/>
              </a:rPr>
              <a:t>Концентрация внима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это умение сосредоточиться на нужном объекте, отдельных его частях или признаках, способность вникнуть в проблему, задач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18:00:25Z</dcterms:created>
  <dc:creator>галина</dc:creator>
  <dc:description/>
  <dc:language>en-US</dc:language>
  <cp:lastModifiedBy>User</cp:lastModifiedBy>
  <dcterms:modified xsi:type="dcterms:W3CDTF">2006-12-17T13:20:27Z</dcterms:modified>
  <cp:revision>21</cp:revision>
  <dc:subject/>
  <dc:title>1. Часто ли Ваш ребёнок отвлекается во время выполнения заданий?</dc:title>
</cp:coreProperties>
</file>