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E915-05A0-4AC1-934E-18CC3DA3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CE2E-3735-4EB0-ABA9-7800B116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60D0C-651D-4CC7-8EBB-1D200A77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AACCB-DED0-41A9-944D-92D287C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7D950-23FD-4762-B8A7-1A7F2B8D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23992-01AF-4FCF-8E5E-7FB5EBB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EAEB9-6904-4D94-9F66-7ED1797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503EB-AAC9-41E1-9E0E-E1C8CAE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25910-F46B-4EA7-87E6-495FC639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D5017-C822-4095-9A54-6DF16DCF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BEFE1-1915-4E3A-9DED-5A2FAD31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A7CDE-E29C-438B-927A-6C67FA4B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B322-2708-40FA-B9E5-0010AA8D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F4318-9D8E-41B7-B9D0-22933A5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AC62-33A8-491A-B224-F1369F08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1C229-3D38-4B1F-975D-369D543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0F5D4-D9BC-4450-9619-31631BB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993D0-4174-4290-982D-E5649EF1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9FEAD-035B-493B-A956-78B6E38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1E86D-E1F0-4DB1-9D35-3F0A6DA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202A4-AD93-4250-97D7-632F346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07118-5FDD-4232-BB4C-73ED24BA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EC6C4-46BA-453B-8DC6-E9182785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0D2E-68D3-4A99-BB03-5F1E034A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F79D9-DD92-479E-BF47-C53E0EC7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A34E5-AF61-494C-BD73-D917F195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D36F4-C838-4D76-9337-6D0B8B2E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06B14-9DDF-4160-B470-20EAB9A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BE38B-3566-4AA7-AC3F-9D603A9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07B46-B4A1-4143-A5A2-AB1C7D5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AD722-359F-4680-87F3-9199D20B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6A2CD-810A-40AB-A8E0-C240460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2D381-B677-4316-9416-A924C57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7D288-BBEC-4492-8A63-F3352B4D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E255-01A3-4A25-BC83-A66191C8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E478-0343-43F2-A598-3E1A61E4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12216-FF6E-4D61-BB6E-001156B9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1305-1BB2-4946-92B3-6288A9E2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EB39C-1A8C-48BA-8BB9-9C21F4B8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396A8-D086-46B5-97E2-B59318B8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22837-713A-4DDE-9579-01DCC9E5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5D955-B741-417F-8074-EFD9B47D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DF541-C090-46DB-8C9D-22DBA91E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1FC63-2313-4077-A53C-589E138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7F1FD-6CB7-4034-AD64-EC083B0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2A0B-71A2-4C74-8256-C4F45A30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44DA9-F70E-4617-85EA-FD65D17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38A09-C4BA-447A-B3A3-238FB4B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B5BB8-D6A5-4EBB-9CEE-A5B271DC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2752C-F5CA-4DCA-BA76-A5F8DE2C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90731-E9A5-46D4-80C4-EB1E9AFC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F8B5C-3BAC-4722-9E00-87C9A3DF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9C2AA-F8FF-4EB7-8F80-8A74D30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D45A3-9200-4EF6-BD47-AA265B6C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E9853-D5DA-4E46-A616-5588B618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9523A-DB1F-41B2-BAEE-8126FFC9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0382-C763-4EBE-9087-05DEA45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F9C58-78F0-432B-ACCD-7304412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76A42-FCB1-4C6B-BFB2-D8C153A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E469E-FABB-4BF6-9E9D-FDE95BF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952E5-2ED2-461D-923D-B7185E1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BDF4E-9D53-43D0-A03A-8CCA4FB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A116C-0001-4992-AC50-0027B00A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4DCBE-89A9-465D-B7B0-15C5487E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552E3-5ED4-445E-A0C0-9DE36A30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6F913-BBD0-48E4-8133-A018B4FD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C3558-0625-4622-BBB5-06AAF46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731-6273-4383-8B96-CBB4F38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FBDE0-24D6-4566-A0B1-927FEAA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04AC5-CA50-4D7A-ACCA-20270DF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9442C-479A-465E-8B41-AE67013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7F6D3-A168-471B-B69B-E002AA0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A116B-FF43-41B7-B200-76ACEF9E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0E5B3-9A70-435D-9B90-79A924E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58176-F90E-4FEA-B7C8-9200DAB8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0025C-7344-473F-BE8B-E6EE464A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C0A11-6DBF-4BCE-A3DE-1C12CA7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04CE6-FAB6-4994-8B28-CCBC38C4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D514-40E7-4504-8695-6DDDD92A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E082D-AF00-4E3F-948F-BB3E345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2B67D-F67E-4187-B817-4DE9AF68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3009F-6405-46C1-B7C0-19AB0B59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F5C25-F1D2-455F-A826-048030A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296FA-65D4-44D9-98E9-978C2EC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5891F-0A0B-4E16-9EC4-D027252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63339-A318-4630-83CC-52AF4DB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075B1-0A5F-45A0-AA01-2FCA3D4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96664-0E9B-48CE-A4AC-81FA648A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B256E-9891-46F7-BF16-74E2026E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A7B-F034-4940-BB45-6277DA7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43E3F-5541-4187-9DC8-276B79F5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E43E9-64D2-4D9F-BFCB-58896704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09898-1957-4E6A-9DAF-0322739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1BF6E-F6B5-4736-9136-31FE21B3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A4D52-DD61-4F9E-8B9A-F7A7B0C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D1CC7-1961-4149-B496-1C3D446C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F799A-EF8E-4C48-BAAE-331B3E07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EA488-89C7-4A84-AFB0-C57B658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C2672-F1D3-4C78-8202-4D03C7C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98CF1-CB73-4C4B-A86B-15975B2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6AA-BE1C-443F-A582-AF1F33A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631A4-8A99-4A04-BF85-D240747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F959B-94E2-462F-8A72-E633D3AF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2BFFD-A31C-4607-B059-9292C01F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9389-1C41-4CE1-9491-0DD97D31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AF70-3A6D-461B-8344-E89231E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747D-0AF6-4D39-8E77-9CACF75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BD5-CF9E-42BE-B998-EA8C5D49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1DCD-30C5-4619-8B1C-91F31BE7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36B8-6F6C-42F5-8308-D4E6BB3D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150F-8364-44EC-A6F8-4425A6CC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DF29-8C2E-4B0E-81BB-E1543381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CE24-B37C-45DE-B9DF-2FBB542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9B05-0D09-435D-A714-5F7F0DD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E853-1E59-4982-91C5-81F20B4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A3A9-C6CE-47B7-A7EC-7E85AD59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83E7-DAAC-4EC2-9B21-3FC19571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4C32-4E09-4072-AE2F-314DD2E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5A4C-26F1-4675-BC65-21E9F45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7DA6-4FB9-4B5A-AF00-C2B888C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943D-59D7-4B5A-9E12-A08E2E2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C1EC-D5C2-48C9-9751-0B2972C3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B94C-B6D2-4660-8866-0105BCF7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52A4-5BF2-4BD4-BF0B-1916FE6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975A-69CE-4BF6-8652-43FC1C60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3018-54E4-4E40-8401-56F13B2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88FB-2C4D-4B60-AE0E-0FF121C1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6992-935C-4A9B-A9A4-B0D87097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6B0E-88D8-47CC-BAD3-523D0B21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F3D5-8D7E-4EEF-9A60-C5AAE98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1186-081D-4F68-BCE2-1389F07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8CCE-CC9C-4A93-B5A1-173A3AA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A649-2FF9-42F1-9CB8-134C5C4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DF05-94A3-4901-AF50-6E5B40B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8C889-2B30-4810-B53D-5F0E391E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6BD8-48D7-4E37-8620-F5937F1F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2361E-8E47-44F0-AF76-01AD636A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744D-EF2B-4DE4-B6DE-F3F7B426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3132-DE77-40FF-8D98-3E3D6C1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0BAC-6D47-44BD-BEAE-416D1DC0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0C84-0745-43DB-99C5-C889217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143F3-0917-4142-8EFC-A8C1CB33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8E44-13F6-4887-886C-7C0692C5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F4CE-2B43-4388-8033-6C240DF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9F92-A12C-472A-9AFD-10C56CD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A43E-3F0C-46E6-B7EE-288152A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BE97-99ED-4102-A170-27EF7B83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FE1C-CF99-43CD-9C91-3750B122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1075-2485-4543-A18B-E0503FD0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0D30-7D07-48C7-8D74-260123DA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07408-25CB-40AC-91C7-E42039E0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2DD62-03D9-4C2A-B5B5-FD40F43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1DA5A-3FB6-4612-914B-0D9AFD0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46494-5979-4750-A543-528642DA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2D47E-40A5-44AE-827F-0332263A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31B76-5EAB-42FF-8EAF-B0B98E83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174C8-1C9E-48B6-B7F4-F97789F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5B402-0FD4-4FEA-BF63-EACC12F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CE1E0-EED7-4D76-B6B6-CE7F022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5340-621F-4865-8F59-1A208D2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00C05-995E-43D4-A504-5E84D6B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430EA-7D94-4DFC-8A0A-2512770A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CCCDA-16E5-4E76-AB82-6213BBD3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88E52-7B59-4AB0-A7F7-ADFF30EF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50F71-49F5-4AF9-B080-801D2A6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3A44B-BB24-4082-A7D9-1C6F98AD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2CD8A-460F-487C-819E-0936A82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B9073-D1FD-4FB4-87BD-84075AB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61BA5-1931-4B34-89CA-AC59EC03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C027B-C421-4AC2-911D-AAB8059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322B-92A3-4A5B-8B06-E739CBCA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6006A-D0FF-4FF2-8407-2190962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88AFA-3368-41DD-8AEB-B3F6C1E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0CB12-37CD-462B-B123-D5F41449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92B7A-7FF8-4BDC-9DD2-AD898F9A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5A40B-CB9D-4AD1-9049-3CEF3C1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12D6-AF6C-4B22-8A8C-D246C637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896BD-F20A-460F-B450-4D9A155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96114-4824-4A5C-B700-DA64652C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D6F77-F0F5-4780-A991-DEA9EF7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B8D93-FD82-48B7-8E82-51A4E0A6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A62E-3D40-4132-9D07-8362A3A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AC9D-7D01-47E4-BAC9-8697D3C7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A125F-549D-43B7-A25F-C5A30B72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BFEB-999A-4E25-B06D-A388112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89EB-F258-48AD-BA84-93FE68E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3A11-769A-495D-A8DF-A09ABA8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A1A0-2E70-4F84-B811-E26E00F2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8597-3421-4621-9B8D-9B38BB13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78CDE-540D-416E-AAF6-21588A45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C68A9-8F84-4D6C-9471-926FC3C9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1FDE4-8AC7-412C-A489-B264373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7C74-E4E0-4FA2-88C6-ACDF368C39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EC54-FBAB-4511-A810-85146F17E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380-E5C8-44E5-AC11-A4CF7E5FA5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7C4-D472-4AC5-8A45-C719406F42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D701-AF12-43D0-9649-FEE24F4DEE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AB25-63B9-4E33-8EF3-78B676632B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5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8AA-4FEB-4F7E-8BB2-ED7FA24B02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17BE-6099-4B4D-B864-2A6F4084ED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8F07-FF66-4100-96FD-E89BC7E9E8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9583-0335-4986-9895-861CFB0327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7BA-40C7-4C89-AAA0-204FD44B03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34A-2F18-4966-B3AC-618EF3257E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D6E-C4E0-4DB3-9995-D7036E6846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EC9-DE47-481C-90A5-C5C296EDB1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2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C116-D6FD-4EC2-A872-041A1A4E82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B094-400A-4F36-809F-2E529939E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Родительское собрание по теме: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дивидуальные особенности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 –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пускать буквы в словах –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примерах  пропускают цифры и знаки: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Если ребёнок переставляет слоги в словах, то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f0b85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может бы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1f45"/>
                </a:solidFill>
                <a:latin typeface="Arial"/>
              </a:rPr>
              <a:t>Послепроизвольны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User</cp:lastModifiedBy>
  <dcterms:modified xsi:type="dcterms:W3CDTF">2006-12-17T13:20:27Z</dcterms:modified>
  <cp:revision>21</cp:revision>
  <dc:subject/>
  <dc:title>1. Часто ли Ваш ребёнок отвлекается во время выполнения заданий?</dc:title>
</cp:coreProperties>
</file>