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F539-6B68-4BCC-801C-91A3AEF3F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B080-FC90-4416-B2EA-54B5DF10C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8892-C423-4333-A5F1-7585EC6A3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ECC0-DF96-4DF7-92C8-DE6ABE79F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5AD7-FD72-41C6-9592-1FFF8A869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CCED-F16D-4AF4-B1E2-F9F4494C6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669E-6E76-4DC1-86E3-78F15800A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79DA-3C64-4BF8-88F3-76A75A489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4962-F3ED-46A4-9237-44E6B60E3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4640-CE27-4372-B6F9-4BB67C2A1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1C49-CB55-4AC3-BD4E-62A653750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A518-7B32-4032-8E1B-A69897C95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405C9-5BA5-47B7-B8E7-9B54C9CF7C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5000" y="376200"/>
            <a:ext cx="5256360" cy="750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03360" y="539640"/>
            <a:ext cx="5649840" cy="777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71520" y="324000"/>
            <a:ext cx="6113520" cy="84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6823080" cy="9144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41360" y="324000"/>
            <a:ext cx="5975280" cy="8323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bat-Bold"/>
              </a:rPr>
              <a:t>«Когда я однажды взглянул на верхушку берёзы снизу,                   с поверхности снега,      я обомлел от открывшегося передо мной зрелища фантастической красоты: какие – то перезвоны и перекликания всех цветов радуги, объединённых голубой эмалью неба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bat-Bold"/>
              </a:rPr>
              <a:t>                 </a:t>
            </a:r>
            <a:r>
              <a:rPr b="1" lang="en-US" sz="3600" spc="-1" strike="noStrike">
                <a:solidFill>
                  <a:srgbClr val="333399"/>
                </a:solidFill>
                <a:latin typeface="Arbat-Bold"/>
              </a:rPr>
              <a:t>И. Грабар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666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грв" descr=""/>
          <p:cNvPicPr/>
          <p:nvPr/>
        </p:nvPicPr>
        <p:blipFill>
          <a:blip r:embed="rId1"/>
          <a:stretch/>
        </p:blipFill>
        <p:spPr>
          <a:xfrm>
            <a:off x="1773360" y="250920"/>
            <a:ext cx="3146400" cy="41767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-1827360" y="4398480"/>
            <a:ext cx="8685360" cy="45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по мотивам картины И. Э. Грабаря «Февральская лазурь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Суровая пора зи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Природа спит, морозу покорилас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Зелёных листьев шумная толп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С берёзок белых удалилас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И стал безмолвным хорово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Берёзок стройны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И звонкий птичий хор умол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В обледеневших крон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Художник, взяв мольберт и краски, днём ясны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Между зимних бур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Картину написал прекрасно «Февральскую лазурь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Чеб Оля, 5 кл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6T08:34:09Z</dcterms:created>
  <dc:creator>MYI</dc:creator>
  <dc:description/>
  <dc:language>en-US</dc:language>
  <cp:lastModifiedBy>User</cp:lastModifiedBy>
  <dcterms:modified xsi:type="dcterms:W3CDTF">2008-04-30T16:33:00Z</dcterms:modified>
  <cp:revision>6</cp:revision>
  <dc:subject/>
  <dc:title>Слайд 1</dc:title>
</cp:coreProperties>
</file>