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C370-BD34-4074-ADDD-EF4CD189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EB46-CF8A-441B-AFFC-79260831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172-2CF3-4EC0-83FD-149847DC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42D-38DF-43B3-AEC3-2D89780B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6E23-400D-4BD3-91B5-B0CC589B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E5F2-6BA1-44ED-8DB7-50FC8EC7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886F-7BE2-46F7-A47F-DA2A5E24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638E-84E6-4A13-B4B9-7B0A2D58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204B-59E1-48D9-9966-C5FF29B1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6C14-4203-45F8-A820-095CBEC8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0624-57D2-493D-BFF7-977BD5E0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9415-6EEB-44B1-B39D-2426B8F3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7404-1CAA-4C63-862E-5DFDE13C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C87D-AEE2-4E79-B4EE-D17B51A9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BBDF-4D8F-4232-A4C5-F5DFDE4C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FB88-E344-414E-BB79-EDC3AC24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FB1F-4AED-4FD3-A550-A55F6032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552-CEA0-460E-927C-4A2E6D41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CF05-C8DD-445F-937E-C498A8B3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374-7133-44BC-8C8B-1B79BF56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160-29E3-49A9-96E1-3D47171F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7B14-4706-4563-904A-4092D8A5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E29C-DD44-4096-858E-4BDA27F4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934E-5131-4257-8536-F27EE2E5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320" cy="2269080"/>
                <a:chOff x="6274080" y="-21600"/>
                <a:chExt cx="28663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4160" cy="1140840"/>
                  <a:chOff x="783432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360" y="1602720"/>
                    <a:ext cx="47304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880"/>
                  <a:ext cx="1303560" cy="669240"/>
                  <a:chOff x="783684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1880" y="1033920"/>
                    <a:ext cx="458280" cy="266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240"/>
                  <a:chOff x="7852680" y="657720"/>
                  <a:chExt cx="122328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4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740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2680"/>
                    <a:ext cx="720360" cy="10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400"/>
                  <a:ext cx="983520" cy="327240"/>
                  <a:chOff x="7845840" y="419400"/>
                  <a:chExt cx="98352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04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320" y="456120"/>
                    <a:ext cx="34020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5040"/>
                  <a:ext cx="1060920" cy="1141920"/>
                  <a:chOff x="6539040" y="905040"/>
                  <a:chExt cx="106092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040"/>
                    <a:ext cx="8791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120" y="1665720"/>
                    <a:ext cx="4719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120" cy="1051920"/>
                  <a:chOff x="6303960" y="86184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4400" y="1112400"/>
                    <a:ext cx="9288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880" y="1515600"/>
                    <a:ext cx="49932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360"/>
                  <a:chOff x="6287040" y="827280"/>
                  <a:chExt cx="128772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6000" y="1016640"/>
                    <a:ext cx="890280" cy="157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480" y="1321920"/>
                    <a:ext cx="477360" cy="239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840" cy="668520"/>
                  <a:chOff x="6274080" y="787320"/>
                  <a:chExt cx="130284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68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3560"/>
                    <a:ext cx="461520" cy="267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6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2440"/>
                    <a:ext cx="425160" cy="245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2680"/>
                    <a:ext cx="720360" cy="10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120" y="-21600"/>
                  <a:ext cx="465480" cy="808920"/>
                  <a:chOff x="7287120" y="-21600"/>
                  <a:chExt cx="46548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440" y="60120"/>
                    <a:ext cx="294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440" cy="461160"/>
                  <a:chOff x="7792920" y="273600"/>
                  <a:chExt cx="96444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3480" y="329760"/>
                    <a:ext cx="3333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160"/>
                  <a:ext cx="916200" cy="604440"/>
                  <a:chOff x="7737840" y="137160"/>
                  <a:chExt cx="91620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520"/>
                    <a:ext cx="6350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7640" y="212760"/>
                    <a:ext cx="3358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7160" cy="789840"/>
                  <a:chOff x="7666200" y="-10800"/>
                  <a:chExt cx="497160" cy="78984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880" y="79200"/>
                    <a:ext cx="29304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400" y="930240"/>
                  <a:ext cx="914760" cy="1248120"/>
                  <a:chOff x="6710400" y="930240"/>
                  <a:chExt cx="914760" cy="124812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840" y="1258200"/>
                    <a:ext cx="88956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560" y="1785960"/>
                    <a:ext cx="4773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320" cy="1248480"/>
                  <a:chOff x="7015320" y="979200"/>
                  <a:chExt cx="61632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9040" y="1310040"/>
                    <a:ext cx="8233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3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40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840" y="1899360"/>
                    <a:ext cx="40716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960" y="1402560"/>
                    <a:ext cx="74016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000" y="1928520"/>
                    <a:ext cx="39636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4420-D018-483E-BF0E-FBFAC1E739B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5520"/>
            <a:ext cx="6895800" cy="5452560"/>
            <a:chOff x="2011320" y="245520"/>
            <a:chExt cx="6895800" cy="5452560"/>
          </a:xfrm>
        </p:grpSpPr>
        <p:grpSp>
          <p:nvGrpSpPr>
            <p:cNvPr id="177" name="Group 3"/>
            <p:cNvGrpSpPr/>
            <p:nvPr/>
          </p:nvGrpSpPr>
          <p:grpSpPr>
            <a:xfrm>
              <a:off x="3471480" y="955080"/>
              <a:ext cx="947880" cy="708840"/>
              <a:chOff x="3471480" y="955080"/>
              <a:chExt cx="947880" cy="70884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71480" y="955080"/>
                <a:ext cx="947880" cy="708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12040" y="1266480"/>
                <a:ext cx="230760" cy="131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5520"/>
              <a:ext cx="6895800" cy="5452560"/>
              <a:chOff x="2011320" y="245520"/>
              <a:chExt cx="6895800" cy="545256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5520"/>
                <a:ext cx="6887880" cy="5452560"/>
                <a:chOff x="2011320" y="245520"/>
                <a:chExt cx="6887880" cy="545256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3920" y="1267920"/>
                  <a:ext cx="3598200" cy="2651760"/>
                  <a:chOff x="3733920" y="1267920"/>
                  <a:chExt cx="3598200" cy="265176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3920" y="1267920"/>
                    <a:ext cx="3598200" cy="2651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840" y="2236320"/>
                    <a:ext cx="7128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5520"/>
                  <a:ext cx="6887880" cy="5452560"/>
                  <a:chOff x="2011320" y="245520"/>
                  <a:chExt cx="6887880" cy="545256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080" y="2319840"/>
                    <a:ext cx="2553480" cy="2746800"/>
                    <a:chOff x="5761080" y="2319840"/>
                    <a:chExt cx="2553480" cy="274680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600" y="301680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29080" y="4146480"/>
                      <a:ext cx="1138680" cy="60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5560" y="2148840"/>
                    <a:ext cx="3039840" cy="2526840"/>
                    <a:chOff x="5785560" y="2148840"/>
                    <a:chExt cx="3039840" cy="25268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5280" y="2752200"/>
                      <a:ext cx="2235600" cy="426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0200" y="3720600"/>
                      <a:ext cx="1200960" cy="671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4240"/>
                    <a:ext cx="3096000" cy="1994040"/>
                    <a:chOff x="5776200" y="2064240"/>
                    <a:chExt cx="3096000" cy="19940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0360"/>
                      <a:ext cx="2141640" cy="373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0000" y="3245400"/>
                      <a:ext cx="115164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560" y="1970280"/>
                    <a:ext cx="3131640" cy="1606320"/>
                    <a:chOff x="5767560" y="1970280"/>
                    <a:chExt cx="3131640" cy="16063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0520" y="2279880"/>
                      <a:ext cx="2070000" cy="411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6240" y="2772000"/>
                      <a:ext cx="1109520" cy="649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7160" y="1878480"/>
                    <a:ext cx="2937600" cy="1003320"/>
                    <a:chOff x="5807160" y="1878480"/>
                    <a:chExt cx="2937600" cy="100332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4440" y="2004480"/>
                      <a:ext cx="190476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3120" y="2212560"/>
                      <a:ext cx="102564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5480"/>
                    <a:ext cx="2659680" cy="443880"/>
                    <a:chOff x="5851080" y="1815480"/>
                    <a:chExt cx="2659680" cy="44388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0040"/>
                      <a:ext cx="173232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840" y="1827000"/>
                      <a:ext cx="92952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080" y="1306440"/>
                    <a:ext cx="2362680" cy="785160"/>
                    <a:chOff x="5788080" y="1306440"/>
                    <a:chExt cx="2362680" cy="7851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7800" y="165384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280" y="1395000"/>
                      <a:ext cx="81504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8160" y="2472840"/>
                    <a:ext cx="2552760" cy="2743560"/>
                    <a:chOff x="2648160" y="2472840"/>
                    <a:chExt cx="2552760" cy="27435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1520" y="31698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3520" y="4296240"/>
                      <a:ext cx="11412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6200" y="2365200"/>
                    <a:ext cx="3038760" cy="2535840"/>
                    <a:chOff x="2086200" y="2365200"/>
                    <a:chExt cx="3038760" cy="25358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3520" y="2969280"/>
                      <a:ext cx="2240280" cy="430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70440" y="3941640"/>
                      <a:ext cx="1203120" cy="674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3480"/>
                    <a:ext cx="3092760" cy="1989720"/>
                    <a:chOff x="2040480" y="2283480"/>
                    <a:chExt cx="3092760" cy="19897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4000" y="2738520"/>
                      <a:ext cx="2136960" cy="373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2840"/>
                      <a:ext cx="1147680" cy="585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9160"/>
                    <a:ext cx="3130920" cy="1606680"/>
                    <a:chOff x="2011320" y="2189160"/>
                    <a:chExt cx="3130920" cy="160668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2160" y="2498040"/>
                      <a:ext cx="2066400" cy="411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91240"/>
                      <a:ext cx="110952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920" y="2098080"/>
                    <a:ext cx="2939400" cy="1001520"/>
                    <a:chOff x="2167920" y="2098080"/>
                    <a:chExt cx="2939400" cy="100152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2400" y="2224080"/>
                      <a:ext cx="19072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30000"/>
                      <a:ext cx="102564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480"/>
                    <a:ext cx="2656800" cy="448560"/>
                    <a:chOff x="2403720" y="2031480"/>
                    <a:chExt cx="2656800" cy="44856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6040" y="2067120"/>
                      <a:ext cx="1731240" cy="269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2640"/>
                      <a:ext cx="929520" cy="425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56880" y="1522440"/>
                    <a:ext cx="2366280" cy="786240"/>
                    <a:chOff x="2756880" y="1522440"/>
                    <a:chExt cx="2366280" cy="78624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2080" y="187092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3960" y="1611000"/>
                      <a:ext cx="815040" cy="419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7680"/>
                    <a:ext cx="2324880" cy="1082880"/>
                    <a:chOff x="2887200" y="1237680"/>
                    <a:chExt cx="2324880" cy="108288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40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000" y="1371240"/>
                      <a:ext cx="81504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58280" y="829080"/>
                    <a:ext cx="2172960" cy="1508760"/>
                    <a:chOff x="3158280" y="829080"/>
                    <a:chExt cx="2172960" cy="150876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22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4720" y="1020600"/>
                      <a:ext cx="81504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5120" y="435960"/>
                    <a:ext cx="1989720" cy="1831320"/>
                    <a:chOff x="3435120" y="435960"/>
                    <a:chExt cx="198972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48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3200" y="665280"/>
                      <a:ext cx="82728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600" y="330480"/>
                    <a:ext cx="1459080" cy="1891800"/>
                    <a:chOff x="4026600" y="330480"/>
                    <a:chExt cx="1459080" cy="18918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3680" y="1444320"/>
                      <a:ext cx="1357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1640" y="541800"/>
                      <a:ext cx="7300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5640" y="245520"/>
                    <a:ext cx="1125000" cy="1948320"/>
                    <a:chOff x="4445640" y="245520"/>
                    <a:chExt cx="1125000" cy="19483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4720" y="1402560"/>
                      <a:ext cx="13100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4320" y="441000"/>
                      <a:ext cx="70344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2800" y="949680"/>
                    <a:ext cx="2316240" cy="1112040"/>
                    <a:chOff x="5662800" y="949680"/>
                    <a:chExt cx="231624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6680" y="152028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680" y="1087560"/>
                      <a:ext cx="81504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240" y="623160"/>
                    <a:ext cx="2197440" cy="1452600"/>
                    <a:chOff x="5529240" y="623160"/>
                    <a:chExt cx="219744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520" y="14277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040" y="807120"/>
                      <a:ext cx="8146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5680" y="1465920"/>
                    <a:ext cx="126324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0160" y="535680"/>
                    <a:ext cx="680760" cy="280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3920" y="266400"/>
                    <a:ext cx="1196640" cy="1902600"/>
                    <a:chOff x="5353920" y="266400"/>
                    <a:chExt cx="1196640" cy="190260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5000" y="1415880"/>
                      <a:ext cx="131040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4560" y="482400"/>
                      <a:ext cx="704520" cy="357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6360" y="385560"/>
                    <a:ext cx="1895760" cy="1797480"/>
                    <a:chOff x="5346360" y="385560"/>
                    <a:chExt cx="1895760" cy="179748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6280" y="1384560"/>
                      <a:ext cx="1427400" cy="33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2120"/>
                      <a:ext cx="767520" cy="522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680" y="290160"/>
                    <a:ext cx="420480" cy="1796760"/>
                    <a:chOff x="5458680" y="290160"/>
                    <a:chExt cx="420480" cy="17967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6160" y="1442880"/>
                      <a:ext cx="11793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35280" y="531720"/>
                      <a:ext cx="63180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1800" y="2530800"/>
                    <a:ext cx="2197800" cy="3003120"/>
                    <a:chOff x="3061800" y="2530800"/>
                    <a:chExt cx="2197800" cy="300312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1080" y="3314520"/>
                      <a:ext cx="21261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8640" y="4592880"/>
                      <a:ext cx="11386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89000" y="2647440"/>
                    <a:ext cx="1485360" cy="3005640"/>
                    <a:chOff x="3789000" y="2647440"/>
                    <a:chExt cx="1485360" cy="30056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800" y="3438360"/>
                      <a:ext cx="19688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560" y="4747320"/>
                      <a:ext cx="1054440" cy="605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3960" y="2698920"/>
                    <a:ext cx="870120" cy="2924640"/>
                    <a:chOff x="4503960" y="2698920"/>
                    <a:chExt cx="870120" cy="29246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76640" y="3485160"/>
                      <a:ext cx="1887840" cy="346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1760" y="4804200"/>
                      <a:ext cx="1011600" cy="54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4680" y="2482200"/>
                    <a:ext cx="2279880" cy="2957040"/>
                    <a:chOff x="5674680" y="2482200"/>
                    <a:chExt cx="2279880" cy="295704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1880" y="3250080"/>
                      <a:ext cx="212832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796080" y="4500000"/>
                      <a:ext cx="1141200" cy="60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3000" y="2596320"/>
                    <a:ext cx="1758960" cy="3031200"/>
                    <a:chOff x="5643000" y="2596320"/>
                    <a:chExt cx="1758960" cy="303120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0320" y="3398040"/>
                      <a:ext cx="2032200" cy="368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48600" y="4721400"/>
                      <a:ext cx="10893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4600" y="2709000"/>
                    <a:ext cx="1226520" cy="2989080"/>
                    <a:chOff x="5574600" y="2709000"/>
                    <a:chExt cx="1226520" cy="29890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5040" y="3541320"/>
                      <a:ext cx="19742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5560" y="4880880"/>
                      <a:ext cx="1061280" cy="476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0240" y="2840040"/>
                    <a:ext cx="697320" cy="2777760"/>
                    <a:chOff x="5520240" y="2840040"/>
                    <a:chExt cx="697320" cy="27777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4200" y="3608280"/>
                      <a:ext cx="1813680" cy="301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4680"/>
                      <a:ext cx="974520" cy="47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080" y="2888280"/>
                    <a:ext cx="666360" cy="2718000"/>
                    <a:chOff x="4960080" y="2888280"/>
                    <a:chExt cx="666360" cy="271800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480" y="3665160"/>
                      <a:ext cx="1771920" cy="231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3480" y="4932000"/>
                      <a:ext cx="95220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9320"/>
                <a:ext cx="6732720" cy="4524840"/>
                <a:chOff x="2174400" y="679320"/>
                <a:chExt cx="6732720" cy="45248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9320"/>
                  <a:ext cx="6732720" cy="4524840"/>
                  <a:chOff x="2174400" y="679320"/>
                  <a:chExt cx="6732720" cy="45248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3080" y="853920"/>
                    <a:ext cx="3164040" cy="2525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3200" y="2268720"/>
                    <a:ext cx="2483640" cy="29354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20480" y="1747800"/>
                    <a:ext cx="1757160" cy="29390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0560" cy="29354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79320"/>
                    <a:ext cx="2280960" cy="28454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4880"/>
                    <a:ext cx="940680" cy="284544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4160" y="832320"/>
                    <a:ext cx="516600" cy="1881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9000" y="2178360"/>
                  <a:ext cx="544680" cy="10339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29200" y="729720"/>
              <a:ext cx="6426360" cy="4703760"/>
              <a:chOff x="2329200" y="729720"/>
              <a:chExt cx="6426360" cy="47037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59680" y="3249000"/>
                <a:ext cx="599400" cy="18219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72480" y="2594880"/>
                <a:ext cx="2620800" cy="2838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33840" y="2137680"/>
                <a:ext cx="1537560" cy="2930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29200" y="1754640"/>
                <a:ext cx="2937600" cy="2930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1800" y="2166120"/>
                <a:ext cx="472320" cy="2930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4560" y="2152440"/>
                <a:ext cx="1243440" cy="2930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49520" y="3560760"/>
                <a:ext cx="599400" cy="18219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18560" y="2960640"/>
                <a:ext cx="5446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73000" y="3398400"/>
                <a:ext cx="1338840" cy="1877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05880" y="1414440"/>
                <a:ext cx="858960" cy="1877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0680" y="3122280"/>
                <a:ext cx="1244880" cy="1971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2680" y="2125440"/>
                <a:ext cx="1879200" cy="131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3240" y="729720"/>
                <a:ext cx="820800" cy="1766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73120" y="2169360"/>
                <a:ext cx="543960" cy="10310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8B6E-1298-496E-A125-C6EF1CADC6DC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c50"/>
                </a:solidFill>
                <a:latin typeface="Arial Black"/>
              </a:rPr>
              <a:t>Refle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 understood everything. </a:t>
            </a:r>
            <a:r>
              <a:rPr b="0" lang="en-US" sz="2400" spc="-1" strike="noStrike">
                <a:solidFill>
                  <a:srgbClr val="ffdc50"/>
                </a:solidFill>
                <a:latin typeface="Arial Black"/>
              </a:rPr>
              <a:t>(</a:t>
            </a:r>
            <a:r>
              <a:rPr b="0" lang="ru-RU" sz="2400" spc="-1" strike="noStrike">
                <a:solidFill>
                  <a:srgbClr val="ffdc50"/>
                </a:solidFill>
                <a:latin typeface="Arial Black"/>
              </a:rPr>
              <a:t>Я понял все</a:t>
            </a:r>
            <a:r>
              <a:rPr b="0" lang="en-US" sz="2400" spc="-1" strike="noStrike">
                <a:solidFill>
                  <a:srgbClr val="ffdc50"/>
                </a:solidFill>
                <a:latin typeface="Arial Black"/>
              </a:rPr>
              <a:t>.)</a:t>
            </a:r>
            <a:r>
              <a:rPr b="0" lang="ru-RU" sz="2400" spc="-1" strike="noStrike">
                <a:solidFill>
                  <a:srgbClr val="ffdc5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t was difficult for me to speak English. </a:t>
            </a:r>
            <a:r>
              <a:rPr b="0" lang="ru-RU" sz="2400" spc="-1" strike="noStrike">
                <a:solidFill>
                  <a:srgbClr val="ffdc50"/>
                </a:solidFill>
                <a:latin typeface="Arial Black"/>
              </a:rPr>
              <a:t>(Мне было трудно говорить по-английски.)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 am satisfied with my work. </a:t>
            </a:r>
            <a:r>
              <a:rPr b="0" lang="en-US" sz="2400" spc="-1" strike="noStrike">
                <a:solidFill>
                  <a:srgbClr val="ffdc50"/>
                </a:solidFill>
                <a:latin typeface="Arial Black"/>
              </a:rPr>
              <a:t>(</a:t>
            </a:r>
            <a:r>
              <a:rPr b="0" lang="ru-RU" sz="2400" spc="-1" strike="noStrike">
                <a:solidFill>
                  <a:srgbClr val="ffdc50"/>
                </a:solidFill>
                <a:latin typeface="Arial Black"/>
              </a:rPr>
              <a:t>Я доволен своей работой</a:t>
            </a:r>
            <a:r>
              <a:rPr b="0" lang="en-US" sz="2400" spc="-1" strike="noStrike">
                <a:solidFill>
                  <a:srgbClr val="ffdc50"/>
                </a:solidFill>
                <a:latin typeface="Arial Black"/>
              </a:rPr>
              <a:t>.)</a:t>
            </a:r>
            <a:r>
              <a:rPr b="0" lang="ru-RU" sz="2400" spc="-1" strike="noStrike">
                <a:solidFill>
                  <a:srgbClr val="ffdc5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 Black"/>
              </a:rPr>
              <a:t>I liked the presentations. </a:t>
            </a:r>
            <a:r>
              <a:rPr b="0" lang="ru-RU" sz="2400" spc="-1" strike="noStrike">
                <a:solidFill>
                  <a:srgbClr val="ffdc50"/>
                </a:solidFill>
                <a:latin typeface="Arial Black"/>
              </a:rPr>
              <a:t>(Мне понравились презентации.)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 learnt something new at the lesson. </a:t>
            </a:r>
            <a:r>
              <a:rPr b="0" lang="ru-RU" sz="2400" spc="-1" strike="noStrike">
                <a:solidFill>
                  <a:srgbClr val="ffdc50"/>
                </a:solidFill>
                <a:latin typeface="Arial Black"/>
              </a:rPr>
              <a:t>(Я узнал что-то новое на уроке.)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Enigma - SHADOWS IN SILENCE  (audiopoisk.com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3-03-20T18:58:5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