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C9C8-EAB7-4790-92CA-B8996091B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6A15-7A60-4DB5-A550-9463AED44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F436-B0FF-410A-B5C5-5988C409D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49A0-8410-4CB3-8738-A10A0B71F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F4E77-0C28-4F20-9810-73B3548A8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A76F4-77C1-4E8E-BBF0-648A4371E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D87DA-DD59-4CF0-8E34-EEC980A2B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5EC81-6F1B-4936-A93D-DE470263F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BAACF-617E-46DC-B489-0A2B2B06F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7E865-59C0-4A96-82F3-7E22BAEA1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A59D9-72D9-4E19-BA21-BF6DB9BB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D2F1-12AF-4941-9457-7C08116F1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B5846-42C7-4E12-9F41-5E09648C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69901-9EC6-47C5-ABC4-C33E9AD4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E11D8-72D8-4E0C-BF4E-EA84FE0A8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2C0BF-602C-4143-92C1-6613FF240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6616C-555A-4C87-8D1D-DAE56245D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E98A-C926-4A03-AF74-184372AAC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9D6B-1028-471F-A276-9444ED10B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2020-C319-4529-BD3D-E2561FA5E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DD49-DE69-4877-8DB7-9CC8ECE40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0648-B2D6-42FD-8C73-D320CD8A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8236-F5A8-4A06-B21D-6C0BB4B1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5458-2944-43BF-9D66-C46BBF68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4080" y="-21600"/>
            <a:ext cx="2869560" cy="3275640"/>
            <a:chOff x="6274080" y="-21600"/>
            <a:chExt cx="286956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4080" y="-21600"/>
              <a:ext cx="2869560" cy="2269080"/>
              <a:chOff x="6274080" y="-21600"/>
              <a:chExt cx="286956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4080" y="-21600"/>
                <a:ext cx="2866320" cy="2269080"/>
                <a:chOff x="6274080" y="-21600"/>
                <a:chExt cx="286632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320" y="842760"/>
                  <a:ext cx="1064160" cy="1140840"/>
                  <a:chOff x="7834320" y="842760"/>
                  <a:chExt cx="1064160" cy="114084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560"/>
                    <a:ext cx="88488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6360" y="1602720"/>
                    <a:ext cx="47304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6840" y="695880"/>
                  <a:ext cx="1303560" cy="669240"/>
                  <a:chOff x="783684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4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51880" y="1033920"/>
                    <a:ext cx="458280" cy="266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280" cy="417240"/>
                  <a:chOff x="7852680" y="657720"/>
                  <a:chExt cx="1223280" cy="41724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000" cy="164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7400"/>
                    <a:ext cx="425160" cy="25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52680"/>
                    <a:ext cx="720360" cy="107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840" y="419400"/>
                  <a:ext cx="983520" cy="327240"/>
                  <a:chOff x="7845840" y="419400"/>
                  <a:chExt cx="983520" cy="32724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7360"/>
                    <a:ext cx="635040" cy="106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320" y="456120"/>
                    <a:ext cx="34020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9040" y="905040"/>
                  <a:ext cx="1060920" cy="1141920"/>
                  <a:chOff x="6539040" y="905040"/>
                  <a:chExt cx="1060920" cy="114192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3200" y="1193040"/>
                    <a:ext cx="87912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8120" y="1665720"/>
                    <a:ext cx="47196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840"/>
                  <a:ext cx="1266120" cy="1051920"/>
                  <a:chOff x="6303960" y="861840"/>
                  <a:chExt cx="1266120" cy="105192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4400" y="1112400"/>
                    <a:ext cx="92880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880" y="1515600"/>
                    <a:ext cx="49932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7040" y="827280"/>
                  <a:ext cx="1287720" cy="828360"/>
                  <a:chOff x="6287040" y="827280"/>
                  <a:chExt cx="1287720" cy="82836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6000" y="1016640"/>
                    <a:ext cx="890280" cy="157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5480" y="1321920"/>
                    <a:ext cx="477360" cy="239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4080" y="787320"/>
                  <a:ext cx="1302840" cy="668520"/>
                  <a:chOff x="6274080" y="787320"/>
                  <a:chExt cx="130284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68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600" y="1123560"/>
                    <a:ext cx="461520" cy="267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880" y="801720"/>
                    <a:ext cx="792000" cy="156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92440"/>
                    <a:ext cx="425160" cy="245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42680"/>
                    <a:ext cx="720360" cy="108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120" y="-21600"/>
                  <a:ext cx="465480" cy="808920"/>
                  <a:chOff x="7287120" y="-21600"/>
                  <a:chExt cx="465480" cy="80892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840" y="460440"/>
                    <a:ext cx="54108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3440" y="60120"/>
                    <a:ext cx="29448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3600"/>
                  <a:ext cx="964440" cy="461160"/>
                  <a:chOff x="7792920" y="273600"/>
                  <a:chExt cx="964440" cy="4611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403480" y="329760"/>
                    <a:ext cx="33336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7160"/>
                  <a:ext cx="916200" cy="604440"/>
                  <a:chOff x="7737840" y="137160"/>
                  <a:chExt cx="916200" cy="60444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520"/>
                    <a:ext cx="63504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7640" y="212760"/>
                    <a:ext cx="33588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6200" y="-10800"/>
                  <a:ext cx="497160" cy="789840"/>
                  <a:chOff x="7666200" y="-10800"/>
                  <a:chExt cx="497160" cy="78984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5320" y="466560"/>
                    <a:ext cx="542520" cy="95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880" y="79200"/>
                    <a:ext cx="293040" cy="147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0400" y="930240"/>
                  <a:ext cx="914760" cy="1248120"/>
                  <a:chOff x="6710400" y="930240"/>
                  <a:chExt cx="914760" cy="124812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5840" y="1258200"/>
                    <a:ext cx="889560" cy="16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2560" y="1785960"/>
                    <a:ext cx="477360" cy="25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5320" y="979200"/>
                  <a:ext cx="616320" cy="1248480"/>
                  <a:chOff x="7015320" y="979200"/>
                  <a:chExt cx="61632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89040" y="1310040"/>
                    <a:ext cx="82332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5880" y="1852200"/>
                    <a:ext cx="43632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520"/>
                  <a:chOff x="7786800" y="956160"/>
                  <a:chExt cx="732600" cy="126252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40680"/>
                    <a:ext cx="45432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10120" cy="1242360"/>
                  <a:chOff x="7757280" y="1005120"/>
                  <a:chExt cx="51012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600" y="1351440"/>
                    <a:ext cx="820800" cy="125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3280" y="1908000"/>
                    <a:ext cx="43956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4320" y="1376640"/>
                    <a:ext cx="75240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2840" y="1899360"/>
                    <a:ext cx="407160" cy="197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600" y="1077840"/>
                  <a:ext cx="276480" cy="1131480"/>
                  <a:chOff x="7500600" y="1077840"/>
                  <a:chExt cx="27648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0960" y="1402560"/>
                    <a:ext cx="740160" cy="95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000" y="1928520"/>
                    <a:ext cx="396360" cy="151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AC6BE-20FD-4902-94E4-1B431FEAA9A0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1320" y="245520"/>
            <a:ext cx="6895800" cy="5452560"/>
            <a:chOff x="2011320" y="245520"/>
            <a:chExt cx="6895800" cy="5452560"/>
          </a:xfrm>
        </p:grpSpPr>
        <p:grpSp>
          <p:nvGrpSpPr>
            <p:cNvPr id="177" name="Group 3"/>
            <p:cNvGrpSpPr/>
            <p:nvPr/>
          </p:nvGrpSpPr>
          <p:grpSpPr>
            <a:xfrm>
              <a:off x="3471480" y="955080"/>
              <a:ext cx="947880" cy="708840"/>
              <a:chOff x="3471480" y="955080"/>
              <a:chExt cx="947880" cy="70884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71480" y="955080"/>
                <a:ext cx="947880" cy="708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12040" y="1266480"/>
                <a:ext cx="230760" cy="1314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1320" y="245520"/>
              <a:ext cx="6895800" cy="5452560"/>
              <a:chOff x="2011320" y="245520"/>
              <a:chExt cx="6895800" cy="545256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1320" y="245520"/>
                <a:ext cx="6887880" cy="5452560"/>
                <a:chOff x="2011320" y="245520"/>
                <a:chExt cx="6887880" cy="545256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3920" y="1267920"/>
                  <a:ext cx="3598200" cy="2651760"/>
                  <a:chOff x="3733920" y="1267920"/>
                  <a:chExt cx="3598200" cy="265176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3920" y="1267920"/>
                    <a:ext cx="3598200" cy="2651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840" y="2236320"/>
                    <a:ext cx="712800" cy="503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1320" y="245520"/>
                  <a:ext cx="6887880" cy="5452560"/>
                  <a:chOff x="2011320" y="245520"/>
                  <a:chExt cx="6887880" cy="545256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1080" y="2319840"/>
                    <a:ext cx="2553480" cy="2746800"/>
                    <a:chOff x="5761080" y="2319840"/>
                    <a:chExt cx="2553480" cy="274680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3600" y="301680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29080" y="4146480"/>
                      <a:ext cx="1138680" cy="605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5560" y="2148840"/>
                    <a:ext cx="3039840" cy="2526840"/>
                    <a:chOff x="5785560" y="2148840"/>
                    <a:chExt cx="3039840" cy="252684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5280" y="2752200"/>
                      <a:ext cx="2235600" cy="426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0200" y="3720600"/>
                      <a:ext cx="1200960" cy="671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4240"/>
                    <a:ext cx="3096000" cy="1994040"/>
                    <a:chOff x="5776200" y="2064240"/>
                    <a:chExt cx="3096000" cy="199404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400" y="2520360"/>
                      <a:ext cx="2141640" cy="373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0000" y="3245400"/>
                      <a:ext cx="115164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7560" y="1970280"/>
                    <a:ext cx="3131640" cy="1606320"/>
                    <a:chOff x="5767560" y="1970280"/>
                    <a:chExt cx="3131640" cy="16063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0520" y="2279880"/>
                      <a:ext cx="2070000" cy="411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6240" y="2772000"/>
                      <a:ext cx="1109520" cy="649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7160" y="1878480"/>
                    <a:ext cx="2937600" cy="1003320"/>
                    <a:chOff x="5807160" y="1878480"/>
                    <a:chExt cx="2937600" cy="100332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4440" y="2004480"/>
                      <a:ext cx="1904760" cy="38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3120" y="2212560"/>
                      <a:ext cx="102564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080" y="1815480"/>
                    <a:ext cx="2659680" cy="443880"/>
                    <a:chOff x="5851080" y="1815480"/>
                    <a:chExt cx="2659680" cy="44388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3960" y="1850040"/>
                      <a:ext cx="1732320" cy="270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840" y="1827000"/>
                      <a:ext cx="929520" cy="420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080" y="1306440"/>
                    <a:ext cx="2362680" cy="785160"/>
                    <a:chOff x="5788080" y="1306440"/>
                    <a:chExt cx="2362680" cy="78516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7800" y="1653840"/>
                      <a:ext cx="152028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8280" y="1395000"/>
                      <a:ext cx="815040" cy="415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8160" y="2472840"/>
                    <a:ext cx="2552760" cy="2743560"/>
                    <a:chOff x="2648160" y="2472840"/>
                    <a:chExt cx="2552760" cy="274356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1520" y="3169800"/>
                      <a:ext cx="212580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3520" y="4296240"/>
                      <a:ext cx="114120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6200" y="2365200"/>
                    <a:ext cx="3038760" cy="2535840"/>
                    <a:chOff x="2086200" y="2365200"/>
                    <a:chExt cx="3038760" cy="253584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3520" y="2969280"/>
                      <a:ext cx="2240280" cy="430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70440" y="3941640"/>
                      <a:ext cx="1203120" cy="674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480" y="2283480"/>
                    <a:ext cx="3092760" cy="1989720"/>
                    <a:chOff x="2040480" y="2283480"/>
                    <a:chExt cx="3092760" cy="198972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4000" y="2738520"/>
                      <a:ext cx="2136960" cy="373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0320" y="3462840"/>
                      <a:ext cx="1147680" cy="585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1320" y="2189160"/>
                    <a:ext cx="3130920" cy="1606680"/>
                    <a:chOff x="2011320" y="2189160"/>
                    <a:chExt cx="3130920" cy="160668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2160" y="2498040"/>
                      <a:ext cx="2066400" cy="411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400" y="2991240"/>
                      <a:ext cx="1109520" cy="648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7920" y="2098080"/>
                    <a:ext cx="2939400" cy="1001520"/>
                    <a:chOff x="2167920" y="2098080"/>
                    <a:chExt cx="2939400" cy="100152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2400" y="2224080"/>
                      <a:ext cx="1907280" cy="386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3560" y="2430000"/>
                      <a:ext cx="102564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1480"/>
                    <a:ext cx="2656800" cy="448560"/>
                    <a:chOff x="2403720" y="2031480"/>
                    <a:chExt cx="2656800" cy="44856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6040" y="2067120"/>
                      <a:ext cx="1731240" cy="269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2640"/>
                      <a:ext cx="929520" cy="425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56880" y="1522440"/>
                    <a:ext cx="2366280" cy="786240"/>
                    <a:chOff x="2756880" y="1522440"/>
                    <a:chExt cx="2366280" cy="78624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2080" y="1870920"/>
                      <a:ext cx="152028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3960" y="1611000"/>
                      <a:ext cx="815040" cy="419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7680"/>
                    <a:ext cx="2324880" cy="1082880"/>
                    <a:chOff x="2887200" y="1237680"/>
                    <a:chExt cx="2324880" cy="108288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400" y="178812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000" y="1371240"/>
                      <a:ext cx="815040" cy="414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58280" y="829080"/>
                    <a:ext cx="2172960" cy="1508760"/>
                    <a:chOff x="3158280" y="829080"/>
                    <a:chExt cx="2172960" cy="150876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220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4720" y="1020600"/>
                      <a:ext cx="815040" cy="415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5120" y="435960"/>
                    <a:ext cx="1989720" cy="1831320"/>
                    <a:chOff x="3435120" y="435960"/>
                    <a:chExt cx="198972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48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3200" y="665280"/>
                      <a:ext cx="827280" cy="419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600" y="330480"/>
                    <a:ext cx="1459080" cy="1891800"/>
                    <a:chOff x="4026600" y="330480"/>
                    <a:chExt cx="1459080" cy="189180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3680" y="1444320"/>
                      <a:ext cx="13572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1640" y="541800"/>
                      <a:ext cx="73008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5640" y="245520"/>
                    <a:ext cx="1125000" cy="1948320"/>
                    <a:chOff x="4445640" y="245520"/>
                    <a:chExt cx="1125000" cy="19483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4720" y="1402560"/>
                      <a:ext cx="131004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4320" y="441000"/>
                      <a:ext cx="70344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2800" y="949680"/>
                    <a:ext cx="2316240" cy="1112040"/>
                    <a:chOff x="5662800" y="949680"/>
                    <a:chExt cx="231624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6680" y="152028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680" y="1087560"/>
                      <a:ext cx="815040" cy="419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240" y="623160"/>
                    <a:ext cx="2197440" cy="1452600"/>
                    <a:chOff x="5529240" y="623160"/>
                    <a:chExt cx="2197440" cy="145260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520" y="14277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040" y="807120"/>
                      <a:ext cx="81468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5680" y="1465920"/>
                    <a:ext cx="1263240" cy="176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0160" y="535680"/>
                    <a:ext cx="680760" cy="280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3920" y="266400"/>
                    <a:ext cx="1196640" cy="1902600"/>
                    <a:chOff x="5353920" y="266400"/>
                    <a:chExt cx="1196640" cy="190260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5000" y="1415880"/>
                      <a:ext cx="131040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4560" y="482400"/>
                      <a:ext cx="704520" cy="357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6360" y="385560"/>
                    <a:ext cx="1895760" cy="1797480"/>
                    <a:chOff x="5346360" y="385560"/>
                    <a:chExt cx="1895760" cy="179748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6280" y="1384560"/>
                      <a:ext cx="1427400" cy="33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2120"/>
                      <a:ext cx="767520" cy="522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680" y="290160"/>
                    <a:ext cx="420480" cy="1796760"/>
                    <a:chOff x="5458680" y="290160"/>
                    <a:chExt cx="420480" cy="179676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6160" y="1442880"/>
                      <a:ext cx="117936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35280" y="531720"/>
                      <a:ext cx="631800" cy="165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1800" y="2530800"/>
                    <a:ext cx="2197800" cy="3003120"/>
                    <a:chOff x="3061800" y="2530800"/>
                    <a:chExt cx="2197800" cy="300312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1080" y="3314520"/>
                      <a:ext cx="212616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8640" y="4592880"/>
                      <a:ext cx="11386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89000" y="2647440"/>
                    <a:ext cx="1485360" cy="3005640"/>
                    <a:chOff x="3789000" y="2647440"/>
                    <a:chExt cx="1485360" cy="30056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6800" y="3438360"/>
                      <a:ext cx="19688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2560" y="4747320"/>
                      <a:ext cx="1054440" cy="605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3960" y="2698920"/>
                    <a:ext cx="870120" cy="2924640"/>
                    <a:chOff x="4503960" y="2698920"/>
                    <a:chExt cx="870120" cy="292464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76640" y="3485160"/>
                      <a:ext cx="1887840" cy="346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1760" y="4804200"/>
                      <a:ext cx="1011600" cy="541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4680" y="2482200"/>
                    <a:ext cx="2279880" cy="2957040"/>
                    <a:chOff x="5674680" y="2482200"/>
                    <a:chExt cx="2279880" cy="295704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1880" y="3250080"/>
                      <a:ext cx="212832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796080" y="4500000"/>
                      <a:ext cx="1141200" cy="605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3000" y="2596320"/>
                    <a:ext cx="1758960" cy="3031200"/>
                    <a:chOff x="5643000" y="2596320"/>
                    <a:chExt cx="1758960" cy="303120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0320" y="3398040"/>
                      <a:ext cx="2032200" cy="368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48600" y="4721400"/>
                      <a:ext cx="1089360" cy="578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4600" y="2709000"/>
                    <a:ext cx="1226520" cy="2989080"/>
                    <a:chOff x="5574600" y="2709000"/>
                    <a:chExt cx="1226520" cy="298908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5040" y="3541320"/>
                      <a:ext cx="197424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5560" y="4880880"/>
                      <a:ext cx="1061280" cy="476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0240" y="2840040"/>
                    <a:ext cx="697320" cy="2777760"/>
                    <a:chOff x="5520240" y="2840040"/>
                    <a:chExt cx="697320" cy="277776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4200" y="3608280"/>
                      <a:ext cx="1813680" cy="301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4840" y="4864680"/>
                      <a:ext cx="974520" cy="473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080" y="2888280"/>
                    <a:ext cx="666360" cy="2718000"/>
                    <a:chOff x="4960080" y="2888280"/>
                    <a:chExt cx="666360" cy="271800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3480" y="3665160"/>
                      <a:ext cx="1771920" cy="231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3480" y="4932000"/>
                      <a:ext cx="952200" cy="363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4400" y="679320"/>
                <a:ext cx="6732720" cy="4524840"/>
                <a:chOff x="2174400" y="679320"/>
                <a:chExt cx="6732720" cy="45248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4400" y="679320"/>
                  <a:ext cx="6732720" cy="4524840"/>
                  <a:chOff x="2174400" y="679320"/>
                  <a:chExt cx="6732720" cy="45248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3080" y="853920"/>
                    <a:ext cx="3164040" cy="25257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3200" y="2268720"/>
                    <a:ext cx="2483640" cy="293544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20480" y="1747800"/>
                    <a:ext cx="1757160" cy="293904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400" y="1296000"/>
                    <a:ext cx="3130560" cy="293544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79320"/>
                    <a:ext cx="2280960" cy="284544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440" y="1874880"/>
                    <a:ext cx="940680" cy="284544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4160" y="832320"/>
                    <a:ext cx="516600" cy="188136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9000" y="2178360"/>
                  <a:ext cx="544680" cy="103392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29200" y="729720"/>
              <a:ext cx="6426360" cy="4703760"/>
              <a:chOff x="2329200" y="729720"/>
              <a:chExt cx="6426360" cy="470376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59680" y="3249000"/>
                <a:ext cx="599400" cy="18219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72480" y="2594880"/>
                <a:ext cx="2620800" cy="28386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33840" y="2137680"/>
                <a:ext cx="1537560" cy="2930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29200" y="1754640"/>
                <a:ext cx="2937600" cy="29307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1800" y="2166120"/>
                <a:ext cx="472320" cy="2930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4560" y="2152440"/>
                <a:ext cx="1243440" cy="29307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49520" y="3560760"/>
                <a:ext cx="599400" cy="18219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18560" y="2960640"/>
                <a:ext cx="544680" cy="10324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73000" y="3398400"/>
                <a:ext cx="1338840" cy="18774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05880" y="1414440"/>
                <a:ext cx="858960" cy="18774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0680" y="3122280"/>
                <a:ext cx="1244880" cy="1971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2680" y="2125440"/>
                <a:ext cx="1879200" cy="13143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3240" y="729720"/>
                <a:ext cx="820800" cy="17665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73120" y="2169360"/>
                <a:ext cx="543960" cy="103104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2E760-B19A-4677-A8C9-CC9404BEFB13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c50"/>
                </a:solidFill>
                <a:latin typeface="Arial Black"/>
              </a:rPr>
              <a:t>Reflec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 understood everything. </a:t>
            </a:r>
            <a:r>
              <a:rPr b="0" lang="en-US" sz="2400" spc="-1" strike="noStrike">
                <a:solidFill>
                  <a:srgbClr val="ffdc50"/>
                </a:solidFill>
                <a:latin typeface="Arial Black"/>
              </a:rPr>
              <a:t>(</a:t>
            </a:r>
            <a:r>
              <a:rPr b="0" lang="ru-RU" sz="2400" spc="-1" strike="noStrike">
                <a:solidFill>
                  <a:srgbClr val="ffdc50"/>
                </a:solidFill>
                <a:latin typeface="Arial Black"/>
              </a:rPr>
              <a:t>Я понял все</a:t>
            </a:r>
            <a:r>
              <a:rPr b="0" lang="en-US" sz="2400" spc="-1" strike="noStrike">
                <a:solidFill>
                  <a:srgbClr val="ffdc50"/>
                </a:solidFill>
                <a:latin typeface="Arial Black"/>
              </a:rPr>
              <a:t>.)</a:t>
            </a:r>
            <a:r>
              <a:rPr b="0" lang="ru-RU" sz="2400" spc="-1" strike="noStrike">
                <a:solidFill>
                  <a:srgbClr val="ffdc5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t was difficult for me to speak English. </a:t>
            </a:r>
            <a:r>
              <a:rPr b="0" lang="ru-RU" sz="2400" spc="-1" strike="noStrike">
                <a:solidFill>
                  <a:srgbClr val="ffdc50"/>
                </a:solidFill>
                <a:latin typeface="Arial Black"/>
              </a:rPr>
              <a:t>(Мне было трудно говорить по-английски.)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 am satisfied with my work. </a:t>
            </a:r>
            <a:r>
              <a:rPr b="0" lang="en-US" sz="2400" spc="-1" strike="noStrike">
                <a:solidFill>
                  <a:srgbClr val="ffdc50"/>
                </a:solidFill>
                <a:latin typeface="Arial Black"/>
              </a:rPr>
              <a:t>(</a:t>
            </a:r>
            <a:r>
              <a:rPr b="0" lang="ru-RU" sz="2400" spc="-1" strike="noStrike">
                <a:solidFill>
                  <a:srgbClr val="ffdc50"/>
                </a:solidFill>
                <a:latin typeface="Arial Black"/>
              </a:rPr>
              <a:t>Я доволен своей работой</a:t>
            </a:r>
            <a:r>
              <a:rPr b="0" lang="en-US" sz="2400" spc="-1" strike="noStrike">
                <a:solidFill>
                  <a:srgbClr val="ffdc50"/>
                </a:solidFill>
                <a:latin typeface="Arial Black"/>
              </a:rPr>
              <a:t>.)</a:t>
            </a:r>
            <a:r>
              <a:rPr b="0" lang="ru-RU" sz="2400" spc="-1" strike="noStrike">
                <a:solidFill>
                  <a:srgbClr val="ffdc5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Arial Black"/>
              </a:rPr>
              <a:t>I liked the presentations. </a:t>
            </a:r>
            <a:r>
              <a:rPr b="0" lang="ru-RU" sz="2400" spc="-1" strike="noStrike">
                <a:solidFill>
                  <a:srgbClr val="ffdc50"/>
                </a:solidFill>
                <a:latin typeface="Arial Black"/>
              </a:rPr>
              <a:t>(Мне понравились презентации.)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 learnt something new at the lesson. </a:t>
            </a:r>
            <a:r>
              <a:rPr b="0" lang="ru-RU" sz="2400" spc="-1" strike="noStrike">
                <a:solidFill>
                  <a:srgbClr val="ffdc50"/>
                </a:solidFill>
                <a:latin typeface="Arial Black"/>
              </a:rPr>
              <a:t>(Я узнал что-то новое на уроке.)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2" name="Enigma - SHADOWS IN SILENCE  (audiopoisk.com)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</cp:lastModifiedBy>
  <dcterms:modified xsi:type="dcterms:W3CDTF">2013-03-20T18:58:54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