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9FC-AAF0-440E-AD06-1376F8D8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001-798F-4627-92AB-C14ED322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09B-39A1-4C8F-86F8-7C41B05B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6CB-0FF5-48B7-A287-25290BD6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140B-E2A8-480F-90CE-BC572043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8B89-8AB7-4A63-894D-C1DF310B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4642-FD86-478E-9C4B-DE5FFC79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2677-B159-4A9B-93F4-50D6FEB1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3F1A-F607-4B59-8DE3-160619B8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C73D-13E7-4333-808E-8E0A97AC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43DA-1E88-410F-B433-BB87B171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2FC-E681-4469-9261-35588D4D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079B-C96F-4C87-B4DF-DB2BA2E4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1938-6C32-4FD9-83ED-1AAC4F81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7366-2379-42A4-8A48-33151B62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D4F9-33BB-430F-BD1F-E4D64343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9F27-1732-4311-B140-17B35DAD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2344-EE51-4024-957F-F975FCA0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DAA5-5BD6-4C87-8CE3-8F99FAA9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24AE8-1487-4DCA-B22F-C5BF0B49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898B3-F97E-4925-B2CF-FB06887D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49D36-5F8E-4267-80D9-320547DA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496-78B4-43B9-951D-C9BE885D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950A-D65A-448C-BA85-7753E395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50E6F-1B42-41AF-9561-1B08E9E0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8D9D-2C2E-428E-B409-5A422C8B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07FF3-B357-47B0-B0A0-9F23381C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FBC3C-5497-4194-9DB9-51204BBC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0B2CD-4847-4313-BBDB-37C19044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BFFC-65F8-41F7-90CE-072EC966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183C9-F0F7-4161-B7C3-EE8483DF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E6EDB-0169-428D-8B4D-854F2042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B3D03-7888-4530-9DB9-FE4A7423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BF1-148D-4200-B99D-07376278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491B-2016-4D0C-AB1E-68EB4C43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1BA33-8C31-436E-A86A-EA728989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AD75F-941E-409C-A49B-6A2EA4E6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EC317-2F0B-4FF1-A008-2DF7830E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5FFB7-1F9C-4174-8A1E-ECA72350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9935A-7DD8-4AC8-8D4F-E6AABF0F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2B420-1731-4C99-932E-38440BF2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5456C-C327-4863-ABEC-B822440C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AC0A9-3420-4E32-BD91-97D9BF1C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140F5-343A-48A0-9DBC-95574147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273-147D-4DB8-A962-7AE1E3FC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6ECD7-A757-45CC-AA76-B3799890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F612E-0D3A-4F45-9575-4789D370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945E2-AD55-4FE8-BFCC-9C18DC2C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DE4C4-696B-4556-BCE0-F4393FE0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6704B-1A3F-43E7-9B5F-88912F41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C67D0-E8C6-4EC0-BEEA-7111D0FD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D3F20-0203-4B88-B8B0-1B06EDF7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56952-DCFD-4E74-A9A4-50D36750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B17F5-0BE2-483F-8A7C-250402D0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842EA-3151-4F2C-A92D-BE6E266E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BA5-B191-446F-B8F3-0081E22E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1438B-1366-4034-B5F4-768C7D1E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CCFA9-C7E7-483B-BFFD-C8A42C65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8F174-6A60-48C5-BB2D-C5C7727D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1885A-A481-43E4-AF2A-EAE56265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8F6DE-5EC7-4ABE-A4CF-8FF48F9A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9E557-4C90-475D-BA4D-C5195205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9146F-0930-40D9-B4C3-F6741F0A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1DF45-1EF2-4E0C-B655-67A7B479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F477B-AEFF-4364-9E53-5794BB82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6C82E-938B-4F5C-82DD-8F281352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0C6-527B-49EA-8CE7-09684EE9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9A1E3-4A3F-4A4F-9E27-1F738ECE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CF4B0-2AF2-45F7-A7DC-ED15C809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88235-E42C-41C1-91A3-4892E670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BBA3E-63F9-41BA-9667-059774D8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25605-32FE-4D7D-BA0F-01C3C8A7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2335C-FC31-4290-B586-D64A0D32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FEE0F-A496-41E4-996F-BF234C03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840A5-0297-44D5-BB97-018B1767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2ECA5-65FA-41EC-B4DD-5C7AEE84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78584-2F5C-4509-BA4C-35FD5FAF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718-1C9B-4491-8272-A9A9DCF3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33003-B570-4032-90DF-E72CFDEC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F6DBA-EC4B-498D-B7AB-0D055B26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3065E-6286-463F-9F93-CFD0E979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2DC18-5AC6-4498-9A0D-CFBC320F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E2704-807E-457F-B58E-AB5EB3DD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4E61-AD89-4E1E-84C8-48F6AC59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7A48-8904-401D-A0AE-3EEEEAB7535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DE51-C37A-4FBC-8451-750764E4212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9517-609A-42E7-B74C-86C6E25E5D7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37BB-E1E0-4C2E-8C07-E35781169C8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C91B-63AC-4616-A3ED-D38BD13A2A3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82BE-309D-4BF9-BD19-ABE9AF9F291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F92B-F64C-4E2D-96FB-327A8273E84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одительское собрание в 3 «А» классе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тств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Важнейший период человеческой жизни, не подготовка к будущей жизни, а настоящая, яркая, самобытная, неповторимая жизнь…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нципы воспитания ребенка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Гуманистический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Личностный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Деятельностный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Диалогический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5" name="Содержимое 3" descr="! класс 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ринципы работы с семьей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беспечение субъектной позиции всех участников процесс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рганизация совместного творчества учителя, ученика и родителей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Гуманистическая ориентация во взаимодействии с семьей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2852640"/>
            <a:ext cx="781524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ru-RU" sz="2500" spc="-1" strike="noStrike">
                <a:solidFill>
                  <a:srgbClr val="c1eeff"/>
                </a:solidFill>
                <a:latin typeface="Consolas"/>
              </a:rPr>
              <a:t>«На родителях, на одних родителях лежит священная обязанность сделать своих детей человеками, обязанность же учебных заведений – сделать их учеными, гражданами, членами государства на всех его ступенях.  Но кто не сделался человеком, тот плохой гражданин. Так давайте же вместе будем делать наших детей человеками. Хорошие дети – хорошая наша старость, плохие дети – плохая старость. Так думайте о будущем, а будущее – это наши дети»</a:t>
            </a:r>
            <a:br>
              <a:rPr sz="2500"/>
            </a:br>
            <a:r>
              <a:rPr b="0" lang="ru-RU" sz="2500" spc="-1" strike="noStrike">
                <a:solidFill>
                  <a:srgbClr val="c1eeff"/>
                </a:solidFill>
                <a:latin typeface="Consolas"/>
              </a:rPr>
              <a:t>                                              </a:t>
            </a:r>
            <a:r>
              <a:rPr b="0" i="1" lang="ru-RU" sz="2500" spc="-1" strike="noStrike">
                <a:solidFill>
                  <a:srgbClr val="c1eeff"/>
                </a:solidFill>
                <a:latin typeface="Consolas"/>
              </a:rPr>
              <a:t>В.Г. Белинский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Rockwell"/>
              </a:rPr>
              <a:t>Союз семьи и школы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1700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емья и школа – естественные союзники, две могучие  силы воспитания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бъединить их –  значит  во многом решить проблему  воспитания  подрастающего поколения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99640" y="2349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Consolas"/>
              </a:rPr>
              <a:t>Спасибо за внимание!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400"/>
                            </p:stCondLst>
                            <p:childTnLst>
                              <p:par>
                                <p:cTn id="21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7:36:44Z</dcterms:created>
  <dc:creator>Server</dc:creator>
  <dc:description/>
  <dc:language>en-US</dc:language>
  <cp:lastModifiedBy>Администратор</cp:lastModifiedBy>
  <dcterms:modified xsi:type="dcterms:W3CDTF">2013-03-22T11:14:39Z</dcterms:modified>
  <cp:revision>62</cp:revision>
  <dc:subject/>
  <dc:title>Слайд 1</dc:title>
</cp:coreProperties>
</file>