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249-05B2-49EF-AC37-6B7BA7EC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39B-DD0C-45F2-8EEB-590E4AEB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768-5726-4730-BD18-541D7B24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3C5-DE75-4961-AFBC-69C7AB93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1315-72B6-4656-8BD5-49342EF2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4EAE-9D81-4F23-A8AA-63A9DF01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ECFF-275A-489A-B650-8018D2C9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6877-B557-4AE9-ADEC-38AF94C7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6B56-4B89-4EF0-9504-9583FC29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2D51-7742-41A1-9411-EA821B46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2B20-B4D6-4C20-9C8D-9A73D0B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C0C-716F-408A-9F8A-3AA184F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BC93-EE64-443B-A7FD-394EA025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F892-AEBB-445B-82E4-ECDD97E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D41-A3E8-417D-9E18-F75BCA82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66F6-F4E1-4FBD-BE70-772236CC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5EDF-AC82-4E51-8988-2255FDA7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DDF6-CE79-4BA5-9ECA-1B336E33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18FC-9AB2-412F-9A18-056D0412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DC92-7826-44DA-835D-5CCCFC4C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32CE-A628-4188-8D3A-BED56158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1091-3635-4D48-B69A-E46A2FC1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945-CE3E-442A-9168-6BF00E47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B410-E6A5-45DA-8428-3FA61099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80DB-7A30-4BD5-BC81-78A6D3D6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ED0FE-0808-4193-8F70-2A609B7D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2B37-2B85-4016-970E-AC15418D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9794-B229-4A9D-BCF3-4EFCB405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2725-7DF7-46D2-8E7A-6AF90A15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6129-DFCF-4E1D-BFF2-5FCB3D2C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A4222-8A25-4973-B70C-4A678DCB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E554-8B64-42B2-9F68-32AB9011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35F9-9702-49D2-9539-1B5E59DC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51A-A909-4700-B33F-78B8BE5E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AC93-DC88-4DE5-A54A-481D7DCA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1743-7B26-425D-BEBE-80D13AAB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9347-2486-42A7-B843-076562CD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EC94-F522-4EFE-91C0-5B105419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DAED-524E-4936-9B8C-DDF885FF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8E897-E954-42D7-94CE-D092248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1C53-BB5C-4942-BCEC-7DC28C9D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C7B8-6CD3-4B37-8EEF-37ABC7EF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3A18-02D4-482E-B98F-A34525EF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A958E-B282-4EF2-A31F-C6E9AD5E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A2F-BC7C-4E06-BE2D-D90847FF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2690D-FF73-48BE-96FC-4BBE54CF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8F0D3-B733-4B14-8CA9-BD96655D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9E0A2-EFE2-4CD9-95A6-DC1417FE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C3B02-330F-4687-9503-C250384A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A6466-B7E9-47FF-8E47-60E0FC6D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990D-9647-4520-B443-48298022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8B897-C7FF-45C6-AD86-BC8E57B2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35B6C-0464-4B22-8161-9EACA8B0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385F-9773-4BDE-ABEC-74F61BA8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4538-789B-458C-A8C3-DC1378EF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E0C-2B51-4874-BA3D-E4506C9C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15C0-508A-43BF-8160-D75B6951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ADF3-5FE3-4D9B-8510-1F9AA270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C5BC-2EE1-4349-B204-F16DE681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F84C-1C0C-4553-A6E1-F70619A9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5FEDE-A046-4F68-BFFE-109D62CF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94C6-5873-4B28-A3EE-1AD3D1D6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28FC-4606-4A0E-8BD9-B727C3B5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A6935-6F14-48E9-9237-B23EBD15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0FA3-C913-4497-9565-8EAD230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9A59B-5EF5-4A5A-BA6C-81512A2B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3C1-B252-480B-808D-732A45E6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26931-0E35-4933-A58D-72E1E94E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8D332-7FD4-4EF8-A890-C4A7C54E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7DA1A-B176-4B0C-A3DD-3B86BAF5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B8CAE-7407-40A3-AC24-CF8A8832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BD356-0593-4254-B637-1B7669A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65FDF-E278-440A-A468-31D86DD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F9326-33E6-44DD-8B33-41DB2E16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8DF1-2855-46B2-9BD3-7B4CBF8C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00B6C-6B1B-4C83-8FA9-0BCFBD93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99DE0-A4B3-463F-9C1D-8527035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CBB-9098-4907-91DB-CC79EDF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9C831-EEF4-42FC-A23E-95FC0D7B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F650D-F40C-416A-9367-32BD0A5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DD668-8311-4759-9205-5A2B5E97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18614-D17E-4723-A65E-30446E72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F6CF-822C-44EE-A9C7-477F249D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ED6-82EA-4112-B3F8-1389C7D1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DFF-3D35-4DCC-8836-B5D9C8DB695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A9B-0198-470B-85FD-E0C2CE46E28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541D-9695-4006-860F-8ABFFAACDAA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F38A-AC4D-4C6B-854A-70CF706CD82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329F-4009-4944-8F2E-6A7C45F481F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340E-7611-429F-A42B-DDC668A1A46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0DBE-0292-4D79-82A3-897B579FD1B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дительское собрание в 3 «А» класс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т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Важнейший период человеческой жизни, не подготовка к будущей жизни, а настоящая, яркая, самобытная, неповторимая жизнь…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воспитания ребенка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Гуманистический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Личностный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Деятельностный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Диалогический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Содержимое 3" descr="! класс 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нципы работы с семье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еспечение субъектной позиции всех участников процесс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рганизация совместного творчества учителя, ученика и родителе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Гуманистическая ориентация во взаимодействии с семье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2852640"/>
            <a:ext cx="781524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c1eeff"/>
                </a:solidFill>
                <a:latin typeface="Consolas"/>
              </a:rPr>
              <a:t>«На родителях, на одних родителях лежит священная обязанность сделать своих детей человеками, обязанность же учебных заведений – сделать их учеными, гражданами, членами государства на всех его ступенях.  Но кто не сделался человеком, тот плохой гражданин. Так давайте же вместе будем делать наших детей человеками. Хорошие дети – хорошая наша старость, плохие дети – плохая старость. Так думайте о будущем, а будущее – это наши дети»</a:t>
            </a:r>
            <a:br>
              <a:rPr sz="2500"/>
            </a:br>
            <a:r>
              <a:rPr b="0" lang="ru-RU" sz="2500" spc="-1" strike="noStrike">
                <a:solidFill>
                  <a:srgbClr val="c1eeff"/>
                </a:solidFill>
                <a:latin typeface="Consolas"/>
              </a:rPr>
              <a:t>                                              </a:t>
            </a:r>
            <a:r>
              <a:rPr b="0" i="1" lang="ru-RU" sz="2500" spc="-1" strike="noStrike">
                <a:solidFill>
                  <a:srgbClr val="c1eeff"/>
                </a:solidFill>
                <a:latin typeface="Consolas"/>
              </a:rPr>
              <a:t>В.Г. Белинский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Rockwell"/>
              </a:rPr>
              <a:t>Союз семьи и школы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1700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емья и школа – естественные союзники, две могучие  силы воспитания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бъединить их –  значит  во многом решить проблему  воспитания  подрастающего поколения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99640" y="2349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Спасибо за внимание!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400"/>
                            </p:stCondLst>
                            <p:childTnLst>
                              <p:par>
                                <p:cTn id="21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7:36:44Z</dcterms:created>
  <dc:creator>Server</dc:creator>
  <dc:description/>
  <dc:language>en-US</dc:language>
  <cp:lastModifiedBy>Администратор</cp:lastModifiedBy>
  <dcterms:modified xsi:type="dcterms:W3CDTF">2013-03-22T11:14:39Z</dcterms:modified>
  <cp:revision>62</cp:revision>
  <dc:subject/>
  <dc:title>Слайд 1</dc:title>
</cp:coreProperties>
</file>