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9E3C-A8A2-4C23-9731-BE50E046B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66E9-0824-424E-8173-38FC58B22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85D8-A9FB-4D7D-960B-9E3FB0176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2A3A-2DC2-48CD-864A-82FA7DA9D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6BBD2B-5C59-433A-BA15-5D55E1413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258589-5AD3-47A8-AACD-3EE9140AD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54644F-EF5D-4585-82CB-5DB317CB5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D71764-BC59-4C00-ACCB-ADF724EF3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1081DE-0568-41DD-BE34-C0BEEE7C6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9F7FE6-3558-4C7C-BA1D-DBC1B295D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293605-57B7-49AD-BF02-2B0D51B2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C3BD-0686-4660-B7EC-2E7947810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649718-9126-49FA-960A-BBEBE791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963F79-8D3E-47D9-9954-D2B67868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07C7C5-1680-4076-96DA-B99AE064E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BAFBCF-C1FD-444B-98D3-4132C9EA4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D3F964-4724-4BC6-8D92-11E82CA5E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7EDB6-4122-493D-AF5A-B3D5F6BC3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4A5F6-7F95-4B4E-BC7D-C4A801C81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72AC1-1350-4B68-801D-DEDF1753F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18C42-648E-408D-9F1E-D59148F69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F0081-C66F-4F42-8D30-8625E5AC7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630F-2A8E-4FA4-9715-11035D106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ED706-955C-46DD-BE76-DB5FB8C89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FF4F5-BB25-4671-B410-D0C64D50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3290A-3C3D-4D32-A747-6DECBE46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8B12F-E555-43C8-96CC-5B91F6A6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30375-5B36-41F9-81C1-94EBFEDC4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6E7FB-2057-40D3-8E78-3D22D6D41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E32EF-CB4D-4F72-A878-FD7317CCF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ED29EA-B9A7-4D2D-A8D7-ECAD90F51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FDAF7D-84F8-426F-8A64-E6E31A265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3EE67F-2BFF-49B1-880E-5F4976717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DDB9-835D-4B2C-B147-7938DF6E0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DED577-6F89-45E6-9F0C-2AC6EC7A7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B71A80-9885-4287-BFBC-76A3DB08F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1AD50B-D683-4965-8672-3BAD7E4DE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F5A67C-7CEE-41AA-8F15-23B292BF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71C59A-9516-488F-A2D6-9AF134BD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DF653C-ACFE-40BC-932F-2487F571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6D2165-AA1C-49F8-94A6-AC48CE6CA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B0D0BE-816C-4C7D-8720-383C7F104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F31DD1-C636-456E-8D37-586966533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AB3E-0146-428F-BF77-FC7D7D468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ED77-8B30-475C-A643-CD3211305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E4D0-791B-4FE8-A851-16BA3F8B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6CAC-0C4E-4534-B841-8BDE2E32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5AB3-780E-4802-B2B5-C2494448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611BB-F093-4DF3-9CD4-3110C9334A8F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31903-F641-4EA6-A37D-34564FE79864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DAFAF-5AD0-438F-8017-28F8E4F23BE4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154C5-4AF6-4FBC-B1FC-2E5121C79532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071960" y="4572000"/>
            <a:ext cx="454824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efac9"/>
                </a:solidFill>
                <a:latin typeface="Constantia"/>
              </a:rPr>
              <a:t>Валькова С.Л., учитель истории и обществознания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efac9"/>
                </a:solidFill>
                <a:latin typeface="Constantia"/>
              </a:rPr>
              <a:t>МБОУ СОШ № 40 г.Белгород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Заголовок 1" descr=""/>
          <p:cNvPicPr/>
          <p:nvPr/>
        </p:nvPicPr>
        <p:blipFill>
          <a:blip r:embed="rId1"/>
          <a:stretch/>
        </p:blipFill>
        <p:spPr>
          <a:xfrm>
            <a:off x="420840" y="938160"/>
            <a:ext cx="832140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Заголовок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553240" cy="12319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8229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держал блестящую победу  в битве на Неве в 1240 г. со шведами и немцами и в 1242 г. в знаменитом сражении с рыцарями Ливонского ордена на Чудском озере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ын великого князя Ярослава Всеволодовича и княгини Феодосии, внук великого князя Всеволода III Большое Гнездо.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читывая угрозу наступления шведских рыцарей, построил укрепления на р.Шелони.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15 июля 1240 сразился со шведами, когда те, помышляя о господстве над Новгородом, дошли на кораблях до устья р.Ижоры, впадающей в Неву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2" name="Заголовок 2" descr=""/>
          <p:cNvPicPr/>
          <p:nvPr/>
        </p:nvPicPr>
        <p:blipFill>
          <a:blip r:embed="rId1"/>
          <a:stretch/>
        </p:blipFill>
        <p:spPr>
          <a:xfrm>
            <a:off x="237960" y="-49320"/>
            <a:ext cx="8455320" cy="14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огласно житию князя, ижорский старейшина Пелгуй (или Пелугий) увидел на рассвете перед битвой ладью со святыми Борисом и Глебом, приплывшими помочь «сроднику своему князю  ………….»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На том же берегу, где полки  князя …… не смогли пройти, нашли «многое множество избиенных от ангела Господня»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4" name="Заголовок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А вот степь ковыльная, шатры нарядные. Великий князь отправляется в Орду «за христианы с погаными … перемогаться», вымаливать мир своей земле. Много льгот и послаблений для своего народа удалось тогда добиться от ханов ордынских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Но по дороге домой силы князя стали иссякать. Совсем больной добрался он до Городца. 14 ноября 1263 г., за несколько часов до смерти, принял князь схиму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Совершавший во Владимире богослужение митрополит Кирилл, увидел вознесение души князя   на небо, взволнованно объявил верующим: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- Зашло солнце земли Русской!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«Казалось, что вся земля Русская стонет от рыданий и горестных криков» - напишут позднее  в летописях. Очень любил русский народ своего князя  ………»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 1547 г. величайший полководец Древней Руси – благоверный князь  причислен церковным собором к числу общерусских святых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6" name="Заголовок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285840" y="1523880"/>
            <a:ext cx="8572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12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Герой Невского и Ледового сражений, выдающийся полководец и дипломат Древней Руси, князь Новгородский, Переяславский, великий князь Владимирский,  ……, как известно, умер 14 ноября 1263 г. в Городце-на-Волге и был похоронен во Владимире, в Рождественском монастыре, 23 ноября 1263 г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-234360">
              <a:lnSpc>
                <a:spcPct val="12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ри погребении тела произошло знаменитое чудо с духовной грамотой, после чего князь был признан местным святым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-234360">
              <a:lnSpc>
                <a:spcPct val="12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До 1381 г. святому князю  не было установлено местного церковного празднования и, стало быть, не было также и его икон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-234360">
              <a:lnSpc>
                <a:spcPct val="12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Согласно легенде, записанной во Владимире от священнослужителей Димитровского храма, первое открытие и освидетельствование мощей святого князя состоялось после Куликовской битвы в 1381 г., при митрополите Киприане, который повелел с тех пор называть  князя сего "блаженным". Тогда же было учинено ему монастырское церковное празднование, написаны канон и первые иконы.3 Ранний владимирский иконографический тип этой иконы восстанавливается по клеймам № 14-15, 17-31 московской иконы из храма Василия Блаженного "Святой  ……с деянием". Здесь находим повторяющееся изображение надгробной поясной иконы с надписью "Преподобный князь  ……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8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1400"/>
            </a:b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редварительно хорошо изучается данная тема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Учащиеся просматривают художественный фильм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 наиболее значимом по сюжету отрывке фильма выключается звук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Учащиеся должны представить и исполнить то, что говорят герои фильма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Этот приём помогает эмоционально представить характер и ситуацию в которой оказался данный герой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0" name="Заголовок 2" descr=""/>
          <p:cNvPicPr/>
          <p:nvPr/>
        </p:nvPicPr>
        <p:blipFill>
          <a:blip r:embed="rId1"/>
          <a:stretch/>
        </p:blipFill>
        <p:spPr>
          <a:xfrm>
            <a:off x="450720" y="23760"/>
            <a:ext cx="824256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спользуется на этапе актуализации знаний, на всех типах урок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зволяет вовлечь в работу всех ребя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еспечивает независимость суждени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пособствует развитию ассоциативного мышлен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азвитию творческих способностей учащихс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пособствует повышению интереса к предмету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2" name="Заголовок 2" descr=""/>
          <p:cNvPicPr/>
          <p:nvPr/>
        </p:nvPicPr>
        <p:blipFill>
          <a:blip r:embed="rId1"/>
          <a:stretch/>
        </p:blipFill>
        <p:spPr>
          <a:xfrm>
            <a:off x="450720" y="23760"/>
            <a:ext cx="824256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еление на группы по 4-5 человек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читель даёт ключевые слова, изречения, отрывки из документов, карту, картину и др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аписание на листах ассоциаций по данной теме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( слова, рисунки, вопросы, знаки, связи и др.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суждение нарисованного и написанного в групп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дведение итогов работы в виде презентации одного из учащихс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Заголовок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206" name="Прямоугольник 2"/>
          <p:cNvSpPr/>
          <p:nvPr/>
        </p:nvSpPr>
        <p:spPr>
          <a:xfrm>
            <a:off x="324000" y="1844640"/>
            <a:ext cx="8135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Franklin Gothic Book"/>
              </a:rPr>
              <a:t>Князь родился около 962 года. Он был сыном киевского князя Святослава Игоревича и Малуши, ключницы матери Святослава, княгини Ольги.  Вскоре  ребёнка  отобрали у матери. Воспитывался он в Киеве, при дворе своей бабки, княгини Ольги.  Князь  проявляет всяческую заботу об укреплении государства. Он совершает несколько успешных походов на запад и восток (против поляков, ятвягов, волжских болгар, хазар), подчиняет власти Киева ряд восточнославянских племен (радимичей, вятичей), присоединяет к Руси т. н. Червенские города (Волынь). Различные области Русского государства скрепляются более прочными узами, чем прежде.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нязя внезапно поражает тяжелый недуг: «по Божественному промыслу в то время разболелся  князь очами, так что ничего не видел, и скорбел очень, и не знал, что делать». Царевна Анна послала к нему с такими словами: «Если хочешь избавиться от этой болезни, то крестись поскорее; иначе не выздоровеешь». Князь повелевает корсунскому епископу и священникам, прибывшим вместе с царевной, крестить себя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«И когда возложил епископ руку на него, тотчас прозрел  князь»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8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onstantia"/>
              </a:rPr>
              <a:t>Цель: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Пробудить живой интерес к священной истории родной земли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onstantia"/>
              </a:rPr>
              <a:t>Задачи: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- закрепить знания о святых защитниках земли русской;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-обогащать знаниями, способствующими усвоению определенных норм морали, нравственности, патриотизма на примере выдающихся личностей, причисленных к лику Святых земли русской;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-развивать умение – искусство слушать, говорить, находить необходимые материалы в различных компетентных источниках;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-воспитывать доброе, внимательное отношение к окружающим, желание приходить на помощь к нуждающимся, заботиться о слабых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3" name="Заголовок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осмотрите видеофимьм и ответьте на вопросы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 каком событии из жизни князя идёт речь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светите значение этого события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осмотр  фрагмента мультфильма «Выбор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ак называется религия о которой идёт речь в этом фрагменте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 каком выборе идёт речь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0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68000" y="549000"/>
            <a:ext cx="821844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Каким должен быть сегодняшний идеал?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асилий Осипович Ключевский справедливо жалел «то поколение, у которого нет никаких идеалов»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прежде всего это должен быть гражданин, и не просто гражданин, а настоящий патриот своей Родины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Жан- Жака Руссо: «Жить - вот ремесло, которому я хочу учить воспитанника. Выходя из моих рук, он будет не судьей, не солдатом, не священником: он будет, прежде всего, человеком: всем, чем должен быть человек, он сумеет быть в случае необходимости, так же хорош, как и всякий другой, и как бы судьба не перемещала его с места на место, он всегда будет на своём месте»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99680" y="571320"/>
            <a:ext cx="814716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Содержимое 3" descr=""/>
          <p:cNvPicPr/>
          <p:nvPr/>
        </p:nvPicPr>
        <p:blipFill>
          <a:blip r:embed="rId1"/>
          <a:stretch/>
        </p:blipFill>
        <p:spPr>
          <a:xfrm>
            <a:off x="298440" y="1474920"/>
            <a:ext cx="8485200" cy="4651200"/>
          </a:xfrm>
          <a:prstGeom prst="rect">
            <a:avLst/>
          </a:prstGeom>
          <a:ln w="0">
            <a:noFill/>
          </a:ln>
        </p:spPr>
      </p:pic>
      <p:pic>
        <p:nvPicPr>
          <p:cNvPr id="175" name="Заголовок 2" descr=""/>
          <p:cNvPicPr/>
          <p:nvPr/>
        </p:nvPicPr>
        <p:blipFill>
          <a:blip r:embed="rId2"/>
          <a:stretch/>
        </p:blipFill>
        <p:spPr>
          <a:xfrm>
            <a:off x="328680" y="146160"/>
            <a:ext cx="836460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Содержимое 3" descr=""/>
          <p:cNvPicPr/>
          <p:nvPr/>
        </p:nvPicPr>
        <p:blipFill>
          <a:blip r:embed="rId1"/>
          <a:stretch/>
        </p:blipFill>
        <p:spPr>
          <a:xfrm>
            <a:off x="450720" y="1517760"/>
            <a:ext cx="8242560" cy="4584600"/>
          </a:xfrm>
          <a:prstGeom prst="rect">
            <a:avLst/>
          </a:prstGeom>
          <a:ln w="0">
            <a:noFill/>
          </a:ln>
        </p:spPr>
      </p:pic>
      <p:pic>
        <p:nvPicPr>
          <p:cNvPr id="177" name="Заголовок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178" name="Схема 4" descr=""/>
          <p:cNvPicPr/>
          <p:nvPr/>
        </p:nvPicPr>
        <p:blipFill>
          <a:blip r:embed="rId3"/>
          <a:stretch/>
        </p:blipFill>
        <p:spPr>
          <a:xfrm>
            <a:off x="1395360" y="1981080"/>
            <a:ext cx="61326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зучение личностей по пятиэтапному алгоритму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1) Запоминание фамилии, имени личности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2) Ознакомление с этапами, периодами и содержанием деятельности личности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3) Усвоение идейно-теоретических платформ изучаемой личности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4) Уяснение, чьи интересы на том или ином этапе данная личность выражала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5) Изучение оценок личности её современниками и современными историкам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0" name="Заголовок 2" descr=""/>
          <p:cNvPicPr/>
          <p:nvPr/>
        </p:nvPicPr>
        <p:blipFill>
          <a:blip r:embed="rId1"/>
          <a:stretch/>
        </p:blipFill>
        <p:spPr>
          <a:xfrm>
            <a:off x="450720" y="23760"/>
            <a:ext cx="824256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56760" y="1523880"/>
            <a:ext cx="8572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читель, не называя имени личности, пробуждает к ней простой человеческий интерес. Затем тут же на уроке либо от занятия к занятию напоминает о ней всё новыми и новыми оценками и данными. Наступает время, когда информации накапливается столько, что учащиеся узнают, о ком идёт речь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пределение качества личностей по умению предвидеть будущее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2" name="Заголовок 2" descr=""/>
          <p:cNvPicPr/>
          <p:nvPr/>
        </p:nvPicPr>
        <p:blipFill>
          <a:blip r:embed="rId1"/>
          <a:stretch/>
        </p:blipFill>
        <p:spPr>
          <a:xfrm>
            <a:off x="450720" y="23760"/>
            <a:ext cx="824256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равнительный анализ характеристик, качеств однородных в плане деятельности личностей, например руководителей государств, главных реформаторов, полководцев и т.д.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ценка личностей по поведению в экстремальных для Отечества или для себя обстоятельствах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ценка личностей по отдельным, но ярким штрихам к их портретам, будь то примеры из службы, повседневной жизни, увлечений и т.д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4" name="Заголовок 2" descr=""/>
          <p:cNvPicPr/>
          <p:nvPr/>
        </p:nvPicPr>
        <p:blipFill>
          <a:blip r:embed="rId1"/>
          <a:stretch/>
        </p:blipFill>
        <p:spPr>
          <a:xfrm>
            <a:off x="450720" y="23760"/>
            <a:ext cx="824256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зучение личностей посредством постепенного накопления знаний.   Учитель называет представленную к изучению личность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чащиеся сами, изучая материал, постепенно накапливают соответствующую информацию до уровня необходимых знаний о ней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6" name="Заголовок 2" descr=""/>
          <p:cNvPicPr/>
          <p:nvPr/>
        </p:nvPicPr>
        <p:blipFill>
          <a:blip r:embed="rId1"/>
          <a:stretch/>
        </p:blipFill>
        <p:spPr>
          <a:xfrm>
            <a:off x="450720" y="23760"/>
            <a:ext cx="824256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читель приводит факты биографического характера из жизни какого-либо исторического деятеля, не называя его имени, времени и места действия, даты событий. Учащиеся самостоятельно должны указать все недостающие детал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8" name="Заголовок 2" descr=""/>
          <p:cNvPicPr/>
          <p:nvPr/>
        </p:nvPicPr>
        <p:blipFill>
          <a:blip r:embed="rId1"/>
          <a:stretch/>
        </p:blipFill>
        <p:spPr>
          <a:xfrm>
            <a:off x="450720" y="23760"/>
            <a:ext cx="824256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2T05:01:23Z</dcterms:created>
  <dc:creator>Андрей</dc:creator>
  <dc:description/>
  <dc:language>en-US</dc:language>
  <cp:lastModifiedBy>Андрей</cp:lastModifiedBy>
  <dcterms:modified xsi:type="dcterms:W3CDTF">2013-03-23T05:27:31Z</dcterms:modified>
  <cp:revision>23</cp:revision>
  <dc:subject/>
  <dc:title>Святые заступники земли русской</dc:title>
</cp:coreProperties>
</file>