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15E-97CA-4C18-B399-BF93FA46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27E-5BDB-4AE4-89ED-F6CC18B1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A84-48DC-400A-B725-E8B0CAB8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00C-DBD5-49A4-ADC1-BC37CDF1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8783C-B9BF-40FA-B3F2-89A0F5FA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3057C-D125-4791-9850-CB53533E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F892A-68F5-4C3D-B314-B0A8D71C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C2E38-9294-42C8-A4D0-F7A30010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C03CA-94B9-462A-BB94-B7FFC73E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A6CCB-9FB8-4836-A288-8C9B4294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913CF-FAED-4EBB-8544-4059A633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ECB-01F8-4B1C-B8C8-99FE164F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3EB49-8A72-4608-9D54-E1B1E06D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CDCFD-9896-45E2-B3C6-A88765BA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FE380-291E-48DA-8249-70FE316F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FBFD3-F6AF-4A23-BEA2-06A7C103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14769-31E4-4C64-9050-90B2D92E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066D-4762-4289-A203-1F671E02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BCAC-8D6F-4D57-A9AD-61A6B447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FA22-11E1-42FA-90D0-E4DAD41C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153F-7771-45CA-891B-2A1397BB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9C89-2ACA-46AF-9489-7EA0A7D9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143-29B5-4FAB-9CCC-7815A6AC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719F-383B-49A1-AEFF-D071F955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8B064-D99E-436F-9F9E-A2A92635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3D18-FD1C-4039-8B55-5378E666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78D4-E83F-47CF-A40F-979F3949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3DD6-B1BB-48FA-B740-4246E803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A629-6DA3-4F76-BAC5-90723683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97F0-6059-4B61-9F1C-E5EFDD55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C4CF6-42AE-4AFE-B740-7199FFFA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273BF-87F3-41E9-BE57-098F6B8B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FA8982-2F46-488C-AB62-431131F3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A3D-42D3-4C0C-90C3-EB7DFA8C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1FFA32-0A65-4E70-A1AB-FB842BAE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91784E-967D-44BF-8B3B-87CA6EB3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67268-E1F7-4831-91D8-A3B85D28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E28E9-05EE-4573-87B6-086ECC01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427FD-8478-434F-89BE-69E0D09A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F33AC-2EBB-4BB7-83BE-B7D0329D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84D54-9C62-4426-8891-EB2EE1CA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C61C6-5896-41D0-B259-1D173C43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8744A-D3A6-4A98-A1F7-A93E3DEF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043-1427-4FBB-9FCB-43CF539D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D26-CCC5-4844-9451-E7577AFC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879-FDF6-43C1-9E2E-FA483805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C90-5E5F-4B52-80A6-0BD63FAB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BB3-0739-4D75-A04C-E292338A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F55C-9E3E-40BB-B937-048DD1B7653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5B1A-9129-4B7E-A3D0-A00BD12B482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607B-51C8-44B0-AADE-69C4130108C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7DE1-E8AA-4B0F-BD7B-992FDF98730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071960" y="4572000"/>
            <a:ext cx="4548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Валькова С.Л., учитель истории и обществознан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МБОУ СОШ № 40 г.Белгород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20840" y="938160"/>
            <a:ext cx="83214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53240" cy="1231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держал блестящую победу  в битве на Неве в 1240 г. со шведами и немцами и в 1242 г. в знаменитом сражении с рыцарями Ливонского ордена на Чудском озере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ын великого князя Ярослава Всеволодовича и княгини Феодосии, внук великого князя Всеволода III Большое Гнездо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ывая угрозу наступления шведских рыцарей, построил укрепления на р.Шелони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5 июля 1240 сразился со шведами, когда те, помышляя о господстве над Новгородом, дошли на кораблях до устья р.Ижоры, впадающей в Нев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237960" y="-49320"/>
            <a:ext cx="845532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гласно житию князя, ижорский старейшина Пелгуй (или Пелугий) увидел на рассвете перед битвой ладью со святыми Борисом и Глебом, приплывшими помочь «сроднику своему князю  ………….»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 том же берегу, где полки  князя …… не смогли пройти, нашли «многое множество избиенных от ангела Господня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 вот степь ковыльная, шатры нарядные. Великий князь отправляется в Орду «за христианы с погаными … перемогаться», вымаливать мир своей земле. Много льгот и послаблений для своего народа удалось тогда добиться от ханов ордынских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о по дороге домой силы князя стали иссякать. Совсем больной добрался он до Городца. 14 ноября 1263 г., за несколько часов до смерти, принял князь схим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вершавший во Владимире богослужение митрополит Кирилл, увидел вознесение души князя   на небо, взволнованно объявил верующим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- Зашло солнце земли Русской!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Казалось, что вся земля Русская стонет от рыданий и горестных криков» - напишут позднее  в летописях. Очень любил русский народ своего князя  ………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1547 г. величайший полководец Древней Руси – благоверный князь  причислен церковным собором к числу общерусских святых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85840" y="152388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2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ерой Невского и Ледового сражений, выдающийся полководец и дипломат Древней Руси, князь Новгородский, Переяславский, великий князь Владимирский,  ……, как известно, умер 14 ноября 1263 г. в Городце-на-Волге и был похоронен во Владимире, в Рождественском монастыре, 23 ноября 1263 г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lnSpc>
                <a:spcPct val="12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и погребении тела произошло знаменитое чудо с духовной грамотой, после чего князь был признан местным святы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lnSpc>
                <a:spcPct val="12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До 1381 г. святому князю  не было установлено местного церковного празднования и, стало быть, не было также и его икон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lnSpc>
                <a:spcPct val="12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гласно легенде, записанной во Владимире от священнослужителей Димитровского храма, первое открытие и освидетельствование мощей святого князя состоялось после Куликовской битвы в 1381 г., при митрополите Киприане, который повелел с тех пор называть  князя сего "блаженным". Тогда же было учинено ему монастырское церковное празднование, написаны канон и первые иконы.3 Ранний владимирский иконографический тип этой иконы восстанавливается по клеймам № 14-15, 17-31 московской иконы из храма Василия Блаженного "Святой  ……с деянием". Здесь находим повторяющееся изображение надгробной поясной иконы с надписью "Преподобный князь  ……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4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едварительно хорошо изучается данная тем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ащиеся просматривают художественный филь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наиболее значимом по сюжету отрывке фильма выключается звук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ащиеся должны представить и исполнить то, что говорят герои фильм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тот приём помогает эмоционально представить характер и ситуацию в которой оказался данный герой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пользуется на этапе актуализации знаний, на всех типах уро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воляет вовлечь в работу всех ребя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спечивает независимость сужден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особствует развитию ассоциативного мыш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витию творческих способностей учащихс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особствует повышению интереса к предмет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ление на группы по 4-5 челов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даёт ключевые слова, изречения, отрывки из документов, карту, картину и д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писание на листах ассоциаций по данной тем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 слова, рисунки, вопросы, знаки, связи и др.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суждение нарисованного и написанного в групп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ведение итогов работы в виде презентации одного из учащихс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2"/>
          <p:cNvSpPr/>
          <p:nvPr/>
        </p:nvSpPr>
        <p:spPr>
          <a:xfrm>
            <a:off x="324000" y="1844640"/>
            <a:ext cx="813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Князь родился около 962 года. Он был сыном киевского князя Святослава Игоревича и Малуши, ключницы матери Святослава, княгини Ольги.  Вскоре  ребёнка  отобрали у матери. Воспитывался он в Киеве, при дворе своей бабки, княгини Ольги.  Князь  проявляет всяческую заботу об укреплении государства. Он совершает несколько успешных походов на запад и восток (против поляков, ятвягов, волжских болгар, хазар), подчиняет власти Киева ряд восточнославянских племен (радимичей, вятичей), присоединяет к Руси т. н. Червенские города (Волынь). Различные области Русского государства скрепляются более прочными узами, чем прежде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нязя внезапно поражает тяжелый недуг: «по Божественному промыслу в то время разболелся  князь очами, так что ничего не видел, и скорбел очень, и не знал, что делать». Царевна Анна послала к нему с такими словами: «Если хочешь избавиться от этой болезни, то крестись поскорее; иначе не выздоровеешь». Князь повелевает корсунскому епископу и священникам, прибывшим вместе с царевной, крестить себя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И когда возложил епископ руку на него, тотчас прозрел  князь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Цель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Пробудить живой интерес к священной истории родной земл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Задачи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 закрепить знания о святых защитниках земли русской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обогащать знаниями, способствующими усвоению определенных норм морали, нравственности, патриотизма на примере выдающихся личностей, причисленных к лику Святых земли русской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развивать умение – искусство слушать, говорить, находить необходимые материалы в различных компетентных источниках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воспитывать доброе, внимательное отношение к окружающим, желание приходить на помощь к нуждающимся, заботиться о слабы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смотрите видеофимьм и ответьте на вопросы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 каком событии из жизни князя идёт речь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ветите значение этого событи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смотр  фрагмента мультфильма «Выбор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называется религия о которой идёт речь в этом фрагмент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 каком выборе идёт речь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000" y="549000"/>
            <a:ext cx="821844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аким должен быть сегодняшний идеал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асилий Осипович Ключевский справедливо жалел «то поколение, у которого нет никаких идеалов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ежде всего это должен быть гражданин, и не просто гражданин, а настоящий патриот своей Родин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Жан- Жака Руссо: «Жить - вот ремесло, которому я хочу учить воспитанника. Выходя из моих рук, он будет не судьей, не солдатом, не священником: он будет, прежде всего, человеком: всем, чем должен быть человек, он сумеет быть в случае необходимости, так же хорош, как и всякий другой, и как бы судьба не перемещала его с места на место, он всегда будет на своём месте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1471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3" descr=""/>
          <p:cNvPicPr/>
          <p:nvPr/>
        </p:nvPicPr>
        <p:blipFill>
          <a:blip r:embed="rId1"/>
          <a:stretch/>
        </p:blipFill>
        <p:spPr>
          <a:xfrm>
            <a:off x="298440" y="1474920"/>
            <a:ext cx="8485200" cy="4651200"/>
          </a:xfrm>
          <a:prstGeom prst="rect">
            <a:avLst/>
          </a:prstGeom>
          <a:ln w="0">
            <a:noFill/>
          </a:ln>
        </p:spPr>
      </p:pic>
      <p:pic>
        <p:nvPicPr>
          <p:cNvPr id="175" name="Заголовок 2" descr=""/>
          <p:cNvPicPr/>
          <p:nvPr/>
        </p:nvPicPr>
        <p:blipFill>
          <a:blip r:embed="rId2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584600"/>
          </a:xfrm>
          <a:prstGeom prst="rect">
            <a:avLst/>
          </a:prstGeom>
          <a:ln w="0">
            <a:noFill/>
          </a:ln>
        </p:spPr>
      </p:pic>
      <p:pic>
        <p:nvPicPr>
          <p:cNvPr id="177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8" name="Схема 4" descr=""/>
          <p:cNvPicPr/>
          <p:nvPr/>
        </p:nvPicPr>
        <p:blipFill>
          <a:blip r:embed="rId3"/>
          <a:stretch/>
        </p:blipFill>
        <p:spPr>
          <a:xfrm>
            <a:off x="1395360" y="1981080"/>
            <a:ext cx="61326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учение личностей по пятиэтапному алгоритму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) Запоминание фамилии, имени лич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) Ознакомление с этапами, периодами и содержанием деятельности лич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) Усвоение идейно-теоретических платформ изучаемой лич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) Уяснение, чьи интересы на том или ином этапе данная личность выражал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) Изучение оценок личности её современниками и современными историка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6760" y="1523880"/>
            <a:ext cx="857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, не называя имени личности, пробуждает к ней простой человеческий интерес. Затем тут же на уроке либо от занятия к занятию напоминает о ней всё новыми и новыми оценками и данными. Наступает время, когда информации накапливается столько, что учащиеся узнают, о ком идёт реч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ределение качества личностей по умению предвидеть будуще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равнительный анализ характеристик, качеств однородных в плане деятельности личностей, например руководителей государств, главных реформаторов, полководцев и т.д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ценка личностей по поведению в экстремальных для Отечества или для себя обстоятельства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ценка личностей по отдельным, но ярким штрихам к их портретам, будь то примеры из службы, повседневной жизни, увлечений и т.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учение личностей посредством постепенного накопления знаний.   Учитель называет представленную к изучению личность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ащиеся сами, изучая материал, постепенно накапливают соответствующую информацию до уровня необходимых знаний о н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приводит факты биографического характера из жизни какого-либо исторического деятеля, не называя его имени, времени и места действия, даты событий. Учащиеся самостоятельно должны указать все недостающие детал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5:01:23Z</dcterms:created>
  <dc:creator>Андрей</dc:creator>
  <dc:description/>
  <dc:language>en-US</dc:language>
  <cp:lastModifiedBy>Андрей</cp:lastModifiedBy>
  <dcterms:modified xsi:type="dcterms:W3CDTF">2013-03-23T05:27:31Z</dcterms:modified>
  <cp:revision>23</cp:revision>
  <dc:subject/>
  <dc:title>Святые заступники земли русской</dc:title>
</cp:coreProperties>
</file>