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55D-18C5-437D-86B3-0A3A0C83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A3C-6C41-4A92-918C-78F4FD6C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A6D96-7501-4301-9B83-75DC8AFC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E4D5A-8CE2-4395-B784-3B2BBCE2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5890D-6D0D-4EEC-9A50-0AE3B7FE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47DDA-AA51-4B25-8772-537BA2A5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62D04-62F4-4A6D-B937-6AE5DFA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BF20C-DF85-4C7F-B595-9766EA4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8A29B-E200-41C1-9F12-DC7518D5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67597-2ADE-4486-9B59-D643F850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B3736-D6C7-4023-B023-72B764FA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0EA-3933-4AD2-8BC4-69B11303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6FE-0762-417A-8F97-56223B0B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5319-8AFE-45D9-B943-C995A0D1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258-AC06-4D3B-87DC-660C560D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76BE-49ED-4400-8599-2430FD47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75E5-2709-432B-9E3C-3523BAED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7C25-58DC-4792-B37B-53E5E21E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7A4A-8104-4144-A9DB-9F78161A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5550-4164-45FF-9B89-531C0B7C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9DD-B087-4188-8BA9-5E856D43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4746-139C-45DF-A6F6-7C4AE3F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26D7-4207-4E14-9796-9D11B9EC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FC59-1B4C-478C-9833-39EC9CFA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008C-ADDF-4DCE-B268-1BB60AF0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31A8-1865-417F-BF93-2CEFE429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C04E-57B7-4A0D-9A18-76C69EE3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E225D-EC9C-4A7F-8626-9DAEC4BF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4EE5-EDAE-40ED-890C-79798EF6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67FD-5D14-4678-A92D-585482DD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882A-E2E4-4169-904E-1032D45E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2B3-92F2-43D3-AF1C-E4D18C89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DE66-CFB3-462C-865E-CFD5C1E2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84BB-3E7B-4BAA-BC41-D6244F68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AC92-BADE-4811-B45E-97560BD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4764-5D5D-451B-976D-78E714AA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86FAC-F424-40CA-86DE-8B6F77B2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6F6C-A195-48FF-B308-60CF6BC0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C340-D205-4223-8B1B-8027CE08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9062-9DC9-4FAB-BC42-F2B79824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88F9F-4903-4A8F-B241-AC233606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323A-79E0-41E5-AF36-ED474A0B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EDE-82E9-406E-8639-16D9C160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B9E4-9490-4CBF-BDEA-BF1B4B5E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99E1-BFE3-452C-99E7-2D347575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FB60D-20D2-4A3E-B6B3-97EDC7C2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B8B8-3457-4BB3-A9A2-0BDDA6A6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39367-ACE1-4DFA-8963-B8362C00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8BE23-07C1-47B4-A3CA-BDDBA25F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01C9-81CC-4781-A9C5-52D4026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A1C1-F686-45C1-A0C2-9BB03703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A7632-CEDF-4B96-9724-49838097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9D3AE-C2A2-435E-AC78-0D5B7C42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7FB-EC45-48ED-BBE9-49171F69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3263C-BB98-4C47-82FD-BCACCD0F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E93B1-BC0D-49A3-AAF1-B0E812B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6A58D-79B6-4489-A4AC-5FF92D4A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DE6B1-2C88-40D4-AFDA-34D56E19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91FEC-1310-49F4-AE23-FD29FEBB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4FDD-939E-4CF1-B46E-E91431BE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C263-F266-498C-B129-E48B8E61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3C09C-1168-4F04-8CBD-83643D51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6DA92-24CF-4BC1-ACD6-0878277C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EE3BB-ABFA-4950-B96C-D509BA16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04C-F9E6-4021-83F4-46269AE6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3B364-E7D6-4CE3-986B-B8D7E13B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0007-8DC6-4A69-AAD6-3A213832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8C1EA-1994-4B45-8AAB-DD511710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FAA9A-1C54-405E-ABB7-A74ACA8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089B6-424F-4E6B-B09F-1E984FB6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456C2-1BAD-44B2-8ECE-D5954413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50AA6-4ADA-4226-9DBA-53BE3116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E4AE0-4343-4FE5-ABF3-71A17BF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33974-B836-424F-901E-C13C9D16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6060C-249E-497E-8FDE-28B8B6DB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094-6FEA-43D1-8E20-BBFB70A1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40E9F-2794-45A3-8279-002638A8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603A4-19CA-4C77-A551-80F27BC6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052BD-BDEF-4CED-8163-4BE438FF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D03FF-D4D8-4237-8F74-EF924983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4C367-0A0B-4365-80DD-848A4789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1B40B-0B05-40E2-932E-B18E9628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CB3B6-E572-4284-B1C2-D699D488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A54E0-5B48-461C-939E-24E92DDF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DD445-27C5-44D3-AB83-17183AC0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718A8-0051-4F94-8B40-73657C02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664-3D28-4C41-B07F-964EC310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39F13-AE81-4514-93AC-B84BF42F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EDAC3-FDFA-47DD-82DD-2BA02DE3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65B5-DE57-4F3E-AF78-4FFD1F1E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7AD19-5AFC-4B5C-8965-57EFB840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3D68D-3DED-4D80-914C-B0C8049E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8083E-3D5B-4E9F-8B1E-5E856FDB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805B2-65B2-4400-81ED-3A4ACE53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879BF-150F-45A0-8CD6-3DD26E4F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96430-5C8F-42AB-B079-53DB6DFA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05F8E-6E90-4D02-9A67-A988B878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7A4-FADD-4F96-AE2C-3CE47D00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E9E86-81A7-43FA-94AF-5215243A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7D6EF-8B81-4330-ABDA-CE42A5CA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295E3-BF52-4CCD-8FC4-5438E1CB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3A5E3-6562-4347-B859-33B0C3C9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57D6C-C464-49AE-AB1C-0BEF5438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33F35-9AD8-42AD-A9B9-F718AC59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B9352-3C29-4FA7-AD56-805084A4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1B1EF-7CA0-49CF-B460-8C02872D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994E8-D280-4106-A7E3-1444FF14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8B038-7531-4CD5-8548-0ED03C2C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1EDA-7C41-408E-A419-1843E6D197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EAF3-535C-40BE-BE3E-480C9B9195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6B57-B5DD-437B-8D40-7994C0D617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DCC8-BFDC-42C3-A59D-31A6DF09E2D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FFF2-BDA9-4642-A4FE-3547D3A4FEE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7B50-D8C6-44EA-9E20-CB1C635E84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24EB-5B87-4A45-B95B-2D93A4025B4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7E8D-2081-4CD5-AD10-96C2BE68BA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2DE6-F5E6-4A36-96F5-69F93F8FB9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-128520" y="450720"/>
            <a:ext cx="9212040" cy="25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2786040"/>
            <a:ext cx="86868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тельская работ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полнил ученик 3В класс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У «СО школа №14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кунин Серге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407196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2139840" cy="1714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285840" y="4714920"/>
            <a:ext cx="2143080" cy="1717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4"/>
          <a:stretch/>
        </p:blipFill>
        <p:spPr>
          <a:xfrm>
            <a:off x="4857840" y="3214800"/>
            <a:ext cx="1871640" cy="1500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5"/>
          <a:stretch/>
        </p:blipFill>
        <p:spPr>
          <a:xfrm>
            <a:off x="285840" y="3071880"/>
            <a:ext cx="2143080" cy="1635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"/>
          <p:cNvPicPr/>
          <p:nvPr/>
        </p:nvPicPr>
        <p:blipFill>
          <a:blip r:embed="rId6"/>
          <a:stretch/>
        </p:blipFill>
        <p:spPr>
          <a:xfrm>
            <a:off x="2428920" y="4714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7"/>
          <a:stretch/>
        </p:blipFill>
        <p:spPr>
          <a:xfrm>
            <a:off x="4143240" y="47149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8"/>
          <a:stretch/>
        </p:blipFill>
        <p:spPr>
          <a:xfrm>
            <a:off x="2428920" y="1357200"/>
            <a:ext cx="2428920" cy="3372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"/>
          <p:cNvPicPr/>
          <p:nvPr/>
        </p:nvPicPr>
        <p:blipFill>
          <a:blip r:embed="rId9"/>
          <a:stretch/>
        </p:blipFill>
        <p:spPr>
          <a:xfrm>
            <a:off x="4857840" y="135720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"/>
          <p:cNvPicPr/>
          <p:nvPr/>
        </p:nvPicPr>
        <p:blipFill>
          <a:blip r:embed="rId10"/>
          <a:stretch/>
        </p:blipFill>
        <p:spPr>
          <a:xfrm>
            <a:off x="6786720" y="3214800"/>
            <a:ext cx="1990440" cy="150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"/>
          <p:cNvPicPr/>
          <p:nvPr/>
        </p:nvPicPr>
        <p:blipFill>
          <a:blip r:embed="rId11"/>
          <a:stretch/>
        </p:blipFill>
        <p:spPr>
          <a:xfrm>
            <a:off x="7715160" y="1357200"/>
            <a:ext cx="1076400" cy="1857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"/>
          <p:cNvPicPr/>
          <p:nvPr/>
        </p:nvPicPr>
        <p:blipFill>
          <a:blip r:embed="rId12"/>
          <a:stretch/>
        </p:blipFill>
        <p:spPr>
          <a:xfrm>
            <a:off x="6429240" y="4714920"/>
            <a:ext cx="23576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3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714240" y="1285920"/>
            <a:ext cx="2571840" cy="1714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56760" y="4643280"/>
            <a:ext cx="8634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Древние люди могли определять время по солнцу в дневное время. Тень от предмета перемещается, когда источник света, который освещает предмет, тоже перемещается. Узнав эту особенность окружающего мира, люди научились определять время. Они сконструировали первые солнечные часы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5857920" y="1143000"/>
            <a:ext cx="2714760" cy="2819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"/>
          <p:cNvPicPr/>
          <p:nvPr/>
        </p:nvPicPr>
        <p:blipFill>
          <a:blip r:embed="rId4"/>
          <a:stretch/>
        </p:blipFill>
        <p:spPr>
          <a:xfrm>
            <a:off x="2786040" y="2500200"/>
            <a:ext cx="342900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85480" y="5000400"/>
            <a:ext cx="870588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ночью решали проблему с помощью своеобразных часов: внутрь колбы насыпали песок, либо наливали воду. Песок высыпался через маленькую дырочку. Колба пустела, значит прошло определенное врем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5232240" y="1285920"/>
            <a:ext cx="3911760" cy="3395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3"/>
          <a:stretch/>
        </p:blipFill>
        <p:spPr>
          <a:xfrm>
            <a:off x="2786040" y="1214280"/>
            <a:ext cx="2214720" cy="3500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4"/>
          <a:stretch/>
        </p:blipFill>
        <p:spPr>
          <a:xfrm>
            <a:off x="285840" y="1214280"/>
            <a:ext cx="22780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5:01:03Z</dcterms:created>
  <dc:creator>Аля</dc:creator>
  <dc:description/>
  <dc:language>en-US</dc:language>
  <cp:lastModifiedBy>Аля</cp:lastModifiedBy>
  <dcterms:modified xsi:type="dcterms:W3CDTF">2013-03-19T15:38:35Z</dcterms:modified>
  <cp:revision>16</cp:revision>
  <dc:subject/>
  <dc:title>Такие разные часы</dc:title>
</cp:coreProperties>
</file>