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F13-087E-4738-8F55-EEE42DD8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E2D-4FBE-45BF-845F-EE4E00FF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23AA3-8200-42DC-A085-EFA79916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AAB6D-603F-46C4-BC4A-5F448338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E8F62-B9A6-4BDA-BE50-218B2170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F75EA-E9AD-412C-92E0-36244046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84959-805F-4E4B-B1A2-28871477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BC146-3683-498D-A19B-36CB72D3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C7EC0-E6F6-4CAD-B890-D24816D3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42FA1-CDDD-4E64-9CF2-0AADAA38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5C6CE-0C04-49DA-A06C-B3F7756C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6B1-ECBD-4053-A5D6-C6B987C1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2F9-05E0-4CCE-B168-C71BED86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69E5-C5E2-41C8-A663-8163AA92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BFF1-A5EE-4323-80B0-A80C14B9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35D5-7E4D-49B0-8E7A-26582218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EE66-2850-456E-BCED-FAEEE9E7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AA01-1BA5-4CC9-A0AC-7CD3F642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DEDB-07B4-406F-BB38-6C97D3B6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7D32-B510-4D4C-8C9C-774D3944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D672-7AC0-4164-ABCC-D64F85ED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C91A-C4FF-4AE5-A3A7-025C8DD9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A880-694B-40A4-A4D8-BAE85EEE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AF0D-932B-429D-89B5-EAFCF1B1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CFA1-71BC-4A6C-B7EB-B2E706E1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217C-C4FA-4BD1-BACB-8456AE41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E55D6-C2E1-4D4C-8BDF-6A0A213F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7B9F2-F059-4282-85EF-8B40B10B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12D5-C07B-4809-BBFB-614C77C3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CFB14-C65D-4302-B7DA-61997919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37A5C-6384-4380-AE75-1A26847D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E3F-96E8-45FB-9522-5C555998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D96AC-AFCA-49CA-B28A-65EFD699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F6FCA-ED0C-40C2-958A-3E69B067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95103-1DAA-4767-95F6-B193E02C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D11CF-E52A-47C2-9FD5-D1A5DF0A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7D0C6-CC0D-492C-AC93-D99A4754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1BC10-570D-40DB-A248-585B2250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3442B-EA01-42B6-9626-9DB20FF9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E9D56-D674-4899-9561-FA26DBD1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53112-681E-492E-974D-018B6E8F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C7C9C-02B9-41C2-9B65-9336A4CC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5F2-30A0-4695-A34E-6C9E8981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C540D-C1C4-4CA5-827A-76B90EB8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8E98C-897E-42CF-8DAD-26F2CE21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EAA9F-109D-492B-95E3-18F010A9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D6E91-F34E-455F-A36D-F8144790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3DC20-377D-43EB-8EBF-743925E0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2D642-DC8E-4FFD-8AAC-5105BC63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6B58A-BCB0-41E0-97B3-35234AD1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D5E8-4632-4A30-B509-B3A89CF2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0BCCC-177F-4446-BA45-E7E8268C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D94D2-6FC2-4C6E-9C0E-8A5177E3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0A2-121D-4B41-A5DD-FF1E7643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4A4FD-C50C-4179-876E-D6256A0D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4CEF4-B6DF-45D4-B907-5E23B397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85158-11A0-4340-BC28-3E956C68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73CFB-7740-494F-86F5-7082227D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4127B-3969-4046-B535-CCD9F510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00CEF-7643-4B19-81E0-7199377A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5CD21-580D-44A2-BFDB-E5AEF563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29A2E-1339-4829-9B50-047BD50F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E93B1-C7A4-4854-B019-03899040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4FDE3-AFC8-4450-87B0-5301188B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767-6F32-4F63-A631-67025C95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C294E-7339-42C4-B573-4E6594B7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B2B68-7570-4C43-9DDD-53BCCA68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DC925-3FB9-4A58-953B-95627DCE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B1B92-46AB-49D5-AB38-031E114C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03498-9EA3-44DA-AC4A-C880C3E8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338B5-9A51-4214-B301-6F8BA079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40396-C636-4A28-BA12-E0EA12ED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48887-2F8F-4EE5-9105-0197DF1F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4B15B-A3A7-4590-8BB5-E73F8D8F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566E2-1CA8-44C7-9A48-378B973D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05C-460D-4D18-9BE4-9F9F2E26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3B976-8FB7-4193-8D3B-4292453B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1B0A0-182E-4843-9394-281A51DA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6E879-088F-4EE7-BD77-137E648F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903E6-5CA5-4571-9073-F1F6EAC4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1DCF1-128A-4C83-B2B3-8044C67A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1CAC8-7ADA-497B-AB44-30C84548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75955-2394-4E1E-96AB-07B37E16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55DC0-087E-4A5C-8049-9EF4179D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9D9CF-F75F-4272-BF9D-1152FCA3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48411-C106-4448-929F-6146A5AB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9A9-BE76-46F0-B981-6BD4F33D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BB29B-B34A-4E41-86F2-C862D3F9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229EB-2367-46E8-BA15-B928C924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7C88C-5D8B-445F-8E41-681887FF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6F02A-8A07-4203-BAB4-72A0E6A9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6639F-435D-42CB-B373-61DB3567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37EC0-7668-4210-8526-3F98A8F3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D038C-CFAE-411B-8AEC-2D0D0400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BC51E-3DAB-4246-9228-A09F9B75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E5216-6B35-4D78-AC42-CAC59D18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A897A-1B81-47FB-BF1C-B2B94D7E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F73-A006-4056-BDA2-4B11B9E2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DC773-7F9B-40E9-9B69-DF4A4EF0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867CB-EE9F-4A3D-9714-123C856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1D744-A58B-4163-9DF0-21BD639B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E89FE-AE69-4C73-92EB-A9A2B617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2FCDF-18AC-4699-A9BD-6C1CA603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9AB2E-0368-418A-865F-FDF4F68A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DF70E-3FB8-4BD7-A1F3-C16842A1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0A00D-DA16-4EAF-86DC-334B6D33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98FFB-363D-4D80-946F-3D5508A9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D89D3-0E35-4644-83B3-B20ABB31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60B4-90CE-4C11-A51D-D2077CE2DCB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FD79-867F-4F4F-BFEB-2C4BF2DCA1D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7155-7DDA-4579-AABF-379B76A40D0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240B-10B1-497D-807C-25E9076CBAD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8A56-D533-4A86-97A8-C56676A31A3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D3C4-4D97-4AB0-8CE5-ACA3768568E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5828-CF6E-48AE-88F2-06BBCD468DD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88B0-AD06-450B-8667-23584A8E14B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5917-4559-4276-AAB4-BA807097FD4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-128520" y="450720"/>
            <a:ext cx="9212040" cy="2524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2786040"/>
            <a:ext cx="86868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тельская работ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полнил ученик 3В класс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ОУ «СО школа №14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кунин Серге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4572000" y="2857680"/>
            <a:ext cx="407196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2139840" cy="1714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285840" y="4714920"/>
            <a:ext cx="2143080" cy="1717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4"/>
          <a:stretch/>
        </p:blipFill>
        <p:spPr>
          <a:xfrm>
            <a:off x="4857840" y="3214800"/>
            <a:ext cx="1871640" cy="1500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"/>
          <p:cNvPicPr/>
          <p:nvPr/>
        </p:nvPicPr>
        <p:blipFill>
          <a:blip r:embed="rId5"/>
          <a:stretch/>
        </p:blipFill>
        <p:spPr>
          <a:xfrm>
            <a:off x="285840" y="3071880"/>
            <a:ext cx="2143080" cy="1635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"/>
          <p:cNvPicPr/>
          <p:nvPr/>
        </p:nvPicPr>
        <p:blipFill>
          <a:blip r:embed="rId6"/>
          <a:stretch/>
        </p:blipFill>
        <p:spPr>
          <a:xfrm>
            <a:off x="2428920" y="4714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"/>
          <p:cNvPicPr/>
          <p:nvPr/>
        </p:nvPicPr>
        <p:blipFill>
          <a:blip r:embed="rId7"/>
          <a:stretch/>
        </p:blipFill>
        <p:spPr>
          <a:xfrm>
            <a:off x="4143240" y="47149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"/>
          <p:cNvPicPr/>
          <p:nvPr/>
        </p:nvPicPr>
        <p:blipFill>
          <a:blip r:embed="rId8"/>
          <a:stretch/>
        </p:blipFill>
        <p:spPr>
          <a:xfrm>
            <a:off x="2428920" y="1357200"/>
            <a:ext cx="2428920" cy="33721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"/>
          <p:cNvPicPr/>
          <p:nvPr/>
        </p:nvPicPr>
        <p:blipFill>
          <a:blip r:embed="rId9"/>
          <a:stretch/>
        </p:blipFill>
        <p:spPr>
          <a:xfrm>
            <a:off x="4857840" y="135720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0" descr=""/>
          <p:cNvPicPr/>
          <p:nvPr/>
        </p:nvPicPr>
        <p:blipFill>
          <a:blip r:embed="rId10"/>
          <a:stretch/>
        </p:blipFill>
        <p:spPr>
          <a:xfrm>
            <a:off x="6786720" y="3214800"/>
            <a:ext cx="1990440" cy="1500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"/>
          <p:cNvPicPr/>
          <p:nvPr/>
        </p:nvPicPr>
        <p:blipFill>
          <a:blip r:embed="rId11"/>
          <a:stretch/>
        </p:blipFill>
        <p:spPr>
          <a:xfrm>
            <a:off x="7715160" y="1357200"/>
            <a:ext cx="1076400" cy="1857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2" descr=""/>
          <p:cNvPicPr/>
          <p:nvPr/>
        </p:nvPicPr>
        <p:blipFill>
          <a:blip r:embed="rId12"/>
          <a:stretch/>
        </p:blipFill>
        <p:spPr>
          <a:xfrm>
            <a:off x="6429240" y="4714920"/>
            <a:ext cx="23576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3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714240" y="1285920"/>
            <a:ext cx="2571840" cy="1714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56760" y="4643280"/>
            <a:ext cx="8634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Древние люди могли определять время по солнцу в дневное время. Тень от предмета перемещается, когда источник света, который освещает предмет, тоже перемещается. Узнав эту особенность окружающего мира, люди научились определять время. Они сконструировали первые солнечные часы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3"/>
          <a:stretch/>
        </p:blipFill>
        <p:spPr>
          <a:xfrm>
            <a:off x="5857920" y="1143000"/>
            <a:ext cx="2714760" cy="2819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"/>
          <p:cNvPicPr/>
          <p:nvPr/>
        </p:nvPicPr>
        <p:blipFill>
          <a:blip r:embed="rId4"/>
          <a:stretch/>
        </p:blipFill>
        <p:spPr>
          <a:xfrm>
            <a:off x="2786040" y="2500200"/>
            <a:ext cx="342900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285480" y="5000400"/>
            <a:ext cx="870588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ночью решали проблему с помощью своеобразных часов: внутрь колбы насыпали песок, либо наливали воду. Песок высыпался через маленькую дырочку. Колба пустела, значит прошло определенное врем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5232240" y="1285920"/>
            <a:ext cx="3911760" cy="3395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3"/>
          <a:stretch/>
        </p:blipFill>
        <p:spPr>
          <a:xfrm>
            <a:off x="2786040" y="1214280"/>
            <a:ext cx="2214720" cy="3500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"/>
          <p:cNvPicPr/>
          <p:nvPr/>
        </p:nvPicPr>
        <p:blipFill>
          <a:blip r:embed="rId4"/>
          <a:stretch/>
        </p:blipFill>
        <p:spPr>
          <a:xfrm>
            <a:off x="285840" y="1214280"/>
            <a:ext cx="22780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5:01:03Z</dcterms:created>
  <dc:creator>Аля</dc:creator>
  <dc:description/>
  <dc:language>en-US</dc:language>
  <cp:lastModifiedBy>Аля</cp:lastModifiedBy>
  <dcterms:modified xsi:type="dcterms:W3CDTF">2013-03-19T15:38:35Z</dcterms:modified>
  <cp:revision>16</cp:revision>
  <dc:subject/>
  <dc:title>Такие разные часы</dc:title>
</cp:coreProperties>
</file>