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879-64C5-4277-9324-9364FDE5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0E9-E411-440B-AD7E-9DA6749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6E0A2-68E5-429B-8022-30DCBCCF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9014A-66B9-4147-896E-093DF4BD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C6858-EF5D-4303-808A-43E4E5D0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73896-A343-47A0-891E-7AE4BE5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959BF-EF8E-484F-AFE3-478CD0EE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A3DB9-218D-4A6B-8628-EE786DC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DD904-84F2-44CD-8BA1-008C67A9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3B540-7131-46F2-BD5F-182A1882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ADBAB-9CE4-4CAC-995F-C1A9FC91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44A-2E66-481E-9ED8-70C4FDA3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743-8891-4B28-9EF1-0013AB27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86B8-1964-4DA4-B50D-C70541E5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C0E4-89B6-40C2-8AFB-3F776D26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9704-05B1-4B91-8059-DB4E5B28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5612-4422-4E28-901C-26BB3390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CB14-208C-4239-A285-2B096EF5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0CD-B89E-45F1-8DE1-B3AB1A47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5CEB-48B9-495F-8EAA-50104E1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CDA-AE26-43EF-AE60-A0D386C8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EC42-B2E8-4B82-AF3B-ADB6132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212-718C-4891-AFAA-2A6CF56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8A13-6A06-4FBB-88FE-C067A640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F388-25DC-48AF-AD4A-78705D73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F0EE-CCED-4E82-81EB-4900B43B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B10B-1636-43A6-87D3-E8C62621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7842-3A08-47B5-8D26-D35AC61E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2810-9D35-4D54-9703-FDB0E46D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B2D4-D82E-4A6A-9259-AE2B677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EA43-AA92-4146-B320-F43F4A75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8E6-DA14-405F-A605-B0B7DD80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20EE-A06F-42CC-B79A-78542158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8D95-4D9F-4254-A914-5DF6AE2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F9CD-2AD2-410A-9861-E5AEC51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42C4-5905-4D6D-82DA-AD4F068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5976-6E79-4A69-965A-5C14B58B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C58A-0537-466C-A8CF-22D087CF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AB8B-50AF-4A70-982B-B72687B1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FCCB-D85D-485C-826F-4405EE29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3BCC-BEAD-407E-83DA-E4752808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B962-48D2-4D2E-8139-D219DDA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C60-E301-4C39-93E5-D1A3EF44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873A-D743-4189-A0E8-5DD6C165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B81F-D51D-47E9-84E1-164A3EBF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23AED-28E4-4488-8987-4BE881E3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4381-514F-419D-A73D-634600C2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06F6-E65A-4BD1-ABC8-B6F12FF1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FBA64-31AF-4B9F-8506-1DD3791A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4ACB6-4BA2-4218-B893-695A2CB0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8B59A-276C-488D-8E2C-C8CA382C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9D0CE-277E-4174-874C-C6F7F25C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640AD-C1BA-4EA2-9F17-C99F0388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E1F-1A90-4A1A-873F-53877E63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66C9F-2A51-4842-BFBB-6791C42C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336BE-90A6-4AF6-9691-5BA4E1F0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37E75-FE6A-47E3-843C-672F039F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775F8-F3D4-4B85-81F9-29F9E8C8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A0A5-5077-4606-BAD2-3D41A21B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B868-BF63-435C-BC9F-5730B796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3C03-425F-4C77-B798-868F259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120AE-3151-43BF-8BCE-32F30237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FAF4-2414-42D9-B6DA-27EDE20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24895-8A64-44D3-9B17-B07B7A4C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00B-3340-4D91-8672-6A09119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3BB0-AE8E-4F89-9F09-4569E215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FDE4-9124-434C-9321-72A1D8B0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B515B-3007-4D27-963B-CBB4B669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6C94E-CEF5-46FD-B993-C61B4D9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DF1A4-AB92-46AA-9E46-8A3186E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B37E8-8FD9-4D94-8127-D6B4938D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0517-5A94-4961-A8BB-DE7CD9AF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1E8D4-804C-4D58-941C-7354CA00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C4D1F-7BE2-40C7-A6C9-7EE05D35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A377E-A97F-43CE-92E4-5E495E9F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5FE-91DE-4EE4-97B5-96375844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8853-BE4D-4DDD-BFB3-D27B3438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1A16F-973C-4B9A-93D3-951B9BA3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7626-0BD8-4984-8707-4833457D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E198D-6F93-4B84-9FEC-F6D5FEF2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21F35-D4DF-4D41-8666-EFCABEB1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2D881-FBC3-4908-A8C8-37B20678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D5C0-B7F3-42F3-B5FD-4AFDB068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9615-0E2C-417E-B2D7-A5B7F4F7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4D86D-33F4-412E-9610-FA98FF02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B5C2-763D-49F3-8B87-2668074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912-DE8C-4BFE-8022-DDEF3C11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720B7-2328-4BA0-A3F2-DB73E56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A6BE2-B8C2-4AE5-A6D8-463D38C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BBC15-58F5-406A-81BE-5E3B4E0F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0EDD-1408-4388-A685-5966C7AF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96E1-9F64-4457-A596-405676E1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35188-619D-48C8-99D5-B9E8A05D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98269-7D09-4FFF-85E4-A9C3685C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173B-F25F-4D16-B4A8-E043FBF7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B559C-E7EF-4E7D-9338-B93F8E3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004B-C531-43C2-A55E-9616AC9D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C3F-E4A3-466F-902E-280CA946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A8C0-BC22-414F-B814-44BF238C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73A0C-84C7-4CB9-9C00-4B11905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92E09-7C4B-47BA-9DD7-3640FA4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5D9A0-5B43-42AF-A372-C3D96BB1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8B03C-03BF-4FA6-99D5-F32C11C3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3456B-6430-403D-B987-41BDC608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5017-8DE8-4C2B-9592-2ED5E9E7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038B2-3ABD-4F74-9626-E0E9FA56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89B55-3539-4BAA-BC8C-40A36E8C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D8E9B-0F94-4EDD-9E91-9AC3F9AD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5B21-9C60-4089-91EA-8836F1B088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28DC-895B-453D-A683-2D53662738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417C-12CD-4119-B7B1-98721A9B49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8985-FC7D-4F64-9B3C-E41A881611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CCDD-9635-4C53-BABB-0FD9E52149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AAC4-9343-4190-A52D-772F156A7CB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C26-7504-471B-A3A4-E991F466221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CFB-13B9-47AD-B305-87ED207A02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0D2F-1C04-4300-83EB-158A8F060DB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864640" cy="1408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85480" y="4357440"/>
            <a:ext cx="87058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Для изготовления песочных часов мне понадобилось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Две маленькие бутылочки с закручивающимися крышками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Клейкая лента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Сверло (3 мм)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Соль мелкая «Экстра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Приклеил две крышки друг к другу. Папа проделал в них отверстие сверлом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Насыпал соль в одну из бутылок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Прикрутил  крышки к бутылкам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Franklin Gothic Book"/>
              </a:rPr>
              <a:t>В зависимости от количества песка я отмерил 2 минуты песочного времени</a:t>
            </a: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428760" y="1143000"/>
          <a:ext cx="7000920" cy="36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143000"/>
                    <a:ext cx="70009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5:01:03Z</dcterms:created>
  <dc:creator>Аля</dc:creator>
  <dc:description/>
  <dc:language>en-US</dc:language>
  <cp:lastModifiedBy>Аля</cp:lastModifiedBy>
  <dcterms:modified xsi:type="dcterms:W3CDTF">2013-03-19T15:42:31Z</dcterms:modified>
  <cp:revision>18</cp:revision>
  <dc:subject/>
  <dc:title>Такие разные часы</dc:title>
</cp:coreProperties>
</file>