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981-8E81-47B7-94E5-4B78AA3D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53C-3702-42A5-9A1D-8F49FA6A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6E284-63C8-459B-8AAF-25BB1696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E16E9-A782-4A43-8107-DD935FA2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06BA1-3498-4E1E-9EEA-28A2FF18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0F760-7CAF-4755-9FEA-AEF3D1F2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06D92-AE34-40F9-A749-496B7493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4D6FF-D7CF-476B-96F3-5071CAF3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F7AE6-851F-4286-AD70-1F924989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C83DA-DD42-4E42-AC3C-C84E454A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C4FAF-8427-4B97-A191-E42F161D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FEB-4C9F-4BA4-A541-2C5CFC1B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F8D-722D-44CA-934F-6ABE3110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D71B-87D7-47C5-B5F4-F4F09579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94E5-3A8D-40EE-BC86-DB021917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AD86-7992-4E82-888F-53C82AAC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63B4-1E6D-483F-91FB-96C86F83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AE3A-271B-4A77-BF8C-139836EB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199C-8681-4B4A-8CBA-77E0698C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AD68-6F37-4BE5-BA1F-BDFB5A20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C33-7860-4CD0-9EE6-EF2BF011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E91F-F981-42AF-A667-86083285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FFB9-584D-4090-81D0-6B5CC487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1A80-78CB-4B68-AF7D-8B1FF5F6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6AC4-D273-4E83-82DD-7D382AD7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C884-66E1-4638-BB2B-4C7BBA4A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F6D1-43FF-4E41-8448-C9C7EEC9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19A0-2D6F-4C8E-8261-0CDCDEBD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67FC-E8D3-460D-AEE0-422DA7F0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C74C-2BB9-45DB-92D9-488DD7CA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FA85E-301E-4F88-8FF1-BF954F78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A6C-D359-4CD4-9A64-B1A7A663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2D85-A923-408E-B803-6B92CC1F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68883-2D08-4BCD-9754-AF07EE5A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65EA-17AC-4D0F-8780-37E1A591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B769-15DA-415F-885D-F4C0DA79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32FD-0ABB-4515-89E0-EAF49D97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04651-CEF0-4967-A3A9-E584D4FC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ACC1-8855-4EB2-86CA-2E2B8293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14FE2-8C9C-4429-A75E-DA920372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6379B-AE05-4C5F-BCC3-04E00057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51AFD-7CD3-43AE-9D37-ABCD2D56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F4E-D8A3-4A1E-AB8D-2D321E3D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5FC6-68CF-4579-945B-F97B2290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B1874-5AFF-498B-81F3-39FF0365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6476-E501-45CC-BE01-B35280A4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77BF-03D8-4144-8701-663263BD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B5793-493D-4F9D-8A03-F39B047B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99951-DF99-4F8F-83C0-744FFE5C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D728-C975-44A9-9BA5-369F1B9D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A078-8E24-4547-8DC5-CB9A31E3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93B72-C4FC-441B-B2E5-24948EFF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F948B-29F3-46D1-92DF-006B2FAE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004-CEC0-4D32-94F2-4377560F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D8F13-B3EC-4C33-AED9-1356A922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565E8-8A52-4558-9BED-333F6C64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D838A-6879-4955-A2F3-9461A087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BDE81-F932-42B6-A300-4C6CF7FC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82EF4-E907-4F23-8D6D-3BB77987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BA1E-DE4C-4B66-A917-9EA86F7C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32984-8EFD-4FEA-AE5C-40EF713C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B1EF5-C4E5-45F1-A3C2-5C822067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49AF5-83F9-43CA-916E-4A5691C1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4FD98-DFF0-4C9A-9C53-0E47FC77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8F7-5529-45DA-A423-6C72BB40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5FF4-BC64-4179-9A4F-91E2669E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A05F8-9916-4787-9EE5-96501837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7369-42F7-4432-A4F2-28AB9B52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6AA33-2048-490F-ACE2-DC008FD4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F2B1F-923F-4509-A429-8134AEFC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90341-965A-4980-B070-3DC40DDE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3D30C-6C33-4D2E-9FE8-C2971B6F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7EEBF-8867-4BED-A758-D625F5F0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4DA60-3357-425A-96B4-83E63C9E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4B407-D453-4EB3-A4F5-5826A305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982-E3EE-4A0A-BCDC-6810145E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DA32A-D13F-400D-AC22-6AB1F323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64CA2-7C6C-42E1-AB90-1178A24B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7B3D2-3152-4A8E-9303-94AE85DD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6A145-AEE7-43DB-8D0E-DCAEEE58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CD1D9-6527-4458-9F4B-B88AA21F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10AC4-CC64-4A79-8D58-37D77413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81C0C-D155-4C29-AE4A-04E4D90B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A83DF-CAD1-4B7A-986A-9DD798CF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564FD-3514-4FFD-B02C-FDBAE3F6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B8309-AA7C-4491-A6CD-214DEDC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AEF-E638-40D5-968F-929B9FCE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2CF19-973A-41D4-992E-6E38A11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18F50-F9FB-45BE-AEFB-9E3F1FEF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E74B2-DBA7-446B-A863-8C0929EB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938B3-D88E-4874-B496-9D3C03DF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2F94F-116E-44B3-8451-23B2B541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16738-281A-42DC-AC88-54EC7246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2B8D4-E609-495A-B464-F1C0F890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BF24A-6BFE-4ABC-B58D-1271CA3C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6AFDE-9B17-42F4-A6EC-5A6CDF6B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50F3F-C00C-4AC0-B3C3-53060091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759-A2E6-41F2-9990-86CD39D4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5B02D-073E-4003-92A4-6282AABF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B7CDB-39DD-4943-9ACC-05D05FF9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30230-EA89-4E37-B00E-6510C17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B896A-B077-47AD-852F-E272CE0F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06AF4-66D4-472D-B7A7-E3C95BAE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58309-5DFA-40BF-A6B8-A28C512B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3AE4C-A402-4525-AA81-20CB1C37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4AFF7-6AE3-425B-9023-645704CC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342A1-EC8F-46DB-BB79-2851AD90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D7467-73CB-46AB-9BCF-F0B0D0CC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8816-4121-45D5-9557-A0432ED3253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375F-8B20-4B98-915E-16BC156AB5E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A3CA-BF54-44B6-A787-D5A320CE96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E63F-3D79-4411-A568-B7D3AEE028A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0D71-2885-41B3-A6BA-DFB5864AE20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E740-B972-4C09-BB8C-9B6CEB8DFC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EA83-85D5-404E-A0E6-6462E80471F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E86A-346E-4297-B822-03117F6636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AD5B-1671-4DC5-B66F-3CF146B420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864640" cy="1408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85480" y="4357440"/>
            <a:ext cx="87058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Для изготовления песочных часов мне понадобилось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Две маленькие бутылочки с закручивающимися крышками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Клейкая лента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Сверло (3 мм)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Соль мелкая «Экстра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Приклеил две крышки друг к другу. Папа проделал в них отверстие сверлом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Насыпал соль в одну из бутылок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Прикрутил  крышки к бутылкам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В зависимости от количества песка я отмерил 2 минуты песочного времени</a:t>
            </a: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428760" y="1143000"/>
          <a:ext cx="7000920" cy="36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143000"/>
                    <a:ext cx="70009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5:01:03Z</dcterms:created>
  <dc:creator>Аля</dc:creator>
  <dc:description/>
  <dc:language>en-US</dc:language>
  <cp:lastModifiedBy>Аля</cp:lastModifiedBy>
  <dcterms:modified xsi:type="dcterms:W3CDTF">2013-03-19T15:42:31Z</dcterms:modified>
  <cp:revision>18</cp:revision>
  <dc:subject/>
  <dc:title>Такие разные часы</dc:title>
</cp:coreProperties>
</file>