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wmf" ContentType="image/x-wmf"/>
  <Override PartName="/ppt/media/image7.png" ContentType="image/png"/>
  <Override PartName="/ppt/media/image8.png" ContentType="image/png"/>
  <Override PartName="/ppt/media/image12.wmf" ContentType="image/x-wmf"/>
  <Override PartName="/ppt/media/image13.png" ContentType="image/png"/>
  <Override PartName="/ppt/media/image9.png" ContentType="image/png"/>
  <Override PartName="/ppt/media/image11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7587-37A8-4A74-B15C-4105D4D17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D7C3-111E-4400-919A-617E83E38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925149-D3B4-4834-98D6-02659C5CC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9901E7-2D22-4600-BC8D-88BBDEFB0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A9511A-5F8B-43F6-A753-8ADDC5C61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BE1ABB-6B65-42EB-9D2D-353422544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1AE775-2C8B-4F32-A12B-4CEE791F1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1B3B73-6750-4C72-BF24-D668CB487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403892-7176-4CB0-92E7-C3CCD3361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BF6E55-85A1-4FE1-B62E-FE38F257E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533365-8525-4AD8-B2D8-CABCCB1E8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933D-5D27-4071-9302-76324D08E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B48D-A468-4A50-A0EA-A43E86275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2C67B-6226-42D5-864E-D48369905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12C70-6605-4672-9BE9-D5923487F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4BE7C-273E-4677-9707-271311D1F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09759-199E-4827-A5B9-94F3B9B45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36117-A602-41D9-BF5C-D1AB6D667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AD985-1A50-4402-A3EB-6AE714EC2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15E2D-2209-4148-B459-F31020445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9D1D-9838-427B-A23C-D5BD2F940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5E325-9B4C-4C88-99B0-6F6E7CEF2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D3158-4811-43AB-A429-98D1D099F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F3C30-8BEC-4460-AC22-699C1B393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F8BE3-04C6-4B65-B087-4983B0F0B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D490E-E101-4939-8D54-170170DA6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DDD4B5-207D-4C78-80D4-66506445C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0321DE-E73D-4E9F-AFC2-DA75EE2FD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F46CB3-C088-44EA-9B76-DF6E2B991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0E6DEC-A619-4591-B577-844D50306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6FD7AF-CCDC-422A-A514-1D90FFA9F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3029-2BB0-4991-808C-CB0DCD308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7F2F3F-9735-4D22-8E53-8C02A5CEF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1D155C-1644-49AA-9114-234A45037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834898-2BAC-4788-9786-B6291492B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D52957-474A-495B-88B9-9CCB379E7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52B40F-168E-4DD0-A428-83DCC4F9F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853901-1004-4802-AEAC-0931152C8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0B90E9-6275-4A26-80F0-9A2597BC3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26AC02-E459-4033-8EE5-932089189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93FEF0-1626-482C-BFD4-3B0C81F1D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A71EE6-FC81-4D60-85BD-773F4590E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BFD7-101F-4E2D-93E1-6A0C2F972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A81554-77F7-4910-93F7-2BD400C40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46D3A3-8966-49F5-9E44-B6B6FDE00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847A9B-D68F-498B-90DE-E4E24E616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2DB740-F976-4869-BC8E-EDE5F242B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9A484A-4DC0-479B-BD22-44E238C6C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054D29-1504-4071-A191-12FFD1B83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837460-8C41-406B-A013-3FBBA2891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70619C-4C45-4E84-B98B-79C67B632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617E5E-95E9-4D66-9DF0-180AFC9F8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E3EB46-F6B6-4D63-9099-17B85522D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1A07-AAD3-4A47-A482-91AEB6E3F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537933-DC1B-4753-8316-A645E8F34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505062-0BBA-4AE1-AFCD-A5C970399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FFCB45-2275-478F-9D3E-63ADEB48A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705A4B-405E-40A6-BCAF-8E4774B1E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986C80-5E8C-40EA-9B0F-1AAB73290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CCB790-2DBD-4913-AAFA-A4CCC593B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2873CA-CE4D-4390-85DD-7A0190BFF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DA008C-4134-418C-B1C6-2284B679A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AED282-C574-4236-AFFE-216BADF02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9D7546-FED7-4DD4-AEC2-FD75572E9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A02D-497F-4808-BEC0-3284CB29B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1FD33A-573E-4988-B25E-941ED4003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784028-C8D3-481E-BE43-6610D0EB2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0E61A1-498D-4FF9-BE99-81DD9FE41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621FB6-BF2F-4594-8209-DAC82CAC0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C27CE4-295D-45F9-B694-7293612F7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56DC18-66C0-49E3-9865-57D6D8FF0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EE366F-E651-4D86-89A1-B41C046FF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22D3E6-E2D6-48ED-A988-06ED11367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80F34A-AE95-4B2B-8A25-F6AC2C82D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E78A1C-9993-4395-AAC3-46E6FE11E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72E3-730C-47A4-A226-27C81553A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9F78C1-6AF5-45C8-913B-1437FE560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D3F052-4C66-4D4C-8C78-8FB111587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487BDC-1F09-4AB0-8CB4-274F4C474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1CA652-E185-428D-A331-23CB8935D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FC84E3-31A9-473C-B12A-4CA0B26A6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B36617-42A6-48A7-B3F9-E5213C00E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328550-163B-4681-985C-2C5A2E062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A5949D-5341-4ED3-A18E-D73C719F3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A374E3-4AB5-4C4E-9174-4DDB17A79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2DD2DE-848E-45E7-9687-520A80E04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17E1-5193-49ED-95F5-2BE86EA91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B347AA-C304-4294-9482-DEEBF69A5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E044CC-EB2E-4FDA-AC62-79A0754D1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B56C47-911B-4682-A492-0B776677C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0B5A53-BF69-4C8D-8130-2B83956C2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639904-7803-4FC5-A573-6CD7F2B94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9151D7-00C9-49E2-9B5C-6461EA48C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507288-885A-4D39-BB8F-880B6A120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9CC653-4A01-4476-9D70-0294934DD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3FC7AD-B559-41D7-8687-5F85638AC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7B4955-E17E-4EBE-A506-6B156ADBE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F938-2D22-4206-B8E0-51FF35803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9F0222-B24A-4718-BA77-C0FF28E81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49731F-CE17-482D-BB4C-6329F5C14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4F5BEA-1767-46B5-B2B4-5DCEDBFF1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2452C1-D8E0-4B42-864B-DD5ECF455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FA0FF2-E388-4143-9E27-7C751EA27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1FF06C-7412-430B-A059-B25E8E973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222707-2F77-4045-94E5-96394294B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39A360-DF8F-493A-928C-DB0CA966A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7C81ED-3952-4AB0-B3DD-3370A44B1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20F699-C8CF-4D35-8E73-D83D758ED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CD18E-D0DC-41D8-AC07-52343A8D02E5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71574-B2D9-47D6-900C-46CB3E6C60C6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D6E5A-DF94-4A98-A6F0-F9694136E93A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0BBA0-BD4C-4C8C-867B-B61F7B223C45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61B7E-D6DA-43FE-8A99-5F6E03435A40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B599A-4999-4972-860A-6DC5A5877B0C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687DB-A190-4E8A-BACF-7BC8F52A553C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759BD-CA4C-4B4F-9A25-FFE195F6A015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B3E06-2CBF-452E-BE31-94D9B3092D56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Заголовок 1" descr=""/>
          <p:cNvPicPr/>
          <p:nvPr/>
        </p:nvPicPr>
        <p:blipFill>
          <a:blip r:embed="rId1"/>
          <a:stretch/>
        </p:blipFill>
        <p:spPr>
          <a:xfrm>
            <a:off x="133200" y="317520"/>
            <a:ext cx="8864640" cy="140796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 txBox="1"/>
          <p:nvPr/>
        </p:nvSpPr>
        <p:spPr>
          <a:xfrm>
            <a:off x="285480" y="4142880"/>
            <a:ext cx="8629560" cy="229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Для опыта я взял две свечи и несколько бусинок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Каждые 30 минут я  отмерял, сколько сгорело свечи, и делал отметки бусинкой на целой свечке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В результате я получил восковые часы с интервалом времени 5 часов.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graphicFrame>
        <p:nvGraphicFramePr>
          <p:cNvPr id="401" name="Object 5"/>
          <p:cNvGraphicFramePr/>
          <p:nvPr/>
        </p:nvGraphicFramePr>
        <p:xfrm>
          <a:off x="428760" y="1571760"/>
          <a:ext cx="8265960" cy="2500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02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28760" y="1571760"/>
                    <a:ext cx="8265960" cy="25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571320" y="4214880"/>
            <a:ext cx="8420040" cy="210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    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Египетские фараоны узнавали время по уровню воды в большой колбе с отверстиями. Часы были распространены до конца средневековья. Позже стали использовать песочные часы.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5" name="Picture 2" descr=""/>
          <p:cNvPicPr/>
          <p:nvPr/>
        </p:nvPicPr>
        <p:blipFill>
          <a:blip r:embed="rId2"/>
          <a:stretch/>
        </p:blipFill>
        <p:spPr>
          <a:xfrm>
            <a:off x="714240" y="1214280"/>
            <a:ext cx="1928880" cy="269568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3" descr=""/>
          <p:cNvPicPr/>
          <p:nvPr/>
        </p:nvPicPr>
        <p:blipFill>
          <a:blip r:embed="rId3"/>
          <a:stretch/>
        </p:blipFill>
        <p:spPr>
          <a:xfrm>
            <a:off x="3429000" y="1285920"/>
            <a:ext cx="1714680" cy="268452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4" descr=""/>
          <p:cNvPicPr/>
          <p:nvPr/>
        </p:nvPicPr>
        <p:blipFill>
          <a:blip r:embed="rId4"/>
          <a:stretch/>
        </p:blipFill>
        <p:spPr>
          <a:xfrm>
            <a:off x="6143760" y="1285920"/>
            <a:ext cx="195732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Заголовок 9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 txBox="1"/>
          <p:nvPr/>
        </p:nvSpPr>
        <p:spPr>
          <a:xfrm>
            <a:off x="285480" y="3357360"/>
            <a:ext cx="8705880" cy="296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Для изготовления хронометра мне понадобилось: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Две баночки с закручивающими крышками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Суперклей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Две соломинки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Сверло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Склеил  две  крышки, папа проделал два отверстия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Вставил и зафиксировал две соломинки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Наполнил банку водой. Вода перетекает из одной банки в другую. Я зафиксировал 1 минуту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graphicFrame>
        <p:nvGraphicFramePr>
          <p:cNvPr id="410" name="Object 6"/>
          <p:cNvGraphicFramePr/>
          <p:nvPr/>
        </p:nvGraphicFramePr>
        <p:xfrm>
          <a:off x="357120" y="1357200"/>
          <a:ext cx="8515440" cy="2357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11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7120" y="1357200"/>
                    <a:ext cx="8515440" cy="23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Заголовок 4" descr=""/>
          <p:cNvPicPr/>
          <p:nvPr/>
        </p:nvPicPr>
        <p:blipFill>
          <a:blip r:embed="rId1"/>
          <a:stretch/>
        </p:blipFill>
        <p:spPr>
          <a:xfrm>
            <a:off x="42840" y="371520"/>
            <a:ext cx="8955000" cy="138420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 txBox="1"/>
          <p:nvPr/>
        </p:nvSpPr>
        <p:spPr>
          <a:xfrm>
            <a:off x="356760" y="1554120"/>
            <a:ext cx="8634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        </a:t>
            </a:r>
            <a:r>
              <a:rPr b="1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время можно определить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        </a:t>
            </a:r>
            <a:r>
              <a:rPr b="1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не только с помощью часов,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        </a:t>
            </a:r>
            <a:r>
              <a:rPr b="1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но и по солнцу,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       </a:t>
            </a:r>
            <a:r>
              <a:rPr b="1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с помощью свечки,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       </a:t>
            </a:r>
            <a:r>
              <a:rPr b="1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по уровню воды в колбе с отверстием,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       </a:t>
            </a:r>
            <a:r>
              <a:rPr b="1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песочными, солнечными и водяными    часами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80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340"/>
                            </p:stCondLst>
                            <p:childTnLst>
                              <p:par>
                                <p:cTn id="4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80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260"/>
                            </p:stCondLst>
                            <p:childTnLst>
                              <p:par>
                                <p:cTn id="4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80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780"/>
                            </p:stCondLst>
                            <p:childTnLst>
                              <p:par>
                                <p:cTn id="5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80"/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3420"/>
                            </p:stCondLst>
                            <p:childTnLst>
                              <p:par>
                                <p:cTn id="5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80"/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4660"/>
                            </p:stCondLst>
                            <p:childTnLst>
                              <p:par>
                                <p:cTn id="6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4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4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80"/>
                                        <p:tgtEl>
                                          <p:spTgt spid="4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8T05:01:03Z</dcterms:created>
  <dc:creator>Аля</dc:creator>
  <dc:description/>
  <dc:language>en-US</dc:language>
  <cp:lastModifiedBy>Аля</cp:lastModifiedBy>
  <dcterms:modified xsi:type="dcterms:W3CDTF">2013-03-19T15:44:11Z</dcterms:modified>
  <cp:revision>15</cp:revision>
  <dc:subject/>
  <dc:title>Такие разные часы</dc:title>
</cp:coreProperties>
</file>