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66A-99A6-4EDD-B2BF-95C0EB5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E56-86A6-4BCE-9076-5CCA31F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A2850-0FDE-4645-A286-7223398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3DDA6-4EC7-4134-BEB2-3E8946D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E1EB8-2A70-4C13-BFA7-5F06E30B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E02E3-B6BD-4A42-B5D7-89ADD51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5F564-3A7B-44D7-8359-13DD31B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50D46-927E-459D-AD3E-5C0DBCA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D72E-9ECA-47D2-A737-5829268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A19C-97BD-4BF8-8D28-7F9B023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CC5D5-3185-4F40-A5F2-C7788EAA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195-1F71-49CD-BFEF-500B99FD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8A2-B363-4974-9B8A-DDB7104A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5EA8-970D-4257-8D56-00B39AD5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E377-163C-47AF-AB36-5B1EDD64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DE8-B170-41EB-8ECD-B24FDAA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4D6-9023-4455-B1A0-B1C48754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6F0F-1749-4BFC-8BC5-49896400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120-0A63-4186-9CBC-DCEA884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1521-3326-4C6C-853E-3B2B2CA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A30-D761-48ED-9BA4-8457B7B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47C-A77B-4338-8DFD-978E6C5D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5B4-6312-4FE4-A292-A792114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0F6F-0BD7-455E-8676-3570C6D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3F3-4A91-4050-8350-213692D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031E-A5DB-41F3-BA7D-91A0191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9D9C-8BC3-426D-9E53-4A33903F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33FB-8D27-449D-B3F3-7D6F567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B981-0DB9-4B20-A5B9-5FDE621E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287F-C1CE-4810-BDDD-9494ABA7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05B8-4B79-4B23-B4BD-CEEC6EA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2B9-FF54-412E-9CBA-00E62AC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A8B0-0A6E-4AB6-BE41-9983E417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9DCC-3BA0-43D1-95DB-7E3E7E35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7F5E-6892-4E29-9C98-C225A22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F2A1-35DD-4C63-80A7-5954005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95B8-AD80-4C8E-B0B7-7659072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FD5B-0130-4590-BE74-4E666FC8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2F6B-4EDA-4E80-80EA-8D577000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6A0F-9635-4162-B60D-B9A23A4B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2618-E004-4FA3-A2C3-024C61C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40F9-8F18-4DA5-A06D-F37D2254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173-11DD-418D-A4C4-FC050CF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747E-6063-427B-A0B4-21125D0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E718-EDF4-4CD9-B947-AAFED97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6733-9441-40C7-A927-46B07F7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4B7A-8AAE-41C9-86FE-1AE1706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1813-D506-4A3A-B7CD-31C94C3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66F7-5865-4896-9775-50699A0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B47B-3984-43BF-A33A-C39C6180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9D68-AAD5-4B4B-BAC9-719E0E14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C004-3100-4613-B80C-5F4C5E9F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270E-1320-422A-90ED-7C2454B8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0B1-77FB-4C76-88CD-508C32C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DDA8-538D-44EA-B7F1-0AFF59B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5A51-AFC8-4695-864C-658B083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4D20-0BD7-4D98-BBED-CFE52B74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9FE2-9C57-408D-AA1B-9453FFAC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45CC5-23FC-4C86-8E42-9FA0FD38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D75B-D9C1-48CF-92AA-D149B75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15EE-F357-4A60-981E-A533362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FFBD-B946-4B94-B8AC-B42C5A3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264F-4D85-4A21-A05C-C3297C4D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4956-D06A-4141-9AAF-26001720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28A-7486-4E4F-8944-70058AC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5267-5085-4050-B612-384418A8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899B-0BCA-4EA7-8DE0-2C2B39E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AA02-6662-45B2-ADF4-F781E6D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3DBA-3C19-4A90-BA8F-971C3388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DA31-B791-4320-9552-95B3BF75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8CC7-7C47-470F-AE20-4855DF30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A7F3-5643-472E-ABA0-FCE3759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9681-F4EF-4D5F-8449-E4DAC44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14003-D263-41C6-98C9-C55231D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9501-1716-410B-8461-028E872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959-F820-4222-8253-A8AA473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BA04-8CA4-42BF-B715-935B33D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013A-E498-4AB9-8F74-A10C4B90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8E51-2798-4F8D-9F85-E0FE82F4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347E-FDB3-454D-9EBF-3ECA166D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9E3B-4680-4BB0-85E0-DE8137B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BDF4-E46C-4074-90DA-ED469305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EC66B-EEEC-41CE-A10E-577AEFE8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949F-60B0-4023-8B4C-58384E31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8F09-CFA7-49D3-89F6-6CC1119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6AC6-2EAD-4EDD-B4FD-D8CAEC7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DDC-7C7A-4E76-BDCC-E3E15B3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BC774-3DC0-47B9-A06D-201CC89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FCAE-C1D3-4977-B640-03545D1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9D57-E36D-4256-9707-091C309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853C-51D6-452C-8F19-B81BC09F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FBE5-51D5-4560-B61E-5BF2324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60F31-9A67-4DB2-885E-686CE1A7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C24F6-2B52-44B7-882D-005C7B7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F740-6CB1-403D-8BBF-512D4D92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B3836-A69E-4582-A57F-A7002B4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CD67-0400-4D54-B867-D7C5123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2F3-1762-4D28-B64D-EF404FF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B6FE0-2CF7-4AD7-B3B2-C54ABF90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666C-1E08-4AB3-B8B9-568C848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061E-E9DF-468D-9C21-01E8D84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835D-52F5-4E97-94D3-6D1F852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97E5-6FC0-408A-A608-5AF3862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2A16-673A-4084-B050-A88A525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3261-26D8-4640-87D7-0F2640CA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1BAF5-9C69-4D1F-90D4-A8077C13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C8A5B-E43A-4A31-832E-C3C2F9D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E0848-2DDD-443E-BEF7-BF42199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B93-9BAC-4202-B8A6-7682B657E6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11D-6C2F-46F6-B697-DC0C932964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195-9790-4F2B-A21D-F044DBB278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6758-D33B-4F86-808B-51D7D4842D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E47-DA2B-4B63-8BD0-D4D18EB7C8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AA4-57C9-4146-9565-99EA53D151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6BC-7EF1-4482-95C7-E241B19C9A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5791-8ED5-4F88-A1AF-BFC2D0FFA1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ED1-3713-4042-BA48-4C80F1DBA2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8864640" cy="1407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142880"/>
            <a:ext cx="862956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опыта я взял две свечи и несколько бусин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ждые 30 минут я  отмерял, сколько сгорело свечи, и делал отметки бусинкой на целой свечк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результате я получил восковые часы с интервалом времени 5 часо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428760" y="1571760"/>
          <a:ext cx="826596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571760"/>
                    <a:ext cx="82659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71320" y="4214880"/>
            <a:ext cx="84200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Египетские фараоны узнавали время по уровню воды в большой колбе с отверстиями. Часы были распространены до конца средневековья. Позже стали использовать песочные ча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928880" cy="26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3429000" y="1285920"/>
            <a:ext cx="1714680" cy="2684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4"/>
          <a:stretch/>
        </p:blipFill>
        <p:spPr>
          <a:xfrm>
            <a:off x="6143760" y="1285920"/>
            <a:ext cx="19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9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3357360"/>
            <a:ext cx="8705880" cy="29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изготовления хронометра мне понадобилось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баночки с закручивающими крышкам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уперк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ер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леил  две  крышки, папа проделал два отверс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ставил и зафиксировал 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полнил банку водой. Вода перетекает из одной банки в другую. Я зафиксировал 1 минут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7120" y="1357200"/>
          <a:ext cx="851544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1357200"/>
                    <a:ext cx="85154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ремя можно определи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олько с помощью часов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 и по солнц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вечки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уровню воды в колбе с отверстием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сочными, солнечными и водяными    час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4:11Z</dcterms:modified>
  <cp:revision>15</cp:revision>
  <dc:subject/>
  <dc:title>Такие разные часы</dc:title>
</cp:coreProperties>
</file>