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3637-1D43-4CC1-9599-DEA6C7E5B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5F7D-8407-4865-A054-4308C411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1E5C3-D164-4AEF-A95C-9D39C3B8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50C31-E78A-49D2-9ABC-297A2FD2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A199F-9E67-421C-82BC-65AF6C7F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12F1B-07D9-4B70-8389-16B350FC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EA595-C6A7-45C9-8F7F-A70EE8AD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D32E5-5899-418E-8B82-7CFC4AA8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8F015-817C-43B0-B934-F78DE9D3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58BE9-9E5A-450A-8728-8A521F0B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1F216-3FD3-4798-A781-FCC053397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A0F7-E934-4B17-A92B-69051581D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A322-D01B-4D9C-8093-F889138B8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8B8F-F81D-4925-A48D-F32790245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229C-D82D-42EB-9A3A-ECE49ADE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3CE8-86FB-4C4C-995C-CD3C5474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028A-B539-481E-971E-29CDA606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4F8E-5A03-4F8E-8A28-62B994BD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F697-69E2-4D41-AC5F-01109481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8E38-5500-4A57-8AA3-FA5A96DA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DABE-9917-43A3-BBB6-AE33C2DD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45FE-75CA-4FC5-B1C7-B6CFB04A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BD87-ED43-4502-AA71-327F5D62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9CF7-8E5E-4573-AC83-0D9FC846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1682-0D12-4455-87F4-75890B04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25DF-69D9-4876-97FA-68D02EBD8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20D27-0E1B-4501-AC18-7D4C3477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3B0E7-C9D1-4C9B-93E8-B7DD2950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BEC86-8513-41F8-87E1-F3DC2E4E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B9878-F653-42F7-9FDB-5C890E9A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43A14-AFDA-42AF-8BBF-564456A7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18CD-3349-464B-AE1C-3D4FF42F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A5ADF-B428-4CC5-A655-B0550593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F608B-D5A8-4861-831E-AA7EAE2D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2B4F4-2799-469A-B6B6-3A1DFDD6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2420E-DC13-4D2E-9191-3EBB9E1C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40841-CAFC-4C56-8F3A-B0932C97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EAC31-9618-48D1-8A54-42202AB77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9A589-9322-49D3-989D-25222582C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F0FC0-323C-49EF-8FAA-86758D2C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954DB-E8A0-42B7-897F-3321B66A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AE62A-2A95-47F1-B171-03155714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858A-46EB-47E2-B554-211792A0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6EBE2-49FF-4817-85CC-E1645D21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4F52C-1EE6-4D1A-8046-C6AC3C71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FCD59-DDC7-4163-9CD4-830BB928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D5F05-0110-47AC-973E-8BB825DD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422F5-449A-4C68-9C2D-EFE69FC7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41A31-3640-49B9-ADD3-3E7EE107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7585B-F910-48B1-9AD2-2EACA6D9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32208-0B5A-490B-A237-9118BAD9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3D468-1AB2-4CE3-B8D7-EDC80AEB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9EA9D-6CC0-4C5E-9087-85982092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4850-2B3E-48F5-9A37-2294E22B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A093A-65BF-4E2B-9E02-053A9E87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852D1-0F11-4677-952F-A8E5CFC9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CC25F-3D38-4654-8B28-F12B7C6C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624A8-EF05-4907-A557-3B00C9B9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4ACD1-3DD6-4C0B-B4A7-DA56A111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57B52-E836-4CAA-A373-CEBFEB11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9E99D-6F48-4375-A737-E1FF5B77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FC2A2-B537-496B-AD87-F8B7AE61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BCD42-2859-48D5-BFDA-32A1E6B3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F8CF4-1704-46AE-A914-1F57ACA2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684D-F51F-456D-A24D-D75BCA7F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431D8-61B1-440B-BFF8-847492999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FB79E-2552-42E9-9AD4-9BEB8EC7B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68552-B346-440B-8E05-C592CA53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1C624-B2B1-4AFE-8C04-C89E6764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938B9-7C74-4448-BB9A-F251E8B5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C60F1-781E-4E55-A3AE-701C46A5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847EE-DD5D-480D-A58E-59990054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04D68-7052-45D0-BDEE-0772D561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3BCC0-3266-46D7-BE88-2EA5B77B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6326D-E644-4338-A04B-B5A5D9AC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FEF6-96E2-422C-AD54-D787A975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7FCC7-3F85-4360-9D5F-2DD36167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9917A-E84D-492B-8E19-73F8731C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21368-D830-47BF-82DA-A4F7F264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796C6-6F0C-4B27-9D20-14C0FA8E3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02E24-2F2B-4860-A6E2-43DAF21C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B9351-96CC-42E7-B68D-96F659BB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5080D-6F5A-45CE-B133-6C1A7511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9BCD1-0168-4265-BE9D-7BB17202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8C5E2-D35F-402E-92F8-41356E3E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C4194-58FA-4766-8988-32EF657C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4940-EADF-4686-995C-4C2CFE52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CFEB1-BC79-4007-998E-A424FA38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30569-D537-42C5-B5EA-1FAF78CC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7BAEA-1873-4499-9CD2-36873E0B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F2070-B662-4914-B81A-716FD087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4F0F7-D230-41BD-A800-97CD5E4D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AC01F-483A-4DA9-9DB9-AD164EFC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D7B63-A98D-4DE4-B8C6-28D3BC7E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D208B-1049-4DF6-8576-9E013DC7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612AF-58CC-490A-BE2B-5EFE43E1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AECF1-7C17-429C-9DDA-F970A187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86B6-810E-4757-AF92-601653CF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D1BF9-E6CF-4E63-BBB1-F82BC4C6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FEE43-D171-4AFA-B883-A0BAF294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D30E3-8B68-4128-9699-9FE2451D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0DFF6-4FC0-4D98-9C95-29D9D835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2A40F-F458-4942-8284-37120675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D49AB-B02A-43D8-90E0-9BE5F47CC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A0E10-BEF4-42A7-82D8-9689C7F14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C3BA9-0DAC-41AA-8D4D-733B99B7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37A01-803A-488D-8306-3A839EA8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341F5-CBBF-44E3-A337-72320DC0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314A-BA84-4792-895B-505366DCA3B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EE26-39F3-4A73-BF18-D85F7B6F40A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0BAB-6E38-443B-AA5B-050741B850B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C9B0-5DC8-4EF2-A053-C5834A33728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7019-AF1F-4ED2-9D21-E93F1AEE4F4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564C-4AA0-4136-8BBE-1D946CAD51F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7EF4-3595-4D04-8EF2-00366CD3E13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D43F-38E0-465A-B0AB-10342A04266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6195-483C-4D1F-BA4E-7CF64A99466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133200" y="317520"/>
            <a:ext cx="8864640" cy="14079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285480" y="4142880"/>
            <a:ext cx="8629560" cy="22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Для опыта я взял две свечи и несколько бусинок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Каждые 30 минут я  отмерял, сколько сгорело свечи, и делал отметки бусинкой на целой свечке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 результате я получил восковые часы с интервалом времени 5 часов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401" name="Object 5"/>
          <p:cNvGraphicFramePr/>
          <p:nvPr/>
        </p:nvGraphicFramePr>
        <p:xfrm>
          <a:off x="428760" y="1571760"/>
          <a:ext cx="8265960" cy="25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760" y="1571760"/>
                    <a:ext cx="826596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71320" y="4214880"/>
            <a:ext cx="8420040" cy="21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Египетские фараоны узнавали время по уровню воды в большой колбе с отверстиями. Часы были распространены до конца средневековья. Позже стали использовать песочные часы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2"/>
          <a:stretch/>
        </p:blipFill>
        <p:spPr>
          <a:xfrm>
            <a:off x="714240" y="1214280"/>
            <a:ext cx="1928880" cy="26956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"/>
          <p:cNvPicPr/>
          <p:nvPr/>
        </p:nvPicPr>
        <p:blipFill>
          <a:blip r:embed="rId3"/>
          <a:stretch/>
        </p:blipFill>
        <p:spPr>
          <a:xfrm>
            <a:off x="3429000" y="1285920"/>
            <a:ext cx="1714680" cy="2684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4"/>
          <a:stretch/>
        </p:blipFill>
        <p:spPr>
          <a:xfrm>
            <a:off x="6143760" y="1285920"/>
            <a:ext cx="19573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9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285480" y="3357360"/>
            <a:ext cx="8705880" cy="296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Для изготовления хронометра мне понадобилось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Две баночки с закручивающими крышкам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уперкле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Две соломинк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верло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клеил  две  крышки, папа проделал два отверсти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Вставил и зафиксировал две соломинк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Наполнил банку водой. Вода перетекает из одной банки в другую. Я зафиксировал 1 минуту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410" name="Object 6"/>
          <p:cNvGraphicFramePr/>
          <p:nvPr/>
        </p:nvGraphicFramePr>
        <p:xfrm>
          <a:off x="357120" y="1357200"/>
          <a:ext cx="8515440" cy="235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7120" y="1357200"/>
                    <a:ext cx="8515440" cy="23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4" descr=""/>
          <p:cNvPicPr/>
          <p:nvPr/>
        </p:nvPicPr>
        <p:blipFill>
          <a:blip r:embed="rId1"/>
          <a:stretch/>
        </p:blipFill>
        <p:spPr>
          <a:xfrm>
            <a:off x="42840" y="371520"/>
            <a:ext cx="8955000" cy="13842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56760" y="1554120"/>
            <a:ext cx="8634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ремя можно определить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е только с помощью часов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о и по солнцу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 помощью свечки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 уровню воды в колбе с отверстием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есочными, солнечными и водяными    часам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34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26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78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42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66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05:01:03Z</dcterms:created>
  <dc:creator>Аля</dc:creator>
  <dc:description/>
  <dc:language>en-US</dc:language>
  <cp:lastModifiedBy>Аля</cp:lastModifiedBy>
  <dcterms:modified xsi:type="dcterms:W3CDTF">2013-03-19T15:44:11Z</dcterms:modified>
  <cp:revision>15</cp:revision>
  <dc:subject/>
  <dc:title>Такие разные часы</dc:title>
</cp:coreProperties>
</file>