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CDBF-8B32-485D-A946-3B0B82BC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8D1D-752F-4403-ACF9-BCE4401D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21EA1-AB4D-48AE-827B-43830FA3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949EB-C357-41A0-9AAB-AA4E9147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EAD9C-1FC5-4EB0-BBBF-351B25E3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5433B-3870-4BB9-BDEE-93C47B9A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F9D0C-1277-4C55-92F9-D7A339BE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9F0D3-E6C0-4663-B73D-FD23788F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28CA0-63C1-4CA0-8F38-1A5954EE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E2FB9-0093-4DBF-B781-91A26742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A0243-9A01-40F9-932C-1D8498FF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7511-0E67-43C2-8865-A59A4AAE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FC1B-A9EC-497E-A209-EFA1237E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340E-4528-4E5A-B73B-99CD6D3F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100B-D4E5-47FB-B55F-FB01ED81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F0CC-FFA7-4E8C-8F44-48AE66FD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C76D-F133-4D89-BE88-7F8B1983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B934-4504-4FC0-AEA4-CDA02C2F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7C08-2E8E-4F38-A30B-76F1EDF3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3B6A-968B-4F01-91B1-84D125E1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199-DB28-4DEB-9040-CA5AB84F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95F8-AD3E-4861-897F-AEA06AE0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7EB1-5B7C-4E3C-AE62-8EDAFA03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94F3-A4E2-499F-ACD5-B67DFEFD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C22A-39CB-4CAC-8944-FFB8E2D4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3140-89A9-4C29-BD63-4988DFF2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95DA0-F7AF-49FC-A0D6-8FBF7125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7C71C-2C26-4481-962B-30962003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0A6E7-E2B8-4428-A057-BFF1B606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54F68-A436-4C6A-B877-E54CC151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1C4C5-580B-4536-9088-DB92A5F7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6F77-DE68-42BC-821F-6C3D860E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B41B9-31AE-4FF2-9DF0-BBDDA64F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40E4D-A7A3-4B23-B59E-EC313FB0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64DC1-2CC0-4DCF-ADCF-EEE59B8F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4AC01-6446-40C6-995B-6C621930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42F93-5880-418E-B243-583CAF45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75AEB-394D-4443-8BDC-460B7A17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9008B-7034-4C69-A4E4-22EC4732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6CEBB-A157-492E-9446-D2186C15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2A77F-0565-4280-A877-2006A4D7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AAEB4-B1D9-420B-AF1B-680E3116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55D2-4851-4238-AF57-6AFB46E0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36714-9502-49D4-A253-7368F0F0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773A2-4C05-4F24-97B7-DCDB5CC1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7EC35-FE66-49BA-BD68-4959F899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7750F-7EA8-42FD-931C-1E0C8F1B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E6FC7-E569-4B12-A480-8F421B0A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1ACB0-CE28-40C5-8CDF-96EBC8B6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81C95-30E5-4022-867E-BA75E7A0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38160-0AB8-4DB3-887F-B927B078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E4031-E465-44B8-A38E-B0F0E398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7CAFE-E7BF-4775-B224-ED52D9CA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D69B-0501-4180-92BC-E996F9FA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457C5-80A5-4EFA-AD7A-D192FCCA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7ABFA-A77D-437F-84A5-E6DE2436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F8866-D3A7-4AFE-8761-634FE2DA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8C2E3-B2A7-4003-B020-AEBEBDC0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242BD-97FF-4DF0-8AEB-40D07365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77CD8-A69C-47B6-A4FA-A9866FFB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83848-AE1D-456A-B59D-C0ABD582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880FE-F162-4624-ABD3-3BEBE20D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6B93C-C75E-4FDD-860D-5E218F5A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23D79-D2B5-42AD-8893-F230B7A3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8221-979E-4FAC-A529-78B67FFD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3228E-4034-46DD-9EBC-A6EC8447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A34DB-7A64-4AFA-AC80-15CB6EE4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ACE7A-3DC1-40DD-BDFA-89C386B7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EEF06-3C0B-465F-BA6F-31A950CD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03854-B0B5-4D39-99AB-703B1AC3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EEC58-07BC-4556-A611-760D0044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F1429-278A-428E-A0D8-FD76085E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36EDD-AB64-4E91-9E87-2C9D27EC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00460-7846-4606-868F-729B2963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6AEB1-4A6D-4BD2-A8AA-9C6EA6EB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EBD5-BC69-4224-A8A6-AB9C546E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0E18F-897D-4202-92C6-DCC473B8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B1112-8770-44CD-9A0F-C96CA1F0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FF32B-C6FB-4AD2-8088-BAF7BC16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3AED0-09BF-48A6-AAF3-BF54842A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1C847-D914-4C12-A11F-BD2678D3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5E546-32EA-40D2-86EA-1C664836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5582C-BFFF-4C3A-926B-26248AD5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B8F43-0828-472F-BBFC-23463B75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3FFF2-2D53-44A1-9A43-98E4FE2E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F29F8-A929-4889-8886-AFE51841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9887-5018-484A-944C-A81AD6B7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BA9B4-DED3-4FEA-AE42-DA217D7D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D9E5B-33AA-4B68-B8A9-AC870D65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511FB-2F35-4C85-8DFF-54C9A217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62F52-7D62-408E-83A9-F7C47AC0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92EE8-3F34-45E5-B91D-B706249D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82EED-7254-4C73-84EF-7071F5B9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36E21-96B4-42DE-AF77-70A37B94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A43C1-F82D-4D5D-B657-280D08FB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AE093-93D3-4F68-9E88-686B54AB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68D3A-B00F-4AC4-B54B-48E2B095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FB7-FBF4-48A9-A9CA-FE0A6521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B85FE-3CAD-4035-8A2C-3DB043EF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77DEC-2C45-4254-AE16-296B530C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9CBB3-FE42-4D12-9645-344FA474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310A9-EE38-43EA-8A00-F0AB5248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A551E-096D-443A-BB7C-7C9D0FDC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DCF8B-9A2B-4CB7-A693-81970DA2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1ED3F-306A-42BC-93E7-97961165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3A961-EB43-47C4-917E-EBAEF695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9AABC-6151-4EF9-84D2-DAD01925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FA831-1DEA-445A-A9FE-9C103EC3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445E-E9EC-4381-95B3-B5D92AF459B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4D29-6E3E-4B94-9321-F0526AD6206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DC48-967C-43F1-BAD1-9EDC61CEB88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F993-0874-44A0-9D57-F60258D676D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A0DF-434B-42D1-BE7B-9908F38E0F0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2406-C05A-48C5-AED2-F0C6677C91E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BD30-061A-4578-B997-D47952A19CA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D2D3-A90C-40B0-AD5F-E25E24F42A8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7FDD-7DE6-4411-982C-5DF78A5FD51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33200" y="317520"/>
            <a:ext cx="8864640" cy="14079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285480" y="4142880"/>
            <a:ext cx="8629560" cy="22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ля опыта я взял две свечи и несколько бусинок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Каждые 30 минут я  отмерял, сколько сгорело свечи, и делал отметки бусинкой на целой свечк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 результате я получил восковые часы с интервалом времени 5 часов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01" name="Object 5"/>
          <p:cNvGraphicFramePr/>
          <p:nvPr/>
        </p:nvGraphicFramePr>
        <p:xfrm>
          <a:off x="428760" y="1571760"/>
          <a:ext cx="8265960" cy="25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1571760"/>
                    <a:ext cx="826596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71320" y="4214880"/>
            <a:ext cx="8420040" cy="21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Египетские фараоны узнавали время по уровню воды в большой колбе с отверстиями. Часы были распространены до конца средневековья. Позже стали использовать песочные часы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714240" y="1214280"/>
            <a:ext cx="1928880" cy="2695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"/>
          <p:cNvPicPr/>
          <p:nvPr/>
        </p:nvPicPr>
        <p:blipFill>
          <a:blip r:embed="rId3"/>
          <a:stretch/>
        </p:blipFill>
        <p:spPr>
          <a:xfrm>
            <a:off x="3429000" y="1285920"/>
            <a:ext cx="1714680" cy="2684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4"/>
          <a:stretch/>
        </p:blipFill>
        <p:spPr>
          <a:xfrm>
            <a:off x="6143760" y="1285920"/>
            <a:ext cx="19573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9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285480" y="3357360"/>
            <a:ext cx="8705880" cy="29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Для изготовления хронометра мне понадобилось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Две баночки с закручивающими крышкам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уперкле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Две соломинк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верл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клеил  две  крышки, папа проделал два отверсти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ставил и зафиксировал две соломинк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Наполнил банку водой. Вода перетекает из одной банки в другую. Я зафиксировал 1 минуту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10" name="Object 6"/>
          <p:cNvGraphicFramePr/>
          <p:nvPr/>
        </p:nvGraphicFramePr>
        <p:xfrm>
          <a:off x="357120" y="1357200"/>
          <a:ext cx="8515440" cy="235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20" y="1357200"/>
                    <a:ext cx="851544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4" descr=""/>
          <p:cNvPicPr/>
          <p:nvPr/>
        </p:nvPicPr>
        <p:blipFill>
          <a:blip r:embed="rId1"/>
          <a:stretch/>
        </p:blipFill>
        <p:spPr>
          <a:xfrm>
            <a:off x="42840" y="371520"/>
            <a:ext cx="8955000" cy="1384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56760" y="1554120"/>
            <a:ext cx="8634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ремя можно определить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е только с помощью часов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о и по солнцу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 помощью свечки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 уровню воды в колбе с отверстием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есочными, солнечными и водяными    часа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34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6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78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42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66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5:01:03Z</dcterms:created>
  <dc:creator>Аля</dc:creator>
  <dc:description/>
  <dc:language>en-US</dc:language>
  <cp:lastModifiedBy>Аля</cp:lastModifiedBy>
  <dcterms:modified xsi:type="dcterms:W3CDTF">2013-03-19T15:44:11Z</dcterms:modified>
  <cp:revision>15</cp:revision>
  <dc:subject/>
  <dc:title>Такие разные часы</dc:title>
</cp:coreProperties>
</file>