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0CD-C4C9-4069-9573-C27331DD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0C7-68CD-4020-9D13-BE1D52A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6EB-38D0-4178-A0B6-56F5CAF4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396-518F-4E58-A392-526266FD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CCD-C921-4DE9-BF6D-0586CB47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E1B-7C45-47FC-B131-E9B828E1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80B-999B-47D4-A252-44420B4F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317-7811-4E0E-8EA1-C747E6F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D17-98CC-402B-A75A-C4081AE1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E8F-DAAB-4403-8D11-4330576E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482-876A-4009-A356-6EB0F3A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442-AB69-457E-A956-AA474BE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1AE-ADA9-4E44-838B-0DC5C049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cebook.com/profile.php?id=100001468794938&amp;ref=tn_tnmn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31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5589360"/>
            <a:ext cx="6400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erlicyna S.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liatti, 2012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700280"/>
            <a:ext cx="7777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505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king Frie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Georgia"/>
              </a:rPr>
              <a:t>We’ll talk abou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Monotype Corsiva"/>
              </a:rPr>
              <a:t>how we make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Monotype Corsiva"/>
              </a:rPr>
              <a:t>why we make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Monotype Corsiva"/>
              </a:rPr>
              <a:t>where to find new 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Where can we meet frie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a 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a c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 a d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 a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a 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a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eeting (saying He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k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ce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bb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e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60280"/>
            <a:ext cx="3754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How do we make frie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692280"/>
            <a:ext cx="8064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razy  Part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407 из 15999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2924280"/>
            <a:ext cx="734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Making frien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 you speak English? Do you speak English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Yes, but just a little bit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Do you speak English? Do you speak English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Yes, but just a little b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y name is Victor, my name is Victor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hat’s your name and where are you from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My name is Victor, my name is Victor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hat’s your name and where are you fro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e you from Chili? Are you from Chili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No, I’m not, I’m from Brazil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Are you from Chili? Are you from Chili?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No, I’m not, I’m from Braz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’m glad to meet you, I’m glad to meet you.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I’m so glad to meet you too.”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I’m glad to meet you, I’m glad to meet you.”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“I’m so glad to meet you to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4076640"/>
            <a:ext cx="2494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24360" y="1125360"/>
            <a:ext cx="500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4292640"/>
            <a:ext cx="47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luck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57:49Z</dcterms:created>
  <dc:creator>Loner-XP</dc:creator>
  <dc:description/>
  <dc:language>en-US</dc:language>
  <cp:lastModifiedBy>Loner-XP</cp:lastModifiedBy>
  <dcterms:modified xsi:type="dcterms:W3CDTF">2012-01-15T14:39:19Z</dcterms:modified>
  <cp:revision>2</cp:revision>
  <dc:subject/>
  <dc:title>School №60</dc:title>
</cp:coreProperties>
</file>