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910-B20E-4388-A6BB-95356596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073-926A-4117-B46C-5C043AC3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11-A76F-48C9-B326-DF3AFD1D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E7C-E14D-49FF-BCB4-223D1097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2C0-BB8B-4BF9-BF44-F42A797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4D0-0DE9-4BD9-B957-8790DD1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CEC-9207-4C06-9A20-DEE38487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492-FAC6-437B-A198-C6ACBC6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485-466F-43A2-A6E2-CC7672E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C72-9CD1-4948-A23A-70FC954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CA3-A044-46D4-BD6C-3A2D239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CDA-B79E-40A2-B25C-D954F0D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AB8E-86F5-4F9D-AB5C-6E8A1F76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cebook.com/profile.php?id=100001468794938&amp;ref=tn_tnmn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31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5589360"/>
            <a:ext cx="6400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erlicyna S.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liatti, 2012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700280"/>
            <a:ext cx="7777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505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king Fri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Georgia"/>
              </a:rPr>
              <a:t>We’ll talk abou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how we make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why we make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where to find new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Where can we meet fri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a d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a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a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eeting (saying He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k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ce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bb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e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60280"/>
            <a:ext cx="3754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How do we make fri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692280"/>
            <a:ext cx="806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razy  Part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407 из 1599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2924280"/>
            <a:ext cx="734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Making frien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 you speak English? Do you speak English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Yes, but just a little bit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Do you speak English? Do you speak English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Yes, but just a little b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y name is Victor, my name is Victor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hat’s your name and where are you from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My name is Victor, my name is Victor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hat’s your name and where are you fro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e you from Chili? Are you from Chili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No, I’m not, I’m from Brazil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Are you from Chili? Are you from Chili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No, I’m not, I’m from Braz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’m glad to meet you, I’m glad to meet you.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I’m so glad to meet you too.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I’m glad to meet you, I’m glad to meet you.”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“I’m so glad to meet you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4076640"/>
            <a:ext cx="2494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24360" y="1125360"/>
            <a:ext cx="500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429264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luck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57:49Z</dcterms:created>
  <dc:creator>Loner-XP</dc:creator>
  <dc:description/>
  <dc:language>en-US</dc:language>
  <cp:lastModifiedBy>Loner-XP</cp:lastModifiedBy>
  <dcterms:modified xsi:type="dcterms:W3CDTF">2012-01-15T14:39:19Z</dcterms:modified>
  <cp:revision>2</cp:revision>
  <dc:subject/>
  <dc:title>School №60</dc:title>
</cp:coreProperties>
</file>