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6D5-E266-4B45-AFF1-2B5FD1A0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483-F23A-444B-BC6C-24162DFE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7D9-47DF-49B3-A181-40E76FDB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F46-8124-4132-B643-8D3B46A3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A6CC-68C2-4F3D-BE0D-1C0E0B08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F3E7-B7FF-4D72-A657-A5787256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FF49-957A-4C87-B692-0905D1DA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BCE9-491E-462E-A413-2702CF37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604A-5FD4-4DDD-8D6F-D769E6B8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BC9A-7FF4-4F12-B25D-94F60EDE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C964-2AB0-4117-A117-13740CF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704-6421-4752-8AFD-05D6083E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14C-3023-4FEE-861C-3ACD450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7466-E2E4-4468-B938-DF73F1B9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08FA-7F7B-4CB5-90DA-F52E52B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BB74-C10E-4C60-8073-510914B5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3E90-2BD0-456E-9FBE-A0AD66D7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72C-F66F-47B0-A329-3298FF2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E88-F496-40F0-8C6D-C24CCA7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BEB-EB87-4553-A9DA-B50DD45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463-884F-4B5C-9ECF-03C8904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347-1420-4002-88AD-EE453D7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C41-B7E1-4332-9C47-0B2115A5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20A-74DD-48EE-B363-1D23A11E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4AAA-CCCA-4061-B28F-F46A4C74D0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C072-C129-46FB-BEAD-F920E43A70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ru-RU" sz="7200" spc="-1" strike="noStrike">
                <a:solidFill>
                  <a:srgbClr val="330033"/>
                </a:solidFill>
                <a:latin typeface="Times New Roman"/>
              </a:rPr>
              <a:t>Vatertag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cha Staschin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W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n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eier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 man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Vatertag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5949720"/>
            <a:ext cx="8567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atertag fei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 a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. Ju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eutsch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j0289531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Wie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eier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 man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Vatertag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8920" y="169992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ä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ganisieren Picknicks in der Nat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rgani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adtou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er entspannen sie mit Freun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ather-s-day-germania"/>
          <p:cNvPicPr/>
          <p:nvPr/>
        </p:nvPicPr>
        <p:blipFill>
          <a:blip r:embed="rId1"/>
          <a:stretch/>
        </p:blipFill>
        <p:spPr>
          <a:xfrm>
            <a:off x="684360" y="2205000"/>
            <a:ext cx="40338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Wann entstand Vatertag in Deutschland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25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tertag entstand in Deutschland im Jahr 193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rsprünglich verbundet man ihn mit kirchlichen Tag der Himmelfahrt des Her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45"/>
          <p:cNvPicPr/>
          <p:nvPr/>
        </p:nvPicPr>
        <p:blipFill>
          <a:blip r:embed="rId1"/>
          <a:stretch/>
        </p:blipFill>
        <p:spPr>
          <a:xfrm>
            <a:off x="4859280" y="1700280"/>
            <a:ext cx="3672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ls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wichtig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r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Vatertag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Vater spielt eine große Rolle im Leben des Ki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kgwyx4"/>
          <p:cNvPicPr/>
          <p:nvPr/>
        </p:nvPicPr>
        <p:blipFill>
          <a:blip r:embed="rId1"/>
          <a:stretch/>
        </p:blipFill>
        <p:spPr>
          <a:xfrm>
            <a:off x="3013200" y="1600200"/>
            <a:ext cx="357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320923-FB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Dank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 schön!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2:30:04Z</dcterms:created>
  <dc:creator>АНДРЕЙ</dc:creator>
  <dc:description/>
  <dc:language>en-US</dc:language>
  <cp:lastModifiedBy>Ann</cp:lastModifiedBy>
  <dcterms:modified xsi:type="dcterms:W3CDTF">2013-03-22T17:33:03Z</dcterms:modified>
  <cp:revision>6</cp:revision>
  <dc:subject/>
  <dc:title>Слайд 1</dc:title>
</cp:coreProperties>
</file>