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8A10-E644-49EA-A4A8-4EFE89FA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29DC-DE0B-45C3-8318-D61E757C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10FB-B235-468F-90EF-00F88A15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7122-89D1-483B-86F1-868233C5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E917-7C38-4D38-8AAC-66F747FF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E287-FB4F-47D5-A0E8-1D5E2DEC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C699-8E72-4B52-AA64-ACA4351B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4A85-C95B-4DAA-9E3D-A2F4BE15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EC98-15EB-4FBC-B5B4-6CE6B549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7880-9F9B-4FA6-B8E4-D1F1CA3E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25C7-7137-47CC-8B88-F23BEE25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B8DB-3A1F-4E01-ADC1-C4816A6E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4D07-6EFE-437B-BF98-6C0F2CF1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A91D-E629-415C-894E-C9B3C253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6CFC-E2B5-49F9-83A3-EF09B327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4705-5E7E-42C5-99F1-A5D2409F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833C-533A-4222-8C06-391852ED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B31D-7CDD-47ED-AC7D-5039F5F2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C6DA-DDD5-44FD-8042-84E98B69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45D7-BAD8-487D-BA3A-44A1B33E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31D-7BDC-4FD9-9C55-DB873859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53E7-1B36-40AB-98F9-6370D2B7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2C05-D542-47A8-8B4C-F7399EEE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3098-FFE3-45A6-B3D3-20A74751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186E-55C4-4B3D-8A74-12521B2099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59E3-FC62-497E-9745-822A29154AD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ru-RU" sz="7200" spc="-1" strike="noStrike">
                <a:solidFill>
                  <a:srgbClr val="330033"/>
                </a:solidFill>
                <a:latin typeface="Times New Roman"/>
              </a:rPr>
              <a:t>Vatertag</a:t>
            </a: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cha Staschino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W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n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eier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 man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Vatertag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3640" y="5949720"/>
            <a:ext cx="85676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Vatertag fei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 a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. Ju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Deutschl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j0289531"/>
          <p:cNvPicPr/>
          <p:nvPr/>
        </p:nvPicPr>
        <p:blipFill>
          <a:blip r:embed="rId1"/>
          <a:stretch/>
        </p:blipFill>
        <p:spPr>
          <a:xfrm>
            <a:off x="1332000" y="1628640"/>
            <a:ext cx="64087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Wie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eier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 man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Vatertag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58920" y="169992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Männ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rganisieren Picknicks in der Nat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ie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organi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e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Radtou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er entspannen sie mit Freun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father-s-day-germania"/>
          <p:cNvPicPr/>
          <p:nvPr/>
        </p:nvPicPr>
        <p:blipFill>
          <a:blip r:embed="rId1"/>
          <a:stretch/>
        </p:blipFill>
        <p:spPr>
          <a:xfrm>
            <a:off x="684360" y="2205000"/>
            <a:ext cx="40338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330033"/>
                </a:solidFill>
                <a:latin typeface="Times New Roman"/>
              </a:rPr>
              <a:t>Wann entstand Vatertag in Deutschland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255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atertag entstand in Deutschland im Jahr 193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rsprünglich verbundet man ihn mit kirchlichen Tag der Himmelfahrt des Her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145"/>
          <p:cNvPicPr/>
          <p:nvPr/>
        </p:nvPicPr>
        <p:blipFill>
          <a:blip r:embed="rId1"/>
          <a:stretch/>
        </p:blipFill>
        <p:spPr>
          <a:xfrm>
            <a:off x="4859280" y="1700280"/>
            <a:ext cx="36720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ls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wichtig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r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Vatertag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r Vater spielt eine große Rolle im Leben des Kin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kgwyx4"/>
          <p:cNvPicPr/>
          <p:nvPr/>
        </p:nvPicPr>
        <p:blipFill>
          <a:blip r:embed="rId1"/>
          <a:stretch/>
        </p:blipFill>
        <p:spPr>
          <a:xfrm>
            <a:off x="3013200" y="1600200"/>
            <a:ext cx="35748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" descr="320923-FB"/>
          <p:cNvPicPr/>
          <p:nvPr/>
        </p:nvPicPr>
        <p:blipFill>
          <a:blip r:embed="rId1"/>
          <a:stretch/>
        </p:blipFill>
        <p:spPr>
          <a:xfrm>
            <a:off x="2411280" y="1700280"/>
            <a:ext cx="4392720" cy="48243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Dank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e schön!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2:30:04Z</dcterms:created>
  <dc:creator>АНДРЕЙ</dc:creator>
  <dc:description/>
  <dc:language>en-US</dc:language>
  <cp:lastModifiedBy>Ann</cp:lastModifiedBy>
  <dcterms:modified xsi:type="dcterms:W3CDTF">2013-03-22T17:33:03Z</dcterms:modified>
  <cp:revision>6</cp:revision>
  <dc:subject/>
  <dc:title>Слайд 1</dc:title>
</cp:coreProperties>
</file>