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.wmf" ContentType="image/x-wmf"/>
  <Override PartName="/ppt/media/image4.jpeg" ContentType="image/jpe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7448-646C-4F28-B862-AF494EAE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A3A3-1374-4E50-9A32-A00B7384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A1E5-B730-4DE0-A875-F44819F1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E521-DAF2-4193-AF5E-2F160586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F88E-D90E-48E6-BB65-CF11BBFB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B2AD-79BA-4400-B7A6-9C3FBF1C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33D3-BF15-4AC1-A408-37D518F3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4A18-58F1-47D6-95C2-90C93FD4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291C-9349-41B4-9B70-DA37E335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E0C0-6CE1-40AF-A714-B2618D85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21AF-921D-4317-8C6B-71E4850C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696C-171A-400E-961D-8641D1C7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1792-C030-49F1-88DF-E463901F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0BE8-6774-4CAF-9B4B-A37EA130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D14B-4BC2-4723-94CD-45EE6563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AD82-C959-40E9-AF2A-847F0257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8236-D95F-4B85-ABD3-2FEC04C5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4D2807-4934-4F70-8343-1A01CAF8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1A75F0-EE72-4BE8-87A0-EA6D447D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1CDAB-2CC8-4680-98FE-E639F93E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836D9-F9C3-43D3-949E-062173CD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33657-633F-4CC6-8300-126AAAC8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4EC-5BD3-4E24-8AF1-154F141E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3A6CE4-5FB6-487E-9D23-1568466D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B08D3-ABB8-49B5-8A8A-824A4F57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271F59-A4A9-4225-A504-B2B031D9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0E315A-634E-4CD0-8DEB-59AA09EC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67D02-92A9-4DD5-A874-DBE2FF47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C8534-9DA7-4063-8D1F-4B7CE01C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E18EC-2448-4DBE-971B-B014EE53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4EFEF-1B37-4A39-B1B3-AA071FC5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8A729-1ACC-4D2B-A45A-E49EB9FD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44F81-F8E0-410E-8DDB-3B4BE931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8859-A145-4924-8D24-E9CCA5E4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DAD4E-E14C-48FC-9DAA-2B9F9332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54720-65CA-4718-961D-E9FB9BF5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B9427-A35A-434A-88DC-61056431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76128-6C8C-487A-BDB1-24D61E77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3356C-C71D-4003-84DC-C6611A6D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CB57B-29EC-4DE8-A484-A6B7EE64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B4E7F-59BE-4993-8B2B-57A19C2A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36B6D-5875-4952-92DB-83320267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64B4F-00B7-4B29-B0D9-365510DB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4C7E2-F5FE-4D6B-8828-0B070C39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D73B-64DF-49E5-B989-CDF3A6FE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71203A-6C2F-4923-B1EC-854E9343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699302-3DCB-4A48-B480-01C38FDA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12DC9E-6AE5-4D2A-A0E5-BE618DD2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7E6875-879C-413A-B2CD-0502C355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989625-D5B5-4489-A787-431F641E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538918-8F15-4153-902A-4FE1B88C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DA25F9-E9F0-41C2-A93C-B0350935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E8401B-2CB0-418E-83B3-C7851D34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E2B79C-FB29-40D1-9ED3-5171A24C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60D9AE-5EBD-4872-91CD-D07CD6E8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73AC-B80A-4274-BED9-76D559BF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D92CE-D5E6-4326-8C6F-4811EC7B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191E76-2321-4C99-B6AA-CA5E75F0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1B0337-B5E6-445F-9768-CAB4AF9E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318321-C6E2-490B-97A0-861B36A6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A0BD1D-5558-4608-8F8A-0D81D330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02F4EF-6299-4169-81DB-096C7585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A1B8E3-A977-4941-A068-2186D066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162D69-7A2F-404C-9E8C-27C737A4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8195D8-780F-44E4-B1FF-EF5EC116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28CB51-2D39-4B6D-A98E-A587F2F6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35A5-239F-4078-B54B-0AB0D0F1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486568-F1FC-4C68-AFD1-310CD48E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54F709-F13A-4066-877B-78569924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A54C89-D057-4401-894A-533D49A5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B3405E-AB32-42F3-8C9B-D6C9D0B6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E58576-53EC-48E6-B52A-49547974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73D22F-38D0-42C9-BB2C-BE391497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9F24B0-4C52-4DE5-AC80-A5CE88BD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E7B28F-03AC-41D4-BB73-94A4C8EB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A288A2-E24F-482F-AE23-3DFBED41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ECDE7E-A19F-4C64-AA6E-9314DDD9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A310-2715-4448-B779-2B00F2D5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DE7675-3278-4949-9C16-E6F04666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8BA2A4-EAA4-450D-ADCF-DC6ABF26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A1F76B-3972-4D20-BD11-79CCA51F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880CA6-7F69-4CC0-9659-B7C15764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8BD395-691A-4B5B-AC9B-09518C99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4006-EC85-430F-9FCC-9D165E6A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85D2-0A9E-4F40-9E45-CA59343C43A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8E51-BC7D-4211-A0AD-015208F1548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9B8B-275B-4546-A1D8-EEC152C0298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200B-856D-47A0-97F3-9608FF11878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7C6C-AAAE-4689-8F8D-B203B0D8457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526E-CA4B-4BBD-B861-A79126B3AF1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7738-1799-44B3-B833-A7F2EF5734B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ФОРМИРОВАНИЕ ИНФОРМАЦИОННО-КОММУНИКАЦИОННОЙ КОМПЕТЕНТНОСТИ СТАРШЕКЛАССНИКОВ НА УРОКАХ  ОБЩЕСТВОВЕДЧЕСКОГО ЦИКЛА ПОСРЕДСТВОМ ИСПОЛЬЗОВАНИЯ ПРИЁМОВ ИНТЕРАКТИВНОГО ОБУЧЕНИЯ И ИКТ.</a:t>
            </a:r>
            <a:br>
              <a:rPr sz="1800"/>
            </a:b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Валькова Светлана Леонидовна, учитель МБОУ СОШ №4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7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403280" cy="2376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школа - Елена Анатольевна Лаврентьева"/>
          <p:cNvPicPr/>
          <p:nvPr/>
        </p:nvPicPr>
        <p:blipFill>
          <a:blip r:embed="rId2"/>
          <a:stretch/>
        </p:blipFill>
        <p:spPr>
          <a:xfrm>
            <a:off x="5580000" y="1628640"/>
            <a:ext cx="150516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65c"/>
                </a:solidFill>
                <a:latin typeface="Century Schoolbook"/>
              </a:rPr>
              <a:t>МОЗГОВОЙ ШТУРМ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о метод продуцирования идей и решений при работе в групп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Цель мето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ведение группового обсуждения для решения какой-либо проблем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Задачами мозгового штурма являются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ключение в работу всех членов групп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еделение уровня знаний и основных интересов участни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ктивизация творческого потенциала участн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4" descr="C:\Users\Андрей\Pictures\school2206.jpg"/>
          <p:cNvPicPr/>
          <p:nvPr/>
        </p:nvPicPr>
        <p:blipFill>
          <a:blip r:embed="rId1"/>
          <a:stretch/>
        </p:blipFill>
        <p:spPr>
          <a:xfrm>
            <a:off x="6516720" y="26028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65c"/>
                </a:solidFill>
                <a:latin typeface="Century Schoolbook"/>
              </a:rPr>
              <a:t>ПРАВИЛА ПРОВЕДЕНИЯ «МОЗГОВОГО ШТУРМА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ллектив делится на две группы: генераторы и аналитики иде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дагог выступает в роли “заказчика”.  излагает суть проблемы  и правила проведения мозговой атаки. Фиксирует идеи, высказанные участниками, держится в стороне от дискуссии. Со стороны учителя запрещается критика любых мнений и предложений, предпочитается разнообразие ид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65c"/>
                </a:solidFill>
                <a:latin typeface="Century Schoolbook"/>
              </a:rPr>
              <a:t>ФОРМЫ ДОПОЛНИТЕЛЬНЫХ УРОКО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дактическая иг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тическое шо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гра-конкур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entury Schoolbook"/>
              </a:rPr>
              <a:t>Урок длиною в год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Мониторинг персональной инфляц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Торговля валютой на учебном счёте Форек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Торговля акциями на учебном счёте фондового рын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8" descr="schulbuchandreas"/>
          <p:cNvPicPr/>
          <p:nvPr/>
        </p:nvPicPr>
        <p:blipFill>
          <a:blip r:embed="rId1"/>
          <a:stretch/>
        </p:blipFill>
        <p:spPr>
          <a:xfrm>
            <a:off x="5364000" y="4508640"/>
            <a:ext cx="2100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Схема 3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  <p:grpSp>
        <p:nvGrpSpPr>
          <p:cNvPr id="390" name="Группа 4"/>
          <p:cNvGrpSpPr/>
          <p:nvPr/>
        </p:nvGrpSpPr>
        <p:grpSpPr>
          <a:xfrm>
            <a:off x="1042920" y="549360"/>
            <a:ext cx="6553440" cy="647640"/>
            <a:chOff x="1042920" y="549360"/>
            <a:chExt cx="6553440" cy="647640"/>
          </a:xfrm>
        </p:grpSpPr>
        <p:pic>
          <p:nvPicPr>
            <p:cNvPr id="391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1042920" y="549360"/>
              <a:ext cx="65534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Скругленный прямоугольник 4"/>
            <p:cNvSpPr/>
            <p:nvPr/>
          </p:nvSpPr>
          <p:spPr>
            <a:xfrm>
              <a:off x="1131120" y="641880"/>
              <a:ext cx="6378480" cy="5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Прямоугольник 7"/>
          <p:cNvSpPr/>
          <p:nvPr/>
        </p:nvSpPr>
        <p:spPr>
          <a:xfrm>
            <a:off x="3716640" y="3244680"/>
            <a:ext cx="17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65c"/>
                </a:solidFill>
                <a:latin typeface="Arial"/>
              </a:rPr>
              <a:t>Ролевая 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8"/>
          <p:cNvSpPr/>
          <p:nvPr/>
        </p:nvSpPr>
        <p:spPr>
          <a:xfrm flipH="1">
            <a:off x="1042200" y="62064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6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65c"/>
                </a:solidFill>
                <a:latin typeface="Century Schoolbook"/>
              </a:rPr>
              <a:t>РОЛЕВАЯ ИГ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то ситуация, в которой участник берет нехарактерную для него роль, поступает непривычным образо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омпонентами ролевой игры выступают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Моделирование -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формирование эффективного способа поведения каждого участника группы в конкретной разыгрываемой им ситуаци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нструктаж -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мешательство ведущего(учителя), который помогает участникам группы советами, обратной связью, поддержкой поиска оптимального выхода из трудной ситуаци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одкрепление -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ощрение, стимулирующее правильное поведение участников группы в разыгрываемой ситуаци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65c"/>
                </a:solidFill>
                <a:latin typeface="Century Schoolbook"/>
              </a:rPr>
              <a:t>ДИДАКТИЧЕСКАЯ ИГ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Это игра учебного характера, предполагающая нахождение единственно правильного ответа и имеющая формализованную структуру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Типы вопросов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1.  вопрос с использованием таблиц, диаграмм, графиков (на них экономические показатели страны – описать её экономическое состояние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2.  Незаполненная таблица, отсутствует название фирмы, страны, по динамике показателей догадаться о какой стране речь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3. Мультимедийные вопросы: например, с сайта загружаются данные о прибылях или убытках компании и нужно объяснить, что будет с ценой на её акци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65c"/>
                </a:solidFill>
                <a:latin typeface="Century Schoolbook"/>
              </a:rPr>
              <a:t>АНАЛИТИЧЕСКОЕ ШОУ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о выступления учебного характер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ловие: участники должны иметь оригинальные экономические идеи и хотеть доказать и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моделирование телешоу «Минута славы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6" descr="0_3a851_7fc63923_L"/>
          <p:cNvPicPr/>
          <p:nvPr/>
        </p:nvPicPr>
        <p:blipFill>
          <a:blip r:embed="rId1"/>
          <a:stretch/>
        </p:blipFill>
        <p:spPr>
          <a:xfrm>
            <a:off x="3780000" y="3789360"/>
            <a:ext cx="2016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ИЁМЫ ИНТЕРАКТИВНОГО ОБУЧЕНИЯ И ИКТ НА УРОК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На уроке экономики «Занятые и безработные» в 10 кл. отрабатывается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критическое отношение к получаемой информации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, умение выделять главное, оценивать степень достоверности (релевантность запроса, сетевые мистификации, и т.п.). Учащиеся получают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задания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:1.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йти в Интернет и проанализировать состояние уровня безработицы в  стране, сравнив с Белгородской областью; 2. Найти на сайте Госкомстата данные о соотношении безработных мужчин и  женщин, молодёжи, проанализировать и сделать выводы; 3. Найти данные об уровне безработицы по разным регионам России, сделать выводы.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Умение применять информационные и телекоммуникационные технологии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для решения широкого класса учебных задач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отрабатывается на уроке «Занятые и безработные»: учащиеся , используя вышеназванные сведения, найденные ими  в течении урока в Интернет, должны составить на компьютере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график изменения  уровня безработицы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по регионам;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сравнительну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ю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таблицу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, обобщающую таблицу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и выступить с данной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презентацией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на уроке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РОЛЕВАЯ ИГРА «КАК УВЕЛИЧИТЬ ПРОДАЖИ?» (ПРОМОАКЦИЯ В ГИПЕРМАРКЕТЕ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Цели урок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1. применение эластичности спроса для планирования промоакции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Развитие навыков применения экономических концепций в бизнес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Развитие навыков аналитической рабо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подготовке к уроку учащиеся получают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опережающее задани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посетить гипермаркет «Линия», изучить ассортимент товаров в отделах бытовой химии, продовольственном, молочном, овощном отделах, цены на эти товары. Изучить сайт гипермаркета с перечнем товаров и услуг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РОЛЕВАЯ ИГРА «КАК УВЕЛИЧИТЬ ПРОДАЖИ?» (ПРОМОАКЦИЯ В ГИПЕРМАРКЕТЕ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Директор по маркетингу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» планирует промоакцию с целью увеличить объём продаж при одновременном увеличении валовой выручки от продаж  каждого товара. «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Менеджеры отделов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» должны подготовить предложения по каждому отделу магазина: определить товары эластичного и неэластичного спроса, спроса с единичной эластичностью, рассчитать размеры выручки при снижении цены на 20 % и сделать вывод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Этапы работы групп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: «сетевые администраторы» работают с материалами Интернет  (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ttp://50.economicus.ru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, изучают каталог товаров, строят графики спроса на различные виды товаров, работают с диском (таблица в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XL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. «Менеджеры» характеризуют товары своего отдела и выдвигают предложения по промоакции «мозговой штурм»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Федеральный компонент государственного стандарт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общего образования одной из важнейших задач школы  ставит подготовку обучающихся к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сознанному и ответственному выбору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жизненного и профессионального пути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 просто дать ребёнку максимальное количество готовых знаний, но и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аучить его самостоятельно находить и обрабатывать информац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Стрелка вправо 3"/>
          <p:cNvSpPr/>
          <p:nvPr/>
        </p:nvSpPr>
        <p:spPr>
          <a:xfrm>
            <a:off x="6659640" y="3645000"/>
            <a:ext cx="9795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0" descr="j0078701"/>
          <p:cNvPicPr/>
          <p:nvPr/>
        </p:nvPicPr>
        <p:blipFill>
          <a:blip r:embed="rId1"/>
          <a:stretch/>
        </p:blipFill>
        <p:spPr>
          <a:xfrm>
            <a:off x="7701120" y="3141720"/>
            <a:ext cx="979200" cy="2016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C:\Users\Андрей\Pictures\school2221.jpg"/>
          <p:cNvPicPr/>
          <p:nvPr/>
        </p:nvPicPr>
        <p:blipFill>
          <a:blip r:embed="rId2"/>
          <a:stretch/>
        </p:blipFill>
        <p:spPr>
          <a:xfrm>
            <a:off x="7740720" y="765000"/>
            <a:ext cx="990360" cy="1428840"/>
          </a:xfrm>
          <a:prstGeom prst="rect">
            <a:avLst/>
          </a:prstGeom>
          <a:ln w="0">
            <a:noFill/>
          </a:ln>
        </p:spPr>
      </p:pic>
      <p:pic>
        <p:nvPicPr>
          <p:cNvPr id="360" name="TextBox 6" descr=""/>
          <p:cNvPicPr/>
          <p:nvPr/>
        </p:nvPicPr>
        <p:blipFill>
          <a:blip r:embed="rId3"/>
          <a:stretch/>
        </p:blipFill>
        <p:spPr>
          <a:xfrm>
            <a:off x="1835280" y="182520"/>
            <a:ext cx="51940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65c"/>
                </a:solidFill>
                <a:latin typeface="Century Schoolbook"/>
              </a:rPr>
              <a:t>МОНИТОРИНГ ПЕРСОНАЛЬНОЙ ИНФЛЯЦИ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ль: поддерживать интерес к экономике в течение год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дачи: узнать, насколько выросли цены в течение года для определённой семьи, вводя данные о своих покупках в калькулятор персональной инфляции на сайте Федеральной службы государственной статистики РФ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/qks.ru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поставить рост цен со средней инфляцией по стра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0" name="Picture 20" descr="00007275"/>
          <p:cNvPicPr/>
          <p:nvPr/>
        </p:nvPicPr>
        <p:blipFill>
          <a:blip r:embed="rId1"/>
          <a:stretch/>
        </p:blipFill>
        <p:spPr>
          <a:xfrm>
            <a:off x="5940360" y="4797360"/>
            <a:ext cx="194472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65c"/>
                </a:solidFill>
                <a:latin typeface="Century Schoolbook"/>
              </a:rPr>
              <a:t>ТОРГОВЛЯ ВАЛЮТОЙ НА УЧЕБНОМ СЧЁТЕ ФОРЕКС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ащийся может без риска попробовать свои силы на валютном трейдинге и изучить принципы этой деятельности на учебном счёте в Интернет-портал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счёт поступает виртуальная денежная сумма, на которую учащиеся могут покупать иностранную валют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3" name="Picture 18" descr="00007298"/>
          <p:cNvPicPr/>
          <p:nvPr/>
        </p:nvPicPr>
        <p:blipFill>
          <a:blip r:embed="rId1"/>
          <a:stretch/>
        </p:blipFill>
        <p:spPr>
          <a:xfrm>
            <a:off x="4716360" y="4149720"/>
            <a:ext cx="2808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65c"/>
                </a:solidFill>
                <a:latin typeface="Century Schoolbook"/>
              </a:rPr>
              <a:t>ТОРГОВЛЯ АКЦИЯМИ НА УЧЕБНОМ СЧЁТЕ ФОНДОВОГО РЫН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крытие демосчёта позволяет изучить анализ фондового рынка, отработать процессы совершения сделок, выбирать торговую стратегию без риска понести реальные финансовые убыт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6" name="Picture 5" descr="C:\Users\Андрей\Pictures\Рисунок1.jpg"/>
          <p:cNvPicPr/>
          <p:nvPr/>
        </p:nvPicPr>
        <p:blipFill>
          <a:blip r:embed="rId1"/>
          <a:stretch/>
        </p:blipFill>
        <p:spPr>
          <a:xfrm>
            <a:off x="971640" y="4292640"/>
            <a:ext cx="1587240" cy="1463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6" descr="00007264"/>
          <p:cNvPicPr/>
          <p:nvPr/>
        </p:nvPicPr>
        <p:blipFill>
          <a:blip r:embed="rId2"/>
          <a:stretch/>
        </p:blipFill>
        <p:spPr>
          <a:xfrm>
            <a:off x="4643280" y="3573360"/>
            <a:ext cx="25927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65c"/>
                </a:solidFill>
                <a:latin typeface="Century Schoolbook"/>
              </a:rPr>
              <a:t>ФОРМИРОВАНИЕ  КЛЮЧЕВЫХ КОМПЕТЕНЦИЙ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ение брать на себя ответственность при принятии решений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олерантность, уважение людей других национальностей, умение жить с людьми других культур, религий, языков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ение работать с различными видами информации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особность постоянно повышать свое образование и т.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0" name="Picture 16" descr=""/>
          <p:cNvPicPr/>
          <p:nvPr/>
        </p:nvPicPr>
        <p:blipFill>
          <a:blip r:embed="rId1"/>
          <a:stretch/>
        </p:blipFill>
        <p:spPr>
          <a:xfrm>
            <a:off x="5796000" y="4848120"/>
            <a:ext cx="208764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ДОСТИГНУТЫЕ РЕЗУЛЬТАТ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учащихся развиваются навыки рефлексии, самооценка собственных действий становится обязательной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ся интерес к предметному содержанию истории, обществознания, экономики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ся самостоятельность учащихся по поиску информации, ее отбору и группировке по смыслу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постепенная и целенаправленная подготовка к выпускным экзаменам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ется роль учителя. Приоритетом становятся координирующие, стимулирующие функци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3" name="Picture 2" descr="школа - Елена Анатольевна Лаврентьева"/>
          <p:cNvPicPr/>
          <p:nvPr/>
        </p:nvPicPr>
        <p:blipFill>
          <a:blip r:embed="rId1"/>
          <a:stretch/>
        </p:blipFill>
        <p:spPr>
          <a:xfrm>
            <a:off x="7012080" y="692280"/>
            <a:ext cx="1720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ЗАДАЧИ ПОДГОТОВКИ ВЫПУСКНИКОВ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риентироваться в меняющейся жизненной ситуации, самостоятельно приобретая необходимые зн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остоятельно критически мысли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амотно работать с информацие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ыть коммуникабельными, контактными в различных социальных группа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остоятельно работать над развитием собственной нравственности, интеллекта, культурного уров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5" descr="школа - Елена Анатольевна Лаврентьева"/>
          <p:cNvPicPr/>
          <p:nvPr/>
        </p:nvPicPr>
        <p:blipFill>
          <a:blip r:embed="rId1"/>
          <a:stretch/>
        </p:blipFill>
        <p:spPr>
          <a:xfrm>
            <a:off x="7164360" y="115920"/>
            <a:ext cx="13194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Century Schoolbook"/>
              </a:rPr>
              <a:t>УСЛОВИЯ РЕАЛИЗАЦИИ ДАННЫХ ЗАДАЧ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 эти задачи могут быть реализованы в условиях активной деятельности учащегося при использовании учителем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интерактивных методов и приемов обучения и ИК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17" descr=""/>
          <p:cNvPicPr/>
          <p:nvPr/>
        </p:nvPicPr>
        <p:blipFill>
          <a:blip r:embed="rId1"/>
          <a:stretch/>
        </p:blipFill>
        <p:spPr>
          <a:xfrm>
            <a:off x="2340000" y="3284640"/>
            <a:ext cx="2808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Схема 3" descr=""/>
          <p:cNvPicPr/>
          <p:nvPr/>
        </p:nvPicPr>
        <p:blipFill>
          <a:blip r:embed="rId1"/>
          <a:stretch/>
        </p:blipFill>
        <p:spPr>
          <a:xfrm>
            <a:off x="749160" y="530280"/>
            <a:ext cx="721224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65c"/>
                </a:solidFill>
                <a:latin typeface="Century Schoolbook"/>
              </a:rPr>
              <a:t>ИНТЕРАКТИВНЫЕ МЕТОДЫ ОБУЧЕНИЯ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лово “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нтеракти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” образовано от слова“interact” (англ.), где “inter” — взаимный, “act” —действовать. “Интерактивность” означает способность взаимодействовать или находиться в режиме диалога.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нтерактивное обучени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— это, прежде всего, диалоговое обуче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5508720" y="4221000"/>
            <a:ext cx="1079280" cy="22003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школа - Елена Анатольевна Лаврентьева"/>
          <p:cNvPicPr/>
          <p:nvPr/>
        </p:nvPicPr>
        <p:blipFill>
          <a:blip r:embed="rId2"/>
          <a:stretch/>
        </p:blipFill>
        <p:spPr>
          <a:xfrm>
            <a:off x="826920" y="4437000"/>
            <a:ext cx="16560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65c"/>
                </a:solidFill>
                <a:latin typeface="Century Schoolbook"/>
              </a:rPr>
              <a:t>ПРИ ИНТЕРАКТИВНОМ ОБУЧЕНИИ ДИАЛОГ СТРОИТСЯ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итель —ученик” или “учитель — группа учащихся(аудитория)”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 на линиях “ученик — ученик”(работа в парах), “ученик — группа учащихся”(работа в группах), “ученик - аудитория” или“группа учащихся — аудитория” (презентация работы в группах), “ученик — компьютер” и т.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5" descr="школа - Елена Анатольевна Лаврентьева"/>
          <p:cNvPicPr/>
          <p:nvPr/>
        </p:nvPicPr>
        <p:blipFill>
          <a:blip r:embed="rId1"/>
          <a:stretch/>
        </p:blipFill>
        <p:spPr>
          <a:xfrm>
            <a:off x="3780000" y="4633920"/>
            <a:ext cx="306036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65c"/>
                </a:solidFill>
                <a:latin typeface="Century Schoolbook"/>
              </a:rPr>
              <a:t>ИНТЕРАКТИВНОЕ ОБУЧЕ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о специальная форма организации познавательной деятельности, когда учебный процесс протекает таким образом, что практически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все учащиеся оказываются вовлеченными в процесс познани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они имеют возможность понимать и рефлектировать по поводу того, что они знают и думают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5" descr="Картинки для презентаций на тему Школа"/>
          <p:cNvPicPr/>
          <p:nvPr/>
        </p:nvPicPr>
        <p:blipFill>
          <a:blip r:embed="rId1"/>
          <a:stretch/>
        </p:blipFill>
        <p:spPr>
          <a:xfrm>
            <a:off x="3492360" y="4665600"/>
            <a:ext cx="309564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65c"/>
                </a:solidFill>
                <a:latin typeface="Century Schoolbook"/>
              </a:rPr>
              <a:t>МЕТОДЫ ИНТЕРАКТИВНОГО ОБУЧ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зговой штурм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скусс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олевая и деловая иг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 “Синквейна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и предложения ”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итуационный анализ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убличный диспу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ение для критического осмысления экономической информац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5" descr="школа - Елена Анатольевна Лаврентьева"/>
          <p:cNvPicPr/>
          <p:nvPr/>
        </p:nvPicPr>
        <p:blipFill>
          <a:blip r:embed="rId1"/>
          <a:stretch/>
        </p:blipFill>
        <p:spPr>
          <a:xfrm>
            <a:off x="5867280" y="1789200"/>
            <a:ext cx="19749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6:18:17Z</dcterms:created>
  <dc:creator>Андрей</dc:creator>
  <dc:description/>
  <dc:language>en-US</dc:language>
  <cp:lastModifiedBy>Андрей</cp:lastModifiedBy>
  <dcterms:modified xsi:type="dcterms:W3CDTF">2013-03-11T13:02:24Z</dcterms:modified>
  <cp:revision>34</cp:revision>
  <dc:subject/>
  <dc:title>Использование интерактивных методов при повышении профессиональной компетентности учителя экономики.</dc:title>
</cp:coreProperties>
</file>