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7B7-2500-4695-BAEF-85AD4ED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B24-AF9F-4DCA-8A74-6C1E052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174-EE4C-42C1-9182-153A4BE2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E2A-334A-45AF-9363-70B86953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F38-250C-4E2C-B7A5-C7E8039F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D027-F9C8-4A81-9D32-0859AC7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513-C8C6-41D9-A0D1-2716C75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5EED-FC74-4636-8591-162B811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D9E6-BBC9-4D34-A27E-8CE8A92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585-999A-4961-B026-005D9919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692-3D94-4025-AB5B-C6F8318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2C8-2A0B-4F3A-BC84-2C2A2A24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0FA-0FD0-4335-86BF-F36EBD7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0AD5-00A8-4BA3-B5AF-8977450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477-0E26-443C-B932-052D5AAE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46C0-4791-4FEA-88B0-3581A9A4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F0E-8F21-415B-8A83-078961E3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5E3D3-915B-4D21-AA4D-701E9ACA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8A6DE-8369-46EA-A754-D8D848F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2814A-CF84-4793-95AD-107ECDE8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951B5-DD58-482B-B6E5-2107B13C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19141-B780-437C-A3D5-71583F0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096-A5C3-468C-BB59-A7658CA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BC478-1A1B-4488-A4F5-2CAD9587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F047D-91E7-40FF-8E50-33A26B4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BDA7B-ACF9-4C52-AF74-848C343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7D503-7E6E-4E1A-8EDE-746710B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AA2BA-A195-42DE-BE0F-8281B817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97550-3842-4203-AE13-B8B4708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8E971-FB61-4B65-B395-817CB7B3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B55E-AE75-4904-B6F2-FD3CB5BB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81BA-6CA1-418C-AAE1-597B3F4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7A89-3877-4BFD-8E7D-2A2CCD4F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722-F4D0-44E5-8B4D-DC271F4D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31A2-A6BB-4448-8F0B-800B3C1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2D06-0200-4ACD-A793-864813F1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8C5C-F0E8-4AC9-BFA3-F4443E9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15FD-51CE-4206-99D1-EA83A20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4570-B88B-4A5C-94E1-0A36387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39E4-1D8B-43C2-8520-EBB658E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E82F-D7DE-4537-97AE-AD5C07A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2138-E49E-47AA-8E49-9C55356E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5170-652B-48D4-BCD4-AF30C3E5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675A3-4682-4E15-9DC5-7BC76BB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94B-7903-49DA-9220-FA7C838C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381DE-5BD1-488C-9620-BC6AC395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A9633-7F16-4AEF-82B3-84421AE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CC31B-B520-4600-A9AA-8C8B84C4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40DDA-23E3-4B25-9AB9-CC9C791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A6ACE-F157-4D45-811D-55F2386D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5E3CA-F4F0-466C-BAF4-7389283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8F142-6D78-4D48-9A68-637F050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FD764-F887-46C4-856E-C3C6C8F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0BCE1-D194-4F06-B752-2349DEF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34086-1E60-4DBD-A692-1DF1048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AE4-A096-480A-B9F1-317C990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D0486-8326-43F1-8920-A25545A5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FCCE0-F73B-4C62-B7A1-7B98B66B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2C7BF-3B82-4721-B182-A1FCCBC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5DEE4-0210-4A0B-B494-EF5E9B9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3AA79-2108-4EF9-9489-84D2FDF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8AEE2-7E65-4DB7-8D1D-D71201F9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4D164-904C-4877-99CF-B549DA0C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F444A-5DB1-45CC-8711-7999937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1CAE6-F46B-4D9C-B4F6-B10B9FEB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63306-9B39-43B5-BCBE-77EB9F1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F4E-C315-4DEC-A6DF-FD73603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DD2C8-E1B1-4E61-9962-F20B245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AF913-B30F-4397-B4BC-EF6A6AC0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AC2EA-CAD0-4BA1-94F7-027D3B3D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DC9D3-7BDD-4F28-9C94-A5DDA9F1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0CF29-D7C8-4EAD-B2DC-A0F8CFD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85078-8817-438D-8761-079C4DE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16F51-C32F-4EA4-B59A-95D46105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139EA-68F9-49BA-8AB5-282D629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911A5-6113-4EF0-9DD5-335FF0F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37FE3-9AE0-4150-AB87-DF1F9E2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EA6-4814-4B31-9F04-C2D8CEB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71090-3E83-4F77-924F-8419F7D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719D4-78AC-49A9-9646-530D978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1E834-9583-4522-BAA6-593A708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D7F32-F411-44DF-AC01-26C3C995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F900A-7C79-4707-AAA4-0B1E0D8C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37B-3B8E-4424-A237-265D1D0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35F8-8A45-4954-84F7-9D67038ADB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EE2-C408-402C-89F0-8B48FDCCC5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AFE-BF47-4A4E-992F-5D81FA245C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573-AC57-40B8-A351-13D1D9608A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D86-44A5-4FA4-B0F1-DA410903C7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BF5-BA05-4EBC-A1DC-D3B9F65D17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308-D921-4B77-9A80-7D8A2E7988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ФОРМИРОВАНИЕ ИНФОРМАЦИОННО-КОММУНИКАЦИОННОЙ КОМПЕТЕНТНОСТИ СТАРШЕКЛАССНИКОВ НА УРОКАХ  ОБЩЕСТВОВЕДЧЕСКОГО ЦИКЛА ПОСРЕДСТВОМ ИСПОЛЬЗОВАНИЯ ПРИЁМОВ ИНТЕРАКТИВНОГО ОБУЧЕНИЯ И ИКТ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Валькова Светлана Леонидовна, учитель МБОУ СОШ №4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03280" cy="2376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школа - Елена Анатольевна Лаврентьева"/>
          <p:cNvPicPr/>
          <p:nvPr/>
        </p:nvPicPr>
        <p:blipFill>
          <a:blip r:embed="rId2"/>
          <a:stretch/>
        </p:blipFill>
        <p:spPr>
          <a:xfrm>
            <a:off x="5580000" y="1628640"/>
            <a:ext cx="15051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МОЗГОВОЙ ШТУРМ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метод продуцирования идей и решений при работе в групп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Цель мет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едение группового обсуждения для решения какой-либо пробл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адачами мозгового штурма являютс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ключение в работу всех членов групп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уровня знаний и основных интересов участ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ивизация творческого потенциала участ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4" descr="C:\Users\Андрей\Pictures\school2206.jpg"/>
          <p:cNvPicPr/>
          <p:nvPr/>
        </p:nvPicPr>
        <p:blipFill>
          <a:blip r:embed="rId1"/>
          <a:stretch/>
        </p:blipFill>
        <p:spPr>
          <a:xfrm>
            <a:off x="6516720" y="26028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ПРАВИЛА ПРОВЕДЕНИЯ «МОЗГОВОГО ШТУРМ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лектив делится на две группы: генераторы и аналитики ид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 выступает в роли “заказчика”.  излагает суть проблемы  и правила проведения мозговой атаки. Фиксирует идеи, высказанные участниками, держится в стороне от дискуссии. Со стороны учителя запрещается критика любых мнений и предложений, предпочитается разнообразие и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ФОРМЫ ДОПОЛНИТЕЛЬНЫХ УРОК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дактическая иг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тическое шо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а-конкур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Урок длиною в год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Мониторинг персональной инфля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Торговля валютой на учебном счёте Форек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Торговля акциями на учебном счёте фондового ры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8" descr="schulbuchandreas"/>
          <p:cNvPicPr/>
          <p:nvPr/>
        </p:nvPicPr>
        <p:blipFill>
          <a:blip r:embed="rId1"/>
          <a:stretch/>
        </p:blipFill>
        <p:spPr>
          <a:xfrm>
            <a:off x="5364000" y="4508640"/>
            <a:ext cx="2100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хема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4"/>
          <p:cNvGrpSpPr/>
          <p:nvPr/>
        </p:nvGrpSpPr>
        <p:grpSpPr>
          <a:xfrm>
            <a:off x="1042920" y="549360"/>
            <a:ext cx="6553440" cy="647640"/>
            <a:chOff x="1042920" y="549360"/>
            <a:chExt cx="6553440" cy="647640"/>
          </a:xfrm>
        </p:grpSpPr>
        <p:pic>
          <p:nvPicPr>
            <p:cNvPr id="391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042920" y="549360"/>
              <a:ext cx="6553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Скругленный прямоугольник 4"/>
            <p:cNvSpPr/>
            <p:nvPr/>
          </p:nvSpPr>
          <p:spPr>
            <a:xfrm>
              <a:off x="1131120" y="641880"/>
              <a:ext cx="637848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Прямоугольник 7"/>
          <p:cNvSpPr/>
          <p:nvPr/>
        </p:nvSpPr>
        <p:spPr>
          <a:xfrm>
            <a:off x="3716640" y="32446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65c"/>
                </a:solidFill>
                <a:latin typeface="Arial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8"/>
          <p:cNvSpPr/>
          <p:nvPr/>
        </p:nvSpPr>
        <p:spPr>
          <a:xfrm flipH="1">
            <a:off x="1042200" y="620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6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РОЛЕВАЯ ИГ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ситуация, в которой участник берет нехарактерную для него роль, поступает непривычным образ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понентами ролевой игры выступают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оделирование -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рмирование эффективного способа поведения каждого участника группы в конкретной разыгрываемой им ситу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нструктаж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мешательство ведущего(учителя), который помогает участникам группы советами, обратной связью, поддержкой поиска оптимального выхода из трудной ситу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дкрепление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ощрение, стимулирующее правильное поведение участников группы в разыгрываемой ситуа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ДИДАКТИЧЕСКАЯ ИГ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то игра учебного характера, предполагающая нахождение единственно правильного ответа и имеющая формализованную структуру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ипы вопросов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 вопрос с использованием таблиц, диаграмм, графиков (на них экономические показатели страны – описать её экономическое состояни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 Незаполненная таблица, отсутствует название фирмы, страны, по динамике показателей догадаться о какой стране реч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Мультимедийные вопросы: например, с сайта загружаются данные о прибылях или убытках компании и нужно объяснить, что будет с ценой на её а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АНАЛИТИЧЕСКОЕ ШО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выступления учебного характе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е: участники должны иметь оригинальные экономические идеи и хотеть доказать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моделирование телешоу «Минута слав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6" descr="0_3a851_7fc63923_L"/>
          <p:cNvPicPr/>
          <p:nvPr/>
        </p:nvPicPr>
        <p:blipFill>
          <a:blip r:embed="rId1"/>
          <a:stretch/>
        </p:blipFill>
        <p:spPr>
          <a:xfrm>
            <a:off x="3780000" y="3789360"/>
            <a:ext cx="201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ЁМЫ ИНТЕРАКТИВНОГО ОБУЧЕНИЯ И ИКТ НА УРОК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а уроке экономики «Занятые и безработные» в 10 кл. отрабатывается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ритическое отношение к получаемой информации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умение выделять главное, оценивать степень достоверности (релевантность запроса, сетевые мистификации, и т.п.). Учащиеся получают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задан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:1.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йти в Интернет и проанализировать состояние уровня безработицы в  стране, сравнив с Белгородской областью; 2. Найти на сайте Госкомстата данные о соотношении безработных мужчин и  женщин, молодёжи, проанализировать и сделать выводы; 3. Найти данные об уровне безработицы по разным регионам России, сделать выводы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Умение применять информационные и телекоммуникационные технологии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для решения широкого класса учебных задач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отрабатывается на уроке «Занятые и безработные»: учащиеся , используя вышеназванные сведения, найденные ими  в течении урока в Интернет, должны составить на компьютере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график изменения  уровня безработицы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 регионам;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сравнительну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ю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таблицу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обобщающую таблицу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и выступить с данной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презентацией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на уроке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ОЛЕВАЯ ИГРА «КАК УВЕЛИЧИТЬ ПРОДАЖИ?» (ПРОМОАКЦИЯ В ГИПЕРМАРКЕТЕ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Цели уро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1. применение эластичности спроса для планирования промоакци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Развитие навыков применения экономических концепций в бизнес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Развитие навыков аналитическ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одготовке к уроку учащиеся получают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пережающее зада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посетить гипермаркет «Линия», изучить ассортимент товаров в отделах бытовой химии, продовольственном, молочном, овощном отделах, цены на эти товары. Изучить сайт гипермаркета с перечнем товаров и услу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ОЛЕВАЯ ИГРА «КАК УВЕЛИЧИТЬ ПРОДАЖИ?» (ПРОМОАКЦИЯ В ГИПЕРМАРКЕТЕ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Директор по маркетингу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планирует промоакцию с целью увеличить объём продаж при одновременном увеличении валовой выручки от продаж  каждого товара. «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Менеджеры отдело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должны подготовить предложения по каждому отделу магазина: определить товары эластичного и неэластичного спроса, спроса с единичной эластичностью, рассчитать размеры выручки при снижении цены на 20 % и сделать выво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Этапы работы групп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«сетевые администраторы» работают с материалами Интернет 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//50.economicus.ru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, изучают каталог товаров, строят графики спроса на различные виды товаров, работают с диском (таблица в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X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 «Менеджеры» характеризуют товары своего отдела и выдвигают предложения по промоакции «мозговой штурм»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Федеральный компонент государственного стандар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бщего образования одной из важнейших задач школы  ставит подготовку обучающихся к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сознанному и ответственному выбору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изненного и профессионального пути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просто дать ребёнку максимальное количество готовых знаний, но 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учить его самостоятельно находить и обрабатывать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Стрелка вправо 3"/>
          <p:cNvSpPr/>
          <p:nvPr/>
        </p:nvSpPr>
        <p:spPr>
          <a:xfrm>
            <a:off x="6659640" y="3645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0" descr="j0078701"/>
          <p:cNvPicPr/>
          <p:nvPr/>
        </p:nvPicPr>
        <p:blipFill>
          <a:blip r:embed="rId1"/>
          <a:stretch/>
        </p:blipFill>
        <p:spPr>
          <a:xfrm>
            <a:off x="7701120" y="3141720"/>
            <a:ext cx="979200" cy="2016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C:\Users\Андрей\Pictures\school2221.jpg"/>
          <p:cNvPicPr/>
          <p:nvPr/>
        </p:nvPicPr>
        <p:blipFill>
          <a:blip r:embed="rId2"/>
          <a:stretch/>
        </p:blipFill>
        <p:spPr>
          <a:xfrm>
            <a:off x="7740720" y="76500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6" descr=""/>
          <p:cNvPicPr/>
          <p:nvPr/>
        </p:nvPicPr>
        <p:blipFill>
          <a:blip r:embed="rId3"/>
          <a:stretch/>
        </p:blipFill>
        <p:spPr>
          <a:xfrm>
            <a:off x="1835280" y="182520"/>
            <a:ext cx="5194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МОНИТОРИНГ ПЕРСОНАЛЬНОЙ ИНФЛЯ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: поддерживать интерес к экономике в течение г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: узнать, насколько выросли цены в течение года для определённой семьи, вводя данные о своих покупках в калькулятор персональной инфляции на сайте Федеральной службы государственной статистики РФ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/qks.ru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поставить рост цен со средней инфляцией по стра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0" descr="00007275"/>
          <p:cNvPicPr/>
          <p:nvPr/>
        </p:nvPicPr>
        <p:blipFill>
          <a:blip r:embed="rId1"/>
          <a:stretch/>
        </p:blipFill>
        <p:spPr>
          <a:xfrm>
            <a:off x="5940360" y="4797360"/>
            <a:ext cx="19447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ТОРГОВЛЯ ВАЛЮТОЙ НА УЧЕБНОМ СЧЁТЕ ФОРЕКС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щийся может без риска попробовать свои силы на валютном трейдинге и изучить принципы этой деятельности на учебном счёте в Интернет-порта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чёт поступает виртуальная денежная сумма, на которую учащиеся могут покупать иностранную валю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18" descr="00007298"/>
          <p:cNvPicPr/>
          <p:nvPr/>
        </p:nvPicPr>
        <p:blipFill>
          <a:blip r:embed="rId1"/>
          <a:stretch/>
        </p:blipFill>
        <p:spPr>
          <a:xfrm>
            <a:off x="4716360" y="4149720"/>
            <a:ext cx="2808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ТОРГОВЛЯ АКЦИЯМИ НА УЧЕБНОМ СЧЁТЕ ФОНДОВОГО РЫН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крытие демосчёта позволяет изучить анализ фондового рынка, отработать процессы совершения сделок, выбирать торговую стратегию без риска понести реальные финансовые убыт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C:\Users\Андрей\Pictures\Рисунок1.jpg"/>
          <p:cNvPicPr/>
          <p:nvPr/>
        </p:nvPicPr>
        <p:blipFill>
          <a:blip r:embed="rId1"/>
          <a:stretch/>
        </p:blipFill>
        <p:spPr>
          <a:xfrm>
            <a:off x="971640" y="4292640"/>
            <a:ext cx="1587240" cy="146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6" descr="00007264"/>
          <p:cNvPicPr/>
          <p:nvPr/>
        </p:nvPicPr>
        <p:blipFill>
          <a:blip r:embed="rId2"/>
          <a:stretch/>
        </p:blipFill>
        <p:spPr>
          <a:xfrm>
            <a:off x="4643280" y="3573360"/>
            <a:ext cx="2592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ФОРМИРОВАНИЕ  КЛЮЧЕВЫХ КОМПЕТЕНЦ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ение брать на себя ответственность при принятии решен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лерантность, уважение людей других национальностей, умение жить с людьми других культур, религий, языко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ение работать с различными видами информаци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ность постоянно повышать свое образование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16" descr=""/>
          <p:cNvPicPr/>
          <p:nvPr/>
        </p:nvPicPr>
        <p:blipFill>
          <a:blip r:embed="rId1"/>
          <a:stretch/>
        </p:blipFill>
        <p:spPr>
          <a:xfrm>
            <a:off x="5796000" y="4848120"/>
            <a:ext cx="2087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ОСТИГНУТЫЕ РЕЗУЛЬТА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ащихся развиваются навыки рефлексии, самооценка собственных действий становится обязательной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интерес к предметному содержанию истории, обществознания, экономик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самостоятельность учащихся по поиску информации, ее отбору и группировке по смысл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ая и целенаправленная подготовка к выпускным экзамена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роль учителя. Приоритетом становятся координирующие, стимулирующие фун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2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7012080" y="692280"/>
            <a:ext cx="1720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ПОДГОТОВКИ ВЫПУСКНИКОВ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иентироваться в меняющейся жизненной ситуации, самостоятельно приобретая необходимые зн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стоятельно критически мысли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мотно работать с информаци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ть коммуникабельными, контактными в различных социальных группа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стоятельно работать над развитием собственной нравственности, интеллекта, культурного уров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7164360" y="115920"/>
            <a:ext cx="1319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entury Schoolbook"/>
              </a:rPr>
              <a:t>УСЛОВИЯ РЕАЛИЗАЦИИ ДАННЫХ ЗАД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эти задачи могут быть реализованы в условиях активной деятельности учащегося при использовании учителем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нтерактивных методов и приемов обучения и И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17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280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хема 3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21224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ИНТЕРАКТИВНЫЕ МЕТОДЫ ОБУЧЕ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о “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теракти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” образовано от слова“interact” (англ.), где “inter” — взаимный, “act” —действовать. “Интерактивность” означает способность взаимодействовать или находиться в режиме диалога.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терактив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это, прежде всего, диалоговое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107928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школа - Елена Анатольевна Лаврентьева"/>
          <p:cNvPicPr/>
          <p:nvPr/>
        </p:nvPicPr>
        <p:blipFill>
          <a:blip r:embed="rId2"/>
          <a:stretch/>
        </p:blipFill>
        <p:spPr>
          <a:xfrm>
            <a:off x="826920" y="4437000"/>
            <a:ext cx="1656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ПРИ ИНТЕРАКТИВНОМ ОБУЧЕНИИ ДИАЛОГ СТРОИТС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—ученик” или “учитель — группа учащихся(аудитория)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на линиях “ученик — ученик”(работа в парах), “ученик — группа учащихся”(работа в группах), “ученик - аудитория” или“группа учащихся — аудитория” (презентация работы в группах), “ученик — компьютер” и т.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3780000" y="4633920"/>
            <a:ext cx="30603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ИНТЕРАКТИВНОЕ ОБУ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пециальная форма организации познавательной деятельности, когда учебный процесс протекает таким образом, что практически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все учащиеся оказываются вовлеченными в процесс позна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они имеют возможность понимать и рефлектировать по поводу того, что они знают и думаю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Картинки для презентаций на тему Школа"/>
          <p:cNvPicPr/>
          <p:nvPr/>
        </p:nvPicPr>
        <p:blipFill>
          <a:blip r:embed="rId1"/>
          <a:stretch/>
        </p:blipFill>
        <p:spPr>
          <a:xfrm>
            <a:off x="3492360" y="4665600"/>
            <a:ext cx="3095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МЕТОДЫ ИНТЕРАКТИВ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зговой штурм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кусс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левая и деловая иг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“Синквейна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и предложения ”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туационный анали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бличный диспу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ение для критического осмысления экономической информ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5867280" y="1789200"/>
            <a:ext cx="1974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6:18:17Z</dcterms:created>
  <dc:creator>Андрей</dc:creator>
  <dc:description/>
  <dc:language>en-US</dc:language>
  <cp:lastModifiedBy>Андрей</cp:lastModifiedBy>
  <dcterms:modified xsi:type="dcterms:W3CDTF">2013-03-11T13:02:24Z</dcterms:modified>
  <cp:revision>34</cp:revision>
  <dc:subject/>
  <dc:title>Использование интерактивных методов при повышении профессиональной компетентности учителя экономики.</dc:title>
</cp:coreProperties>
</file>