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400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Madera TYGRA"/>
              </a:rPr>
              <a:t>Click to edit the title text format</a:t>
            </a: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_FuturaRoundDemi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_FuturaRound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_FuturaRoundDemi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_FuturaRoundDemi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_FuturaRound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_FuturaRoundDemi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_FuturaRound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_FuturaRoundDemi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_FuturaRound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_FuturaRoundDemi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_FuturaRound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_FuturaRoundDemi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1" descr=""/>
          <p:cNvPicPr/>
          <p:nvPr/>
        </p:nvPicPr>
        <p:blipFill>
          <a:blip r:embed="rId1"/>
          <a:stretch/>
        </p:blipFill>
        <p:spPr>
          <a:xfrm>
            <a:off x="865080" y="1930320"/>
            <a:ext cx="7658280" cy="4114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_FuturaRoundDemi"/>
              </a:rPr>
              <a:t>МБОУ «Шумановская СОШ»</a:t>
            </a:r>
            <a:endParaRPr b="0" lang="en-US" sz="32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3300"/>
                </a:solidFill>
                <a:latin typeface="Madera TYGRA"/>
              </a:rPr>
              <a:t>Вторая жизнь дерева</a:t>
            </a:r>
            <a:endParaRPr b="0" lang="en-US" sz="66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41" name="Прямоугольник 9"/>
          <p:cNvSpPr/>
          <p:nvPr/>
        </p:nvSpPr>
        <p:spPr>
          <a:xfrm>
            <a:off x="4643280" y="5214960"/>
            <a:ext cx="3813480" cy="824040"/>
          </a:xfrm>
          <a:prstGeom prst="rect">
            <a:avLst/>
          </a:prstGeom>
          <a:gradFill rotWithShape="0">
            <a:gsLst>
              <a:gs pos="0">
                <a:srgbClr val="004f81"/>
              </a:gs>
              <a:gs pos="100000">
                <a:srgbClr val="006caf"/>
              </a:gs>
            </a:gsLst>
            <a:lin ang="16200000"/>
          </a:gradFill>
          <a:ln w="9360">
            <a:solidFill>
              <a:srgbClr val="0065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2f2f2"/>
                </a:solidFill>
                <a:latin typeface="a_FuturaRoundDemi"/>
              </a:rPr>
              <a:t>Работу выполнила: ученица 1</a:t>
            </a:r>
            <a:r>
              <a:rPr b="0" i="1" lang="en-US" sz="1600" spc="-1" strike="noStrike">
                <a:solidFill>
                  <a:srgbClr val="f2f2f2"/>
                </a:solidFill>
                <a:latin typeface="a_FuturaRoundDemi"/>
              </a:rPr>
              <a:t> </a:t>
            </a:r>
            <a:r>
              <a:rPr b="0" i="1" lang="ru-RU" sz="1600" spc="-1" strike="noStrike">
                <a:solidFill>
                  <a:srgbClr val="f2f2f2"/>
                </a:solidFill>
                <a:latin typeface="a_FuturaRoundDemi"/>
              </a:rPr>
              <a:t>класса </a:t>
            </a:r>
            <a:br>
              <a:rPr sz="1600"/>
            </a:br>
            <a:r>
              <a:rPr b="0" i="1" lang="ru-RU" sz="1600" spc="-1" strike="noStrike">
                <a:solidFill>
                  <a:srgbClr val="f2f2f2"/>
                </a:solidFill>
                <a:latin typeface="a_FuturaRoundDemi"/>
              </a:rPr>
              <a:t>Бернгардт Еле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2f2f2"/>
                </a:solidFill>
                <a:latin typeface="a_FuturaRoundDemi"/>
              </a:rPr>
              <a:t>Руководитель: Аткина О.Н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Прямоугольник 10"/>
          <p:cNvSpPr/>
          <p:nvPr/>
        </p:nvSpPr>
        <p:spPr>
          <a:xfrm>
            <a:off x="3936960" y="621504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_FuturaRoundDemi"/>
              </a:rPr>
              <a:t>09.02.1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4200" y="103320"/>
            <a:ext cx="871560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Madera TYGRA"/>
              </a:rPr>
              <a:t>Рабочее место резчика по дереву</a:t>
            </a:r>
            <a:endParaRPr b="0" lang="en-US" sz="4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28880"/>
            <a:ext cx="8229600" cy="19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Я попросила дедушку рассказать о его рабочем месте и узнала, что оно должно быть хорошо проветриваемым, освещенным и с постоянной температурой.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5143680" y="3645000"/>
            <a:ext cx="38304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840" y="103320"/>
            <a:ext cx="864396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Madera TYGRA"/>
              </a:rPr>
              <a:t>Свойства и области применения некоторых древесных пород</a:t>
            </a:r>
            <a:endParaRPr b="0" lang="en-US" sz="4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00320" y="1571760"/>
            <a:ext cx="4857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Madera TYGRA"/>
              </a:rPr>
              <a:t>Сосна</a:t>
            </a:r>
            <a:endParaRPr b="0" lang="en-US" sz="4000" spc="-1" strike="noStrike">
              <a:solidFill>
                <a:srgbClr val="006600"/>
              </a:solidFill>
              <a:latin typeface="a_FuturaRoundDem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Свойства: мягкая, легкая, быстро сохнет</a:t>
            </a: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Применение: мебельное производство,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подделки, резьба</a:t>
            </a: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                    </a:t>
            </a: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_FuturaRoundDemi"/>
              </a:rPr>
              <a:t>                   </a:t>
            </a:r>
            <a:r>
              <a:rPr b="0" lang="ru-RU" sz="2400" spc="-1" strike="noStrike">
                <a:solidFill>
                  <a:srgbClr val="663300"/>
                </a:solidFill>
                <a:latin typeface="a_FuturaRoundDemi"/>
              </a:rPr>
              <a:t>Резная гардина</a:t>
            </a: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</p:txBody>
      </p:sp>
      <p:pic>
        <p:nvPicPr>
          <p:cNvPr id="69" name="Picture 4" descr="DSC01033"/>
          <p:cNvPicPr/>
          <p:nvPr/>
        </p:nvPicPr>
        <p:blipFill>
          <a:blip r:embed="rId1"/>
          <a:stretch/>
        </p:blipFill>
        <p:spPr>
          <a:xfrm>
            <a:off x="139680" y="4857840"/>
            <a:ext cx="8680320" cy="1384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571680" y="2000160"/>
            <a:ext cx="1531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_FuturaRoundDemi"/>
              </a:rPr>
              <a:t>Беседка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142920" y="2421000"/>
            <a:ext cx="32893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77760" y="135000"/>
            <a:ext cx="6581880" cy="3682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00080" y="5572080"/>
            <a:ext cx="1643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_FuturaRoundDemi"/>
              </a:rPr>
              <a:t>Резной навес 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0" y="785880"/>
            <a:ext cx="30272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_FuturaRoundDemi"/>
              </a:rPr>
              <a:t>Резной козыре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3259080" y="3141720"/>
            <a:ext cx="565308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120600" y="4005360"/>
            <a:ext cx="7150320" cy="2760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4920" y="213840"/>
            <a:ext cx="4605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Madera TYGRA"/>
              </a:rPr>
              <a:t>Береза</a:t>
            </a:r>
            <a:endParaRPr b="0" lang="en-US" sz="4400" spc="-1" strike="noStrike">
              <a:solidFill>
                <a:srgbClr val="006600"/>
              </a:solidFill>
              <a:latin typeface="a_FuturaRoundDem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Свойства: твердая,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хорошо обрабатывается</a:t>
            </a: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Применение: мебельное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производство, изготовление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охотничьих лыж</a:t>
            </a: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7429680" y="4714920"/>
            <a:ext cx="142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_FuturaRoundDemi"/>
              </a:rPr>
              <a:t>Резна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_FuturaRoundDemi"/>
              </a:rPr>
              <a:t>рамка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_FuturaRoundDemi"/>
              </a:rPr>
              <a:t>дл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_FuturaRoundDemi"/>
              </a:rPr>
              <a:t>зеркал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4339080" y="600084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_FuturaRoundDemi"/>
              </a:rPr>
              <a:t>Резной забор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2"/>
          <a:stretch/>
        </p:blipFill>
        <p:spPr>
          <a:xfrm>
            <a:off x="5580000" y="260280"/>
            <a:ext cx="3348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00040" y="142560"/>
            <a:ext cx="81439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Данные работы дедушка смастерил для детского сада</a:t>
            </a: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997920" y="618156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_FuturaRoundDemi"/>
              </a:rPr>
              <a:t>Скамейка из дерев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786200" y="6242040"/>
            <a:ext cx="4286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_FuturaRoundDemi"/>
              </a:rPr>
              <a:t>Кресло из дерева «Гномик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560520" y="792000"/>
            <a:ext cx="4011480" cy="5389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"/>
          <p:cNvPicPr/>
          <p:nvPr/>
        </p:nvPicPr>
        <p:blipFill>
          <a:blip r:embed="rId2"/>
          <a:stretch/>
        </p:blipFill>
        <p:spPr>
          <a:xfrm>
            <a:off x="5181480" y="792000"/>
            <a:ext cx="34354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Madera TYGRA"/>
              </a:rPr>
              <a:t>Мастерим вместе</a:t>
            </a:r>
            <a:endParaRPr b="0" lang="en-US" sz="48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14240" y="1214280"/>
            <a:ext cx="4214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_FuturaRoundDemi"/>
              </a:rPr>
              <a:t>Занимаясь исследовательской работой, мне захотелось самой поработать с дедушкой.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5148360" y="907920"/>
            <a:ext cx="33098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71400" y="1142640"/>
            <a:ext cx="7972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Всю информацию, которая здесь представлена, я получила с помощью знаний моего дедушки,  его настольных книг по резьбе, а так же из ресурсов Интернета.</a:t>
            </a: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При работе над данной темой, я узнала много нового и интересного. В дальнейшем хочу продолжить изучать вторую жизнь дерева. Мне кажется, что она такая разная.</a:t>
            </a: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Madera TYGRA"/>
              </a:rPr>
              <a:t>Вывод</a:t>
            </a:r>
            <a:endParaRPr b="0" lang="en-US" sz="4800" spc="-1" strike="noStrike">
              <a:solidFill>
                <a:srgbClr val="663300"/>
              </a:solidFill>
              <a:latin typeface="Madera TYGRA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57024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6840" y="428400"/>
            <a:ext cx="55436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Увидев беседку, резной забор и наличники, у меня возник вопрос: почему дедушка стал этим заниматься?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Дедушка ответил, что однажды он увидел, как режут по дереву и решил попробовать сам. Это занятие пришлось ему по душе, и он увлекся этим. Каждый раз у дедушки получаются оригинальные и необычные работы.                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</p:txBody>
      </p:sp>
      <p:pic>
        <p:nvPicPr>
          <p:cNvPr id="93" name="Picture 4" descr="сосн"/>
          <p:cNvPicPr/>
          <p:nvPr/>
        </p:nvPicPr>
        <p:blipFill>
          <a:blip r:embed="rId1"/>
          <a:stretch/>
        </p:blipFill>
        <p:spPr>
          <a:xfrm>
            <a:off x="5999040" y="560520"/>
            <a:ext cx="2816280" cy="3725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6929280" y="4332240"/>
            <a:ext cx="184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_FuturaRoundDemi"/>
              </a:rPr>
              <a:t>Резной наличник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85880" y="142560"/>
            <a:ext cx="7500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Madera TYGRA"/>
              </a:rPr>
              <a:t>Работа над проектом </a:t>
            </a:r>
            <a:endParaRPr b="0" lang="en-US" sz="4400" spc="-1" strike="noStrike">
              <a:solidFill>
                <a:srgbClr val="006600"/>
              </a:solidFill>
              <a:latin typeface="a_FuturaRoundDemi"/>
            </a:endParaRPr>
          </a:p>
        </p:txBody>
      </p:sp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041720" cy="56502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49236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Madera TYGRA"/>
              </a:rPr>
              <a:t>Литература</a:t>
            </a:r>
            <a:endParaRPr b="0" lang="en-US" sz="48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85960" y="1856880"/>
            <a:ext cx="7400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_FuturaRoundDemi"/>
              </a:rPr>
              <a:t>Книга «Моя первая энциклопедия»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  <a:p>
            <a:pPr marL="332640" indent="-332640">
              <a:spcBef>
                <a:spcPts val="799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_FuturaRoundDemi"/>
              </a:rPr>
              <a:t>Книга «Резьба по дереву»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  <a:p>
            <a:pPr marL="332640" indent="-332640">
              <a:spcBef>
                <a:spcPts val="799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_FuturaRoundDemi"/>
              </a:rPr>
              <a:t>Ресурсы Интернета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Madera TYGRA"/>
              </a:rPr>
              <a:t>Содержание</a:t>
            </a:r>
            <a:endParaRPr b="0" lang="en-US" sz="48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Почему я выбрала эту тему?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  <a:p>
            <a:pPr marL="332640" indent="-332640">
              <a:spcBef>
                <a:spcPts val="700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Актуальность темы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  <a:p>
            <a:pPr marL="332640" indent="-332640">
              <a:spcBef>
                <a:spcPts val="700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Цели и задачи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  <a:p>
            <a:pPr marL="332640" indent="-332640">
              <a:spcBef>
                <a:spcPts val="700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Строение и свойства древесины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  <a:p>
            <a:pPr marL="332640" indent="-332640">
              <a:spcBef>
                <a:spcPts val="700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Время заготовки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  <a:p>
            <a:pPr marL="332640" indent="-332640">
              <a:spcBef>
                <a:spcPts val="700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Рабочее место резчика по дереву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  <a:p>
            <a:pPr marL="332640" indent="-332640">
              <a:spcBef>
                <a:spcPts val="700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Свойства и области применения некоторых древесных пород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  <a:p>
            <a:pPr marL="332640" indent="-332640">
              <a:spcBef>
                <a:spcPts val="700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Вывод 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  <a:p>
            <a:pPr marL="332640" indent="-332640">
              <a:spcBef>
                <a:spcPts val="700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Литература 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  <a:p>
            <a:pPr marL="332640" indent="-332640">
              <a:spcBef>
                <a:spcPts val="700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Madera TYGRA"/>
              </a:rPr>
              <a:t>Почему я выбрала эту тему?</a:t>
            </a:r>
            <a:endParaRPr b="0" lang="en-US" sz="4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_FuturaRoundDemi"/>
              </a:rPr>
              <a:t>Мне стало интересно, какую же вторую жизнь дают дереву в нашей семье? Потому что я видела дома много деревянных изделий. Они мне очень нравятся. Много изделий я видела дома у моего дедушки – Бернгардта Иосифа Андреевича. И я узнала, что это все он делал сам. Мне захотелось узнать о второй жизни дерева больше.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5643720"/>
            <a:ext cx="20718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_FuturaRoundDemi"/>
              </a:rPr>
              <a:t>Резной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a_FuturaRoundDemi"/>
              </a:rPr>
              <a:t>наличник</a:t>
            </a:r>
            <a:endParaRPr b="0" lang="en-US" sz="3200" spc="-1" strike="noStrike">
              <a:solidFill>
                <a:srgbClr val="663300"/>
              </a:solidFill>
              <a:latin typeface="Madera TYGRA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41368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3300"/>
                </a:solidFill>
                <a:latin typeface="Madera TYGRA"/>
              </a:rPr>
              <a:t>Актуальность темы</a:t>
            </a: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_FuturaRoundDemi"/>
              </a:rPr>
              <a:t>Актуальность моей работы заключается в том, чтобы находить интересное и необычное рядом, в доступных для наблюдения местах.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3300"/>
                </a:solidFill>
                <a:latin typeface="Madera TYGRA"/>
              </a:rPr>
              <a:t>Цели:</a:t>
            </a:r>
            <a:endParaRPr b="0" lang="en-US" sz="5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_FuturaRoundDemi"/>
              </a:rPr>
              <a:t>Узнать, как появились деревянные изделия в нашей семье, кто дал дереву вторую жизнь.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_FuturaRound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_FuturaRoundDemi"/>
              </a:rPr>
              <a:t>Провести наблюдения, обобщить результаты исследования.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Madera TYGRA"/>
              </a:rPr>
              <a:t> </a:t>
            </a:r>
            <a:r>
              <a:rPr b="0" lang="ru-RU" sz="4800" spc="-1" strike="noStrike">
                <a:solidFill>
                  <a:srgbClr val="663300"/>
                </a:solidFill>
                <a:latin typeface="Madera TYGRA"/>
              </a:rPr>
              <a:t>Задачи:</a:t>
            </a:r>
            <a:endParaRPr b="0" lang="en-US" sz="48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214280"/>
            <a:ext cx="5186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_FuturaRoundDemi"/>
              </a:rPr>
              <a:t>Чтобы узнать о второй жизни дерева, мне необходимо изучить подробно строение и свойства древесины, также историю дерева и какие именно работы из данного материала мастера готовят.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_FuturaRoundDemi"/>
              </a:rPr>
              <a:t>Оформить исследование в электронном виде.</a:t>
            </a:r>
            <a:endParaRPr b="0" lang="en-US" sz="3200" spc="-1" strike="noStrike">
              <a:solidFill>
                <a:srgbClr val="006600"/>
              </a:solidFill>
              <a:latin typeface="a_FuturaRoundDemi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5435640" y="1052640"/>
            <a:ext cx="329256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Madera TYGRA"/>
              </a:rPr>
              <a:t>Строение и свойства древесины</a:t>
            </a:r>
            <a:endParaRPr b="0" lang="en-US" sz="44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00080"/>
            <a:ext cx="8229600" cy="32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_FuturaRoundDemi"/>
              </a:rPr>
              <a:t>Из сайтов Интернета и из книг я узнала о строении и свойствах древесины. Дерево издавна было одним из самых распространенных материалов, доступных для домашнего умельца. Изделия из дерева ценятся за прочность, красивый вид, легкость обработки, «теплоту» и даже за приятный запах.  Рисунок и окраска древесины тоже привлекательны. Древесина – материал, получаемый из срубленного и очищенного от коры и ветвей ствола дерева.</a:t>
            </a:r>
            <a:endParaRPr b="0" lang="en-US" sz="2400" spc="-1" strike="noStrike">
              <a:solidFill>
                <a:srgbClr val="006600"/>
              </a:solidFill>
              <a:latin typeface="a_FuturaRoundDemi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987640" y="4362480"/>
            <a:ext cx="56134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Madera TYGRA"/>
              </a:rPr>
              <a:t>Время заготовки</a:t>
            </a:r>
            <a:endParaRPr b="0" lang="en-US" sz="4800" spc="-1" strike="noStrike">
              <a:solidFill>
                <a:srgbClr val="663300"/>
              </a:solidFill>
              <a:latin typeface="Madera TYGR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428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_FuturaRoundDemi"/>
              </a:rPr>
              <a:t>Из рассказов дедушки я поняла, что лесоматериалы лучше всего заготавливать поздней осенью или зимой. В это время в стволе дерева меньше влаги.</a:t>
            </a:r>
            <a:endParaRPr b="0" lang="en-US" sz="2800" spc="-1" strike="noStrike">
              <a:solidFill>
                <a:srgbClr val="006600"/>
              </a:solidFill>
              <a:latin typeface="a_FuturaRoundDemi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3903840" y="3068640"/>
            <a:ext cx="5168880" cy="3220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46706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9:19:54Z</dcterms:created>
  <dc:creator>1</dc:creator>
  <dc:description/>
  <dc:language>en-US</dc:language>
  <cp:lastModifiedBy>МБОУ Шумановская СОШ</cp:lastModifiedBy>
  <dcterms:modified xsi:type="dcterms:W3CDTF">2013-03-22T05:30:21Z</dcterms:modified>
  <cp:revision>30</cp:revision>
  <dc:subject/>
  <dc:title>МБОУ «Шумановская СОШ»</dc:title>
</cp:coreProperties>
</file>