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8.gif" ContentType="image/gif"/>
  <Override PartName="/ppt/media/image8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gif" ContentType="image/gif"/>
  <Override PartName="/ppt/media/image6.wmf" ContentType="image/x-wmf"/>
  <Override PartName="/ppt/media/image7.png" ContentType="image/png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0F5-3467-4FB0-9C44-056A23A9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2A9-883C-4804-82B5-9467B5D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9B6-44D6-4753-8DAC-174AF7CE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87F-C9A0-452B-8092-90D916FA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0F4-D66A-4697-986E-B85152F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DFF-0795-488C-9532-0A8095F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A2A-5655-491B-A1BD-63416DD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E89-E72C-41AF-9EFA-A75E744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EA8-4D95-4EED-BCED-E120B6CA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BDB-4E63-47EF-A18B-5E6FBD9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674-3EB6-4F84-BB96-B9D31F1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16C-71AF-42E4-B2D3-853949A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520-2685-4386-B1E3-922774E89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64320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907920" y="-182520"/>
            <a:ext cx="73152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2d050"/>
                </a:solidFill>
                <a:latin typeface="Calibri"/>
              </a:rPr>
              <a:t>Переведи</a:t>
            </a:r>
            <a:r>
              <a:rPr b="1" lang="en-US" sz="8000" spc="-1" strike="noStrike">
                <a:solidFill>
                  <a:srgbClr val="92d050"/>
                </a:solidFill>
                <a:latin typeface="Calibri"/>
              </a:rPr>
              <a:t>:</a:t>
            </a:r>
            <a:br>
              <a:rPr sz="8000"/>
            </a:b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cat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lephant-</a:t>
            </a:r>
            <a:br>
              <a:rPr sz="4400"/>
            </a:br>
            <a:r>
              <a:rPr b="0" lang="en-US" sz="4400" spc="-1" strike="noStrike">
                <a:solidFill>
                  <a:srgbClr val="31859c"/>
                </a:solidFill>
                <a:latin typeface="Calibri"/>
              </a:rPr>
              <a:t>hen-</a:t>
            </a:r>
            <a:br>
              <a:rPr sz="4400"/>
            </a:b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pen-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ubber-</a:t>
            </a:r>
            <a:br>
              <a:rPr sz="4400"/>
            </a:br>
            <a:r>
              <a:rPr b="0" lang="en-US" sz="4400" spc="-1" strike="noStrike">
                <a:solidFill>
                  <a:srgbClr val="948a54"/>
                </a:solidFill>
                <a:latin typeface="Calibri"/>
              </a:rPr>
              <a:t>like-</a:t>
            </a:r>
            <a:br>
              <a:rPr sz="4400"/>
            </a:b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an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Вставь буквы:</a:t>
            </a:r>
            <a:br>
              <a:rPr sz="96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bl…ck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r…n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…ump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mo…er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Calibri"/>
              </a:rPr>
              <a:t>fam…l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Monotype Corsiva"/>
              </a:rPr>
              <a:t>Запиши</a:t>
            </a:r>
            <a:r>
              <a:rPr b="0" lang="ru-RU" sz="80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8000" spc="-1" strike="noStrike">
                <a:solidFill>
                  <a:srgbClr val="7030a0"/>
                </a:solidFill>
                <a:latin typeface="Monotype Corsiva"/>
              </a:rPr>
              <a:t>цифрами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56800" y="1928880"/>
            <a:ext cx="7572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Two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Six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Eight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On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Five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Four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Monotype Corsiva"/>
              </a:rPr>
              <a:t>Составь предложения по картинке и запиши их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ирина\Рабочий стол\для презентации\Новая папка (2)\рисунки2\люди\люди\1.bmp"/>
          <p:cNvPicPr/>
          <p:nvPr/>
        </p:nvPicPr>
        <p:blipFill>
          <a:blip r:embed="rId1"/>
          <a:stretch/>
        </p:blipFill>
        <p:spPr>
          <a:xfrm>
            <a:off x="5043600" y="1928880"/>
            <a:ext cx="1314360" cy="164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ирина\Рабочий стол\для презентации\Новая папка (2)\рисунки2\люди\люди\15.gif"/>
          <p:cNvPicPr/>
          <p:nvPr/>
        </p:nvPicPr>
        <p:blipFill>
          <a:blip r:embed="rId2"/>
          <a:stretch/>
        </p:blipFill>
        <p:spPr>
          <a:xfrm>
            <a:off x="7143840" y="4594320"/>
            <a:ext cx="1785960" cy="17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ирина\Рабочий стол\для презентации\Новая папка (2)\рисунки2\дети\baby07.gif"/>
          <p:cNvPicPr/>
          <p:nvPr/>
        </p:nvPicPr>
        <p:blipFill>
          <a:blip r:embed="rId3"/>
          <a:stretch/>
        </p:blipFill>
        <p:spPr>
          <a:xfrm>
            <a:off x="857160" y="2143080"/>
            <a:ext cx="2214720" cy="171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ирина\Рабочий стол\для презентации\Новая папка (2)\рисунки2\спорт\футболист.WMF"/>
          <p:cNvPicPr/>
          <p:nvPr/>
        </p:nvPicPr>
        <p:blipFill>
          <a:blip r:embed="rId4"/>
          <a:stretch/>
        </p:blipFill>
        <p:spPr>
          <a:xfrm>
            <a:off x="6620040" y="1785960"/>
            <a:ext cx="2523960" cy="253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ирина\Рабочий стол\для презентации\Новая папка (2)\рисунки2\спорт\хоккеист.WMF"/>
          <p:cNvPicPr/>
          <p:nvPr/>
        </p:nvPicPr>
        <p:blipFill>
          <a:blip r:embed="rId5"/>
          <a:stretch/>
        </p:blipFill>
        <p:spPr>
          <a:xfrm>
            <a:off x="2000160" y="3143160"/>
            <a:ext cx="4159440" cy="250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Documents and Settings\ирина\Рабочий стол\для презентации\Новая папка (2)\рисунки2\домашние\8.bmp"/>
          <p:cNvPicPr/>
          <p:nvPr/>
        </p:nvPicPr>
        <p:blipFill>
          <a:blip r:embed="rId6"/>
          <a:stretch/>
        </p:blipFill>
        <p:spPr>
          <a:xfrm>
            <a:off x="857160" y="464328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ирина\Рабочий стол\для презентации\Новая папка (2)\КАРТИНКИ 8\БИБЛИОТЕКА\4.jpg"/>
          <p:cNvPicPr/>
          <p:nvPr/>
        </p:nvPicPr>
        <p:blipFill>
          <a:blip r:embed="rId7"/>
          <a:stretch/>
        </p:blipFill>
        <p:spPr>
          <a:xfrm>
            <a:off x="6143760" y="4357800"/>
            <a:ext cx="1285920" cy="112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ирина\Рабочий стол\для презентации\Новая папка (2)\КАРТИНКИ 8\БИБЛИОТЕКА\147.gif"/>
          <p:cNvPicPr/>
          <p:nvPr/>
        </p:nvPicPr>
        <p:blipFill>
          <a:blip r:embed="rId8"/>
          <a:stretch/>
        </p:blipFill>
        <p:spPr>
          <a:xfrm>
            <a:off x="3143160" y="485784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Поставь буквы в алфавитном порядк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0040" y="2786040"/>
            <a:ext cx="814392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C:\Documents and Settings\ирина\Рабочий стол\для презентации\Новая папка (2)\КАРТИНКИ 8\ШРИФТЫ\87.gif"/>
          <p:cNvPicPr/>
          <p:nvPr/>
        </p:nvPicPr>
        <p:blipFill>
          <a:blip r:embed="rId1"/>
          <a:stretch/>
        </p:blipFill>
        <p:spPr>
          <a:xfrm>
            <a:off x="928800" y="2435400"/>
            <a:ext cx="1643040" cy="151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ирина\Рабочий стол\для презентации\Новая папка (2)\КАРТИНКИ 8\ШРИФТЫ\91.gif"/>
          <p:cNvPicPr/>
          <p:nvPr/>
        </p:nvPicPr>
        <p:blipFill>
          <a:blip r:embed="rId2"/>
          <a:stretch/>
        </p:blipFill>
        <p:spPr>
          <a:xfrm>
            <a:off x="3143160" y="2651040"/>
            <a:ext cx="1357560" cy="137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ирина\Рабочий стол\для презентации\Новая папка (2)\КАРТИНКИ 8\ШРИФТЫ\94.gif"/>
          <p:cNvPicPr/>
          <p:nvPr/>
        </p:nvPicPr>
        <p:blipFill>
          <a:blip r:embed="rId3"/>
          <a:stretch/>
        </p:blipFill>
        <p:spPr>
          <a:xfrm>
            <a:off x="4500720" y="2286000"/>
            <a:ext cx="2071440" cy="209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ирина\Рабочий стол\для презентации\Новая папка (2)\КАРТИНКИ 8\ШРИФТЫ\86.gif"/>
          <p:cNvPicPr/>
          <p:nvPr/>
        </p:nvPicPr>
        <p:blipFill>
          <a:blip r:embed="rId4"/>
          <a:stretch/>
        </p:blipFill>
        <p:spPr>
          <a:xfrm>
            <a:off x="4572000" y="4500720"/>
            <a:ext cx="1214280" cy="154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ирина\Рабочий стол\для презентации\Новая папка (2)\КАРТИНКИ 8\ШРИФТЫ\82.gif"/>
          <p:cNvPicPr/>
          <p:nvPr/>
        </p:nvPicPr>
        <p:blipFill>
          <a:blip r:embed="rId5"/>
          <a:stretch/>
        </p:blipFill>
        <p:spPr>
          <a:xfrm>
            <a:off x="6954840" y="2511360"/>
            <a:ext cx="1546200" cy="16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ирина\Рабочий стол\для презентации\Новая папка (2)\КАРТИНКИ 8\ШРИФТЫ\83.gif"/>
          <p:cNvPicPr/>
          <p:nvPr/>
        </p:nvPicPr>
        <p:blipFill>
          <a:blip r:embed="rId6"/>
          <a:stretch/>
        </p:blipFill>
        <p:spPr>
          <a:xfrm>
            <a:off x="1285920" y="41673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Documents and Settings\ирина\Рабочий стол\для презентации\Новая папка (2)\КАРТИНКИ 8\ШРИФТЫ\90.gif"/>
          <p:cNvPicPr/>
          <p:nvPr/>
        </p:nvPicPr>
        <p:blipFill>
          <a:blip r:embed="rId7"/>
          <a:stretch/>
        </p:blipFill>
        <p:spPr>
          <a:xfrm>
            <a:off x="2786040" y="4857840"/>
            <a:ext cx="1443240" cy="13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ирина\Рабочий стол\для презентации\Новая папка (2)\КАРТИНКИ 8\ШРИФТЫ\85.gif"/>
          <p:cNvPicPr/>
          <p:nvPr/>
        </p:nvPicPr>
        <p:blipFill>
          <a:blip r:embed="rId8"/>
          <a:stretch/>
        </p:blipFill>
        <p:spPr>
          <a:xfrm>
            <a:off x="6399360" y="4405320"/>
            <a:ext cx="1672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ставь артикль А или А</a:t>
            </a:r>
            <a:r>
              <a:rPr b="1" lang="en-US" sz="6000" spc="-1" strike="noStrike">
                <a:solidFill>
                  <a:srgbClr val="c00000"/>
                </a:solidFill>
                <a:latin typeface="Monotype Corsiv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85560" y="18568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   … 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ap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do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T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ma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        … </a:t>
            </a:r>
            <a:r>
              <a:rPr b="0" lang="en-US" sz="5400" spc="-1" strike="noStrike">
                <a:solidFill>
                  <a:srgbClr val="7030a0"/>
                </a:solidFill>
                <a:latin typeface="Calibri"/>
              </a:rPr>
              <a:t>eleph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2d050"/>
                </a:solidFill>
                <a:latin typeface="Monotype Corsiva"/>
              </a:rPr>
              <a:t>Составь рассказ: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400" y="1357200"/>
            <a:ext cx="835812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Calibri"/>
              </a:rPr>
              <a:t>Hello! My name is …. I live in …. I can …. I can not…. I have got a …. I like …. Good bye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ff0000"/>
                </a:solidFill>
                <a:latin typeface="Calibri"/>
              </a:rPr>
              <a:t>Good bye!!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ирина\Мои документы\Мои рисунки\СМАЙЛЫ\БОЛЬШИЕ\super_smilies086[1].gif"/>
          <p:cNvPicPr/>
          <p:nvPr/>
        </p:nvPicPr>
        <p:blipFill>
          <a:blip r:embed="rId1"/>
          <a:stretch/>
        </p:blipFill>
        <p:spPr>
          <a:xfrm>
            <a:off x="1500120" y="704880"/>
            <a:ext cx="64296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2:42:16Z</dcterms:created>
  <dc:creator>ирина</dc:creator>
  <dc:description/>
  <dc:language>en-US</dc:language>
  <cp:lastModifiedBy>Лилия</cp:lastModifiedBy>
  <dcterms:modified xsi:type="dcterms:W3CDTF">2013-03-23T07:40:47Z</dcterms:modified>
  <cp:revision>6</cp:revision>
  <dc:subject/>
  <dc:title>Муллаева Ирина Александровна. Учитель английского языка МОУ СОШ п.Уруша</dc:title>
</cp:coreProperties>
</file>