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085B-73D4-4BF2-8493-629E38ABAA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DF52-9934-4445-BCD3-2078F3FA01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01D-F17E-4963-A88B-3348068C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226-B308-4638-A972-151C9A5C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5FE-CF35-4F26-8DDE-DBBF1565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BDF-F106-42A1-9030-46D5B2A1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0E75-2BEA-48D6-9CD7-4BDAC547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7750-44FA-4839-9A77-C2B44724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B55E-9CF4-4D25-BE4F-DF36288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ED50-BF87-47C9-92FE-9C24C3C3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F781-27E5-4285-A147-4CC95243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4AAC-42E6-48EE-B596-C78A84B3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0CFF-D50A-468F-9B39-1FA0C08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D00-655A-44AF-A2A6-4AEC8D4D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5E65-8F24-4CD3-87F0-2277FB0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B0F2-9DA7-4782-947F-F75B1FA8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AD63-F58E-4E16-B5A9-F3A31876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29B-FA94-4856-B1B0-64DE5157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B5E9-FEFD-41A3-9839-6513030A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F6CF-7BC4-4B16-AF54-02557D96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2E51-E75F-4234-94C6-FD13A98F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A0DB-C7BA-4275-8175-3286FF20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C18F-C2A5-4ABD-B76B-973AE59F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5E13-E11D-4F14-BDCD-03600AAB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CDA-E286-4B3A-BD87-48D2497B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4696-3305-4C7D-BA50-38D831A6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ADEB-ECB7-4492-A7F7-FDABA16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CFD39-DFA3-49FA-B6F2-039F5D42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A603-5E76-43DE-B4B8-D3F2A40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F660-E731-41F9-8E12-06262923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6372-B5B9-4924-8391-4B24B93A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05B52-DFE6-4DB3-B36E-DD7BFE1A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A8D3-6205-46F1-B8EF-D48442FD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DA1F-9120-45FC-BEDD-240FCCBC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168C-624F-457B-BFE3-C9E1DC85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152-25BB-429C-906D-FA76EE5D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30FCE-0784-4205-9C8D-7210904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6A1F-D671-4209-B344-FFD5FD52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8C92-1CE0-4714-B5BE-E1C0BB96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5BB06-5C85-435B-896C-FCF6EDC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FD2C0-5F1D-47E4-B644-5B002EE0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ADB9-C451-4DCD-9B26-C5BCB10E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C874-8054-47DC-A7E9-AEF31F36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39F8-2A1C-470C-949C-54B06447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16E2-DA65-475B-A661-18FD4087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8145-DD81-4EE0-924D-C0FCF058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725-C6FB-4FCE-9CC3-B861E963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4CD2C-0BF7-4BB5-BDE9-439D0CF1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F9F03-BE3F-4923-9792-F55054A9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3446C-167D-4013-8538-C320225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2F35-7EAB-49CB-83B6-2C71A914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4D1D9-8F38-4ED9-B9AA-7180D5B7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28CF1-A99B-4D5F-A2C5-CC7B6F96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DE7F6-8AA8-4BD7-94FE-5AAD260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2D827-CB83-4349-93DF-D4503C70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E8BAE-5235-4716-B128-9FB115D8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6108-C6F9-42DA-85B9-EE903830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A71-CD59-46BD-BBF0-09F1DB18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3F868-FB6E-4468-8011-24D03EE2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B529A-8542-4C6C-86C8-E239B89E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0AA2-FB07-4E3F-99C4-F49E412A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8DC38-C50A-4A5D-90A1-C8DEEC0A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EA959-B698-45E1-875F-EBA9DC1E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D19FB-4EB4-4D04-A26B-9DDAACFD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5BC0C-7786-4126-BCA5-AC10775E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0C2CF-7096-48FC-AB4E-277653A0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DA74F-AB7D-4CDB-802E-A41BC79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6F5B8-1932-4E6D-9F8A-C75E399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709-44BE-422E-9076-91757DB5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5854D-B9DF-418F-A2AF-B4A807FE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75568-24D4-40AA-A118-AC0DFC48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CB70F-C66C-467E-99EA-EEF6C104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3A192-BA94-4908-970F-0FCFC488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B5721-F1AC-4B4A-8992-03B3E8DC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EE1A5-01B4-49C7-9CCB-9BCC113C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E55FB-FA6D-41ED-9DE0-9C5D34A1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7AB42-A0B8-4CCA-98E9-D65EABB9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6A0EC-83BF-44C9-9657-B36AF6FC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28B21-53DB-4843-B11F-652C973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62C-BE1A-4B86-A885-60EE6489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F4716-EB7B-4661-A1E5-4AFC07D7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7DFA9-A986-4D46-8F40-ACC7C8D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1A3BD-1F63-4FD9-881C-E940DE4A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E6961-4D85-4809-BD19-9C7CFDF6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A4C18-B4D1-4682-9C46-3CA922C9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F5F-9A81-405D-978A-70936041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A11E-8D11-422C-B753-FD5892C79B5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8D59-CC66-474E-BA7C-7E2070A64D0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8A39-8F8C-45BD-82E2-0D386A3C2E4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A44-B578-442F-83B3-58F7507D64B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7650-65C7-4D31-938C-8D996DF41F4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C9B8-2D2A-4A0F-A880-2586291BDCE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8F57-A941-4AB7-8E38-DD2CB011F85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42920" y="270828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Сложение 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натуральных чисел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и его свойства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5940360" y="378936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path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6621 L 0.14497 -0.09722 L 0.35209 -0.09722 L 0.49723 0.06621 L 0.49723 0.29931 L 0.35209 0.46343 L 0.14497 0.46343 L -3.61111E-006 0.29931 L -3.61111E-006 0.06621 Z">
                                      <p:cBhvr>
                                        <p:cTn id="105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path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59 -0.14306 L -0.23038 0.02245 L -0.43698 0.02245 L -0.5816 -0.14306 L -0.5816 -0.37894 L -0.43698 -0.54445 L -0.23038 -0.54445 L -0.08559 -0.37894 L -0.08559 -0.14306 Z">
                                      <p:cBhvr>
                                        <p:cTn id="113" dur="5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220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226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23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920" y="54936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Выполни задания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549360"/>
            <a:ext cx="9144000" cy="5852880"/>
            <a:chOff x="0" y="549360"/>
            <a:chExt cx="9144000" cy="5852880"/>
          </a:xfrm>
        </p:grpSpPr>
        <p:pic>
          <p:nvPicPr>
            <p:cNvPr id="375" name="Текст 8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144000" cy="58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 txBox="1"/>
            <p:nvPr/>
          </p:nvSpPr>
          <p:spPr>
            <a:xfrm>
              <a:off x="0" y="549360"/>
              <a:ext cx="9144000" cy="585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116000" y="213372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Подведём итоги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2814480" cy="3168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920" y="69228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Домашнее задание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100160" y="3152880"/>
            <a:ext cx="764856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03640" y="2060640"/>
            <a:ext cx="3529080" cy="23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Проверим </a:t>
            </a:r>
            <a:endParaRPr b="1" i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домашнюю </a:t>
            </a:r>
            <a:endParaRPr b="1" i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работу</a:t>
            </a:r>
            <a:endParaRPr b="1" i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2271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42920" y="2349360"/>
            <a:ext cx="785016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Слуховой 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арифметический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 </a:t>
            </a: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диктант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832440" y="3933720"/>
            <a:ext cx="20876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Что такое периметр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Как найти периметр треугольника? Прямоугольника? Многоугольни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Назовите самую большую цифр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амое маленькое натуральное чис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700360" y="476280"/>
            <a:ext cx="50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Ответь на вопросы</a:t>
            </a:r>
            <a:endParaRPr b="1" i="1" lang="en-US" sz="60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2080" y="1844640"/>
            <a:ext cx="7711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636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stellar"/>
              </a:rPr>
              <a:t>Длина прямоугольного садового участка равна 86 м, а ширина – 9 м. Найдите длину забора этого участ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700360" y="476280"/>
            <a:ext cx="50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Решим задачу</a:t>
            </a:r>
            <a:endParaRPr b="1" i="1" lang="en-US" sz="60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771640" y="350028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2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Одна из сторон прямоугольника 24 см, а другая в 3 раза больше. Найдите периметр этого прямоугольни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700360" y="476280"/>
            <a:ext cx="50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Решим задачу</a:t>
            </a:r>
            <a:endParaRPr b="1" i="1" lang="en-US" sz="60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sp>
        <p:nvSpPr>
          <p:cNvPr id="349" name=""/>
          <p:cNvSpPr/>
          <p:nvPr/>
        </p:nvSpPr>
        <p:spPr>
          <a:xfrm>
            <a:off x="2340000" y="4508640"/>
            <a:ext cx="5616720" cy="1152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Х-41-14 при Х=9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11+Х+17-У при Х=16, У=1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920" y="54936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Найдите значения выражений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835280" y="3500280"/>
            <a:ext cx="55814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71640" y="1125360"/>
            <a:ext cx="669600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Физ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"Танец ромаш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156360" y="40464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276720" y="213372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7"/>
          <a:stretch/>
        </p:blipFill>
        <p:spPr>
          <a:xfrm>
            <a:off x="539640" y="40053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8"/>
          <a:stretch/>
        </p:blipFill>
        <p:spPr>
          <a:xfrm>
            <a:off x="6227640" y="414972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9"/>
          <a:stretch/>
        </p:blipFill>
        <p:spPr>
          <a:xfrm>
            <a:off x="6227640" y="414972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0"/>
          <a:stretch/>
        </p:blipFill>
        <p:spPr>
          <a:xfrm>
            <a:off x="6227640" y="414972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6783 -1.11111E-006 L 0.6783 0.57894 L -1.66667E-006 0.57894 L -1.66667E-006 -1.11111E-006 Z">
                                      <p:cBhvr>
                                        <p:cTn id="16" dur="5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-0.62882 -2.59259E-006 L -0.62882 0.57894 L -2.77778E-007 0.57894 L -2.77778E-007 -2.59259E-006 Z">
                                      <p:cBhvr>
                                        <p:cTn id="29" dur="5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0"/>
                            </p:stCondLst>
                            <p:childTnLst>
                              <p:par>
                                <p:cTn id="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3000"/>
                            </p:stCondLst>
                            <p:childTnLst>
                              <p:par>
                                <p:cTn id="3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" nodeType="after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0.07153 -1.11111E-006 0.13021 0.04537 0.13021 0.10093 C 0.13021 0.16644 0.0651 0.19005 0.02604 0.2 L -0.02587 0.21065 C -0.06493 0.2206 -0.12969 0.2456 -0.12969 0.31968 C -0.12969 0.36713 -0.07136 0.4213 1.66667E-006 0.4213 C 0.07153 0.4213 0.13021 0.36713 0.13021 0.31968 C 0.13021 0.2456 0.0651 0.2206 0.02604 0.21065 L -0.02587 0.2 C -0.06493 0.19005 -0.12969 0.16644 -0.12969 0.10093 C -0.12969 0.04537 -0.07136 -1.11111E-006 1.66667E-006 -1.11111E-006 Z">
                                      <p:cBhvr>
                                        <p:cTn id="43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5" nodeType="after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0.08003 -1.11111E-006 0.14583 -0.04861 0.14583 -0.10787 C 0.14583 -0.17778 0.07292 -0.20347 0.02917 -0.21412 L -0.02917 -0.22477 C -0.07292 -0.23565 -0.14549 -0.26273 -0.14549 -0.3419 C -0.14549 -0.39259 -0.08004 -0.45 1.66667E-006 -0.45 C 0.08003 -0.45 0.14583 -0.39259 0.14583 -0.3419 C 0.14583 -0.26273 0.07292 -0.23565 0.02917 -0.22477 L -0.02917 -0.21412 C -0.07292 -0.20347 -0.14549 -0.17778 -0.14549 -0.10787 C -0.14549 -0.04861 -0.08004 -1.11111E-006 1.66667E-006 -1.11111E-006 Z">
                                      <p:cBhvr>
                                        <p:cTn id="46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7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7500"/>
                            </p:stCondLst>
                            <p:childTnLst>
                              <p:par>
                                <p:cTn id="5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139 L 0.61424 -0.525 E">
                                      <p:cBhvr>
                                        <p:cTn id="54" dur="4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16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2100"/>
                            </p:stCondLst>
                            <p:childTnLst>
                              <p:par>
                                <p:cTn id="6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139 L 0.61424 -0.525 E">
                                      <p:cBhvr>
                                        <p:cTn id="62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71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7600"/>
                            </p:stCondLst>
                            <p:childTnLst>
                              <p:par>
                                <p:cTn id="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139 L 0.61424 -0.525 E">
                                      <p:cBhvr>
                                        <p:cTn id="70" dur="5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26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3100"/>
                            </p:stCondLst>
                            <p:childTnLst>
                              <p:par>
                                <p:cTn id="7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139 L -0.64566 -0.55648 E">
                                      <p:cBhvr>
                                        <p:cTn id="78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81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8600"/>
                            </p:stCondLst>
                            <p:childTnLst>
                              <p:par>
                                <p:cTn id="8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139 L -0.64566 -0.55648 E">
                                      <p:cBhvr>
                                        <p:cTn id="86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6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4100"/>
                            </p:stCondLst>
                            <p:childTnLst>
                              <p:par>
                                <p:cTn id="9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139 L -0.64566 -0.55648 E">
                                      <p:cBhvr>
                                        <p:cTn id="94" dur="5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evt="end">
                                        <p:tn val="9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0:02:45Z</dcterms:created>
  <dc:creator>Nik</dc:creator>
  <dc:description/>
  <dc:language>en-US</dc:language>
  <cp:lastModifiedBy>Лисецкий</cp:lastModifiedBy>
  <dcterms:modified xsi:type="dcterms:W3CDTF">2012-09-26T16:28:00Z</dcterms:modified>
  <cp:revision>6</cp:revision>
  <dc:subject/>
  <dc:title>Слайд 1</dc:title>
</cp:coreProperties>
</file>