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777A9-DE2B-4990-863C-2DBB5AE48ED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9426B-839E-4AD1-A2D9-81056ACF240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866D-950F-4FD0-9F32-DACEE8245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5421-30BD-47ED-B903-8098F3834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11A8-B0B6-4C63-A885-E4C9FB076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23BB-D7A9-4369-9688-76B568ED6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7F4D7-8A8E-44D5-B8B8-0F4C6AAFF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41D26-0717-4E41-AC36-A6B437002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6CB99-1598-40AE-A79B-4B9A3F333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C516F-EB1E-4E14-8022-5D1509EFA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1D3C2-7577-4633-BCF6-11F8F6CD8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E79E0-1307-4814-9A9E-FC60F3658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6D547-C035-4379-B437-0464DAD1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6C57-1AD6-4524-85DC-36D4B0062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E7D1E-75AD-489E-98B9-AF6DFD72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7A8EC-EAF7-4C10-97C5-095F8F53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DD553-E668-4734-8490-9B1AB76D2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2D940-B5BA-4282-A49F-AB110BD1F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F3AEF-A011-4BFE-85AC-44C07AB0E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3CC7F-F895-4D73-8165-DE60EF951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12255-C693-44A8-ACCA-F2E0176DE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2A954-D9F8-4508-AFD1-4156FD51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EAEA9-DE2C-4EFB-B66E-4B09E8D3E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AD6F5-9B0A-41F8-84F2-4986D62FC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B6D7-6C09-4081-8134-00DAF20D2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1B032-9E9F-498E-999C-7527DB72C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C0E8C-D8BA-441E-9882-B436A9AC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38004-00EC-4837-AE34-8BE517CC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0CC59-5307-4022-A91F-B112D78B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E6AA4-5C51-423B-B151-2F54B846F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210BC-3835-4BBD-9333-75AB5C2B2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2E297-4EB6-448F-983A-D0ED8ABA0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33C93-C2AE-49F1-8AE6-E8DF1AA87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8A052-67E2-4080-8B4C-4F8B3CBAB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59C2E-0507-4C80-B2E7-CC4CAD19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65F7-E1C4-4E39-AFB7-BFF93EDE9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2318B-77CC-47B8-A956-0C8933D3C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0B160-309A-43D2-A32E-989B80D84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76B1C-7513-4AA5-BEE6-68885005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141A2-327D-4B0C-8B8F-748D34E1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D148F-B0C5-4B61-95C6-27D95810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28D1D-36E9-454E-A360-A93CCB83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49757-FB08-41AB-B797-1E84D8A9A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51373-69C6-4077-AA5F-BE41FF757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DB5E2-0969-4709-BBBB-DD58548CB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D4876-C3EB-466E-B664-041ED1298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0A41-A262-4A6F-BA91-832B1E55F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46EC8D-227B-442F-AF1E-E4143DFE0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DEC3C-EA5C-4A5C-9E58-2A40B2016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F9DE0-BCEC-42E5-B546-A1998ACB7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6A2FB-7067-442D-BC37-4A907DA78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51570-8F45-472F-B606-972CA1016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201C1-65A4-48B0-9950-8425527D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6344C-2F97-4EE6-807B-E9AB6DF6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B674E-306D-4029-9C7F-E14A6F25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A68F8-F5CD-420D-93DA-4F0695511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4F785-2B28-487A-B56C-6087F7B4E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0C37-D1B4-4652-BBD5-256D691B1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0E38A-192E-40B3-86D1-C040D8EB9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A41DB-5D0A-4549-B3BB-E2380DF78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00418-A708-4357-BC38-3B0368F9D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E45FD-C573-4DDF-9D3F-74FFDE827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A976D-F296-49CF-A1AC-6EC85215D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FFFD1-9BC9-42CD-BDA5-731B28888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23F24-DA2D-45E1-9F80-C400785A4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D0E2E-B6CF-45C7-9D92-56BF219F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E62FA-D995-4DD8-8F09-F401A52C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27CDC-1E8E-441C-9133-B671B190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DEEB-FD8C-4033-BF9F-C0DF0910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73218-8120-4B24-98AC-C4E73493A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C6FFC-9316-48FD-BA46-41FEF9832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F7FF0-ACE8-4E98-9637-E0FEFE2A1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AAD88F-D376-442B-9E28-8AB70BDD7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0FE0F0-FCD5-4CEF-95A4-4B685924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7314D-6699-4BF3-998F-EE33EDA54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B330AD-C31C-4B18-B019-DD748B194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93B93-F372-47AB-AE05-263B0D1AA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32E194-F073-4E1C-A340-CFEB1C47C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F73B3-D082-4675-8777-48716795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9D51-6EF8-47EE-B158-5F260904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E945B4-EFB3-4B7B-8782-F11EEB76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8BD4F3-CAEB-4890-927D-0DF66AD5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BF9AC7-E5AA-4F80-8B5B-5331E2E61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707E3-A88C-4A2A-AAFD-3A093C367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F0437-3545-43C4-904B-C71F89A4F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8F16-6475-4E1F-8CD1-B9BE0113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70EE1-78AC-416C-AE6C-DBABEA7165B0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0AC27-7987-4BCD-BEC5-DB4D3CFE61FA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95AEC-A07C-46E8-80F7-C827EAA86960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D12FF-21DE-4AE9-912F-589FE1676832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A1BEB-744A-479C-9BA9-4034CADB782F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E10A8-B7FA-44D1-9622-6BDE7B15D0BF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08ED7-080F-4D24-B528-966C33BEE6AE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042920" y="2708280"/>
            <a:ext cx="7850160" cy="1295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2600">
                  <a:solidFill>
                    <a:srgbClr val="ff6699"/>
                  </a:solidFill>
                  <a:miter/>
                </a:ln>
                <a:gradFill rotWithShape="0">
                  <a:gsLst>
                    <a:gs pos="0">
                      <a:srgbClr val="ce3a3a"/>
                    </a:gs>
                    <a:gs pos="100000">
                      <a:srgbClr val="ff66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andara"/>
              </a:rPr>
              <a:t>Сложение </a:t>
            </a:r>
            <a:endParaRPr b="1" i="1" lang="en-US" sz="4400" spc="1" strike="noStrike">
              <a:ln w="12600">
                <a:solidFill>
                  <a:srgbClr val="ff6699"/>
                </a:solidFill>
                <a:miter/>
              </a:ln>
              <a:gradFill rotWithShape="0">
                <a:gsLst>
                  <a:gs pos="0">
                    <a:srgbClr val="ce3a3a"/>
                  </a:gs>
                  <a:gs pos="100000">
                    <a:srgbClr val="ff6699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andara"/>
              <a:ea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2600">
                  <a:solidFill>
                    <a:srgbClr val="ff6699"/>
                  </a:solidFill>
                  <a:miter/>
                </a:ln>
                <a:gradFill rotWithShape="0">
                  <a:gsLst>
                    <a:gs pos="0">
                      <a:srgbClr val="ce3a3a"/>
                    </a:gs>
                    <a:gs pos="100000">
                      <a:srgbClr val="ff66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andara"/>
              </a:rPr>
              <a:t>натуральных чисел</a:t>
            </a:r>
            <a:endParaRPr b="1" i="1" lang="en-US" sz="4400" spc="1" strike="noStrike">
              <a:ln w="12600">
                <a:solidFill>
                  <a:srgbClr val="ff6699"/>
                </a:solidFill>
                <a:miter/>
              </a:ln>
              <a:gradFill rotWithShape="0">
                <a:gsLst>
                  <a:gs pos="0">
                    <a:srgbClr val="ce3a3a"/>
                  </a:gs>
                  <a:gs pos="100000">
                    <a:srgbClr val="ff6699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andara"/>
              <a:ea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2600">
                  <a:solidFill>
                    <a:srgbClr val="ff6699"/>
                  </a:solidFill>
                  <a:miter/>
                </a:ln>
                <a:gradFill rotWithShape="0">
                  <a:gsLst>
                    <a:gs pos="0">
                      <a:srgbClr val="ce3a3a"/>
                    </a:gs>
                    <a:gs pos="100000">
                      <a:srgbClr val="ff66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andara"/>
              </a:rPr>
              <a:t>и его свойства</a:t>
            </a:r>
            <a:endParaRPr b="1" i="1" lang="en-US" sz="4400" spc="1" strike="noStrike">
              <a:ln w="12600">
                <a:solidFill>
                  <a:srgbClr val="ff6699"/>
                </a:solidFill>
                <a:miter/>
              </a:ln>
              <a:gradFill rotWithShape="0">
                <a:gsLst>
                  <a:gs pos="0">
                    <a:srgbClr val="ce3a3a"/>
                  </a:gs>
                  <a:gs pos="100000">
                    <a:srgbClr val="ff6699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andara"/>
              <a:ea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684360" y="765000"/>
            <a:ext cx="2571480" cy="257184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5940360" y="3789360"/>
            <a:ext cx="2571840" cy="257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path" presetID="1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0.06621 L 0.14497 -0.09722 L 0.35209 -0.09722 L 0.49723 0.06621 L 0.49723 0.29931 L 0.35209 0.46343 L 0.14497 0.46343 L -3.61111E-006 0.29931 L -3.61111E-006 0.06621 Z">
                                      <p:cBhvr>
                                        <p:cTn id="105" dur="50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06" dur="1" fill="hold">
                                    <p:stCondLst>
                                      <p:cond evt="end">
                                        <p:tn val="104"/>
                                      </p:cond>
                                    </p:stCondLst>
                                  </p:cTn>
                                  <p:tgtEl>
                                    <p:spTgt spid="3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2" nodeType="afterEffect" fill="hold" presetClass="path" presetID="1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559 -0.14306 L -0.23038 0.02245 L -0.43698 0.02245 L -0.5816 -0.14306 L -0.5816 -0.37894 L -0.43698 -0.54445 L -0.23038 -0.54445 L -0.08559 -0.37894 L -0.08559 -0.14306 Z">
                                      <p:cBhvr>
                                        <p:cTn id="113" dur="5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14" dur="1" fill="hold">
                                    <p:stCondLst>
                                      <p:cond evt="end">
                                        <p:tn val="112"/>
                                      </p:cond>
                                    </p:stCondLst>
                                  </p:cTn>
                                  <p:tgtEl>
                                    <p:spTgt spid="3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№ </a:t>
            </a: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220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№ </a:t>
            </a: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226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№ </a:t>
            </a: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235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042920" y="549360"/>
            <a:ext cx="7850160" cy="1295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2600">
                  <a:solidFill>
                    <a:srgbClr val="ff6699"/>
                  </a:solidFill>
                  <a:miter/>
                </a:ln>
                <a:gradFill rotWithShape="0">
                  <a:gsLst>
                    <a:gs pos="0">
                      <a:srgbClr val="ce3a3a"/>
                    </a:gs>
                    <a:gs pos="100000">
                      <a:srgbClr val="ff66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andara"/>
              </a:rPr>
              <a:t>Выполни задания</a:t>
            </a:r>
            <a:endParaRPr b="1" i="1" lang="en-US" sz="4400" spc="1" strike="noStrike">
              <a:ln w="12600">
                <a:solidFill>
                  <a:srgbClr val="ff6699"/>
                </a:solidFill>
                <a:miter/>
              </a:ln>
              <a:gradFill rotWithShape="0">
                <a:gsLst>
                  <a:gs pos="0">
                    <a:srgbClr val="ce3a3a"/>
                  </a:gs>
                  <a:gs pos="100000">
                    <a:srgbClr val="ff6699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andara"/>
              <a:ea typeface="Candara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0" y="549360"/>
            <a:ext cx="9144000" cy="5852880"/>
            <a:chOff x="0" y="549360"/>
            <a:chExt cx="9144000" cy="5852880"/>
          </a:xfrm>
        </p:grpSpPr>
        <p:pic>
          <p:nvPicPr>
            <p:cNvPr id="375" name="Текст 8" descr=""/>
            <p:cNvPicPr/>
            <p:nvPr/>
          </p:nvPicPr>
          <p:blipFill>
            <a:blip r:embed="rId2"/>
            <a:stretch/>
          </p:blipFill>
          <p:spPr>
            <a:xfrm>
              <a:off x="0" y="549360"/>
              <a:ext cx="9144000" cy="585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 txBox="1"/>
            <p:nvPr/>
          </p:nvSpPr>
          <p:spPr>
            <a:xfrm>
              <a:off x="0" y="549360"/>
              <a:ext cx="9144000" cy="5852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65040" indent="-282600">
                <a:lnSpc>
                  <a:spcPct val="100000"/>
                </a:lnSpc>
                <a:spcBef>
                  <a:spcPts val="601"/>
                </a:spcBef>
                <a:buClr>
                  <a:srgbClr val="3891a7"/>
                </a:buClr>
                <a:buSzPct val="8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116000" y="2133720"/>
            <a:ext cx="7850160" cy="1295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2600">
                  <a:solidFill>
                    <a:srgbClr val="ff6699"/>
                  </a:solidFill>
                  <a:miter/>
                </a:ln>
                <a:gradFill rotWithShape="0">
                  <a:gsLst>
                    <a:gs pos="0">
                      <a:srgbClr val="ce3a3a"/>
                    </a:gs>
                    <a:gs pos="100000">
                      <a:srgbClr val="ff66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andara"/>
              </a:rPr>
              <a:t>Подведём итоги</a:t>
            </a:r>
            <a:endParaRPr b="1" i="1" lang="en-US" sz="4400" spc="1" strike="noStrike">
              <a:ln w="12600">
                <a:solidFill>
                  <a:srgbClr val="ff6699"/>
                </a:solidFill>
                <a:miter/>
              </a:ln>
              <a:gradFill rotWithShape="0">
                <a:gsLst>
                  <a:gs pos="0">
                    <a:srgbClr val="ce3a3a"/>
                  </a:gs>
                  <a:gs pos="100000">
                    <a:srgbClr val="ff6699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andara"/>
              <a:ea typeface="Candara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2"/>
          <a:stretch/>
        </p:blipFill>
        <p:spPr>
          <a:xfrm>
            <a:off x="3419640" y="3500280"/>
            <a:ext cx="2814480" cy="316872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042920" y="692280"/>
            <a:ext cx="7850160" cy="1295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2600">
                  <a:solidFill>
                    <a:srgbClr val="ff6699"/>
                  </a:solidFill>
                  <a:miter/>
                </a:ln>
                <a:gradFill rotWithShape="0">
                  <a:gsLst>
                    <a:gs pos="0">
                      <a:srgbClr val="ce3a3a"/>
                    </a:gs>
                    <a:gs pos="100000">
                      <a:srgbClr val="ff66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andara"/>
              </a:rPr>
              <a:t>Домашнее задание</a:t>
            </a:r>
            <a:endParaRPr b="1" i="1" lang="en-US" sz="4400" spc="1" strike="noStrike">
              <a:ln w="12600">
                <a:solidFill>
                  <a:srgbClr val="ff6699"/>
                </a:solidFill>
                <a:miter/>
              </a:ln>
              <a:gradFill rotWithShape="0">
                <a:gsLst>
                  <a:gs pos="0">
                    <a:srgbClr val="ce3a3a"/>
                  </a:gs>
                  <a:gs pos="100000">
                    <a:srgbClr val="ff6699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andara"/>
              <a:ea typeface="Candara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1100160" y="3152880"/>
            <a:ext cx="7648560" cy="8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203640" y="2060640"/>
            <a:ext cx="3529080" cy="2376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ff6699"/>
                  </a:solidFill>
                  <a:miter/>
                </a:ln>
                <a:gradFill rotWithShape="0">
                  <a:gsLst>
                    <a:gs pos="0">
                      <a:srgbClr val="ce3a3a"/>
                    </a:gs>
                    <a:gs pos="100000">
                      <a:srgbClr val="ff66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andara"/>
              </a:rPr>
              <a:t>Проверим </a:t>
            </a:r>
            <a:endParaRPr b="1" i="1" lang="en-US" sz="1800" spc="1" strike="noStrike">
              <a:ln w="12600">
                <a:solidFill>
                  <a:srgbClr val="ff6699"/>
                </a:solidFill>
                <a:miter/>
              </a:ln>
              <a:gradFill rotWithShape="0">
                <a:gsLst>
                  <a:gs pos="0">
                    <a:srgbClr val="ce3a3a"/>
                  </a:gs>
                  <a:gs pos="100000">
                    <a:srgbClr val="ff6699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andara"/>
              <a:ea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ff6699"/>
                  </a:solidFill>
                  <a:miter/>
                </a:ln>
                <a:gradFill rotWithShape="0">
                  <a:gsLst>
                    <a:gs pos="0">
                      <a:srgbClr val="ce3a3a"/>
                    </a:gs>
                    <a:gs pos="100000">
                      <a:srgbClr val="ff66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andara"/>
              </a:rPr>
              <a:t>домашнюю </a:t>
            </a:r>
            <a:endParaRPr b="1" i="1" lang="en-US" sz="1800" spc="1" strike="noStrike">
              <a:ln w="12600">
                <a:solidFill>
                  <a:srgbClr val="ff6699"/>
                </a:solidFill>
                <a:miter/>
              </a:ln>
              <a:gradFill rotWithShape="0">
                <a:gsLst>
                  <a:gs pos="0">
                    <a:srgbClr val="ce3a3a"/>
                  </a:gs>
                  <a:gs pos="100000">
                    <a:srgbClr val="ff6699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andara"/>
              <a:ea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ff6699"/>
                  </a:solidFill>
                  <a:miter/>
                </a:ln>
                <a:gradFill rotWithShape="0">
                  <a:gsLst>
                    <a:gs pos="0">
                      <a:srgbClr val="ce3a3a"/>
                    </a:gs>
                    <a:gs pos="100000">
                      <a:srgbClr val="ff66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andara"/>
              </a:rPr>
              <a:t>работу</a:t>
            </a:r>
            <a:endParaRPr b="1" i="1" lang="en-US" sz="1800" spc="1" strike="noStrike">
              <a:ln w="12600">
                <a:solidFill>
                  <a:srgbClr val="ff6699"/>
                </a:solidFill>
                <a:miter/>
              </a:ln>
              <a:gradFill rotWithShape="0">
                <a:gsLst>
                  <a:gs pos="0">
                    <a:srgbClr val="ce3a3a"/>
                  </a:gs>
                  <a:gs pos="100000">
                    <a:srgbClr val="ff6699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andara"/>
              <a:ea typeface="Candar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3708360" y="3789360"/>
            <a:ext cx="22716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042920" y="2349360"/>
            <a:ext cx="7850160" cy="1295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2600">
                  <a:solidFill>
                    <a:srgbClr val="ff6699"/>
                  </a:solidFill>
                  <a:miter/>
                </a:ln>
                <a:gradFill rotWithShape="0">
                  <a:gsLst>
                    <a:gs pos="0">
                      <a:srgbClr val="ce3a3a"/>
                    </a:gs>
                    <a:gs pos="100000">
                      <a:srgbClr val="ff66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andara"/>
              </a:rPr>
              <a:t>Слуховой </a:t>
            </a:r>
            <a:endParaRPr b="1" i="1" lang="en-US" sz="4400" spc="1" strike="noStrike">
              <a:ln w="12600">
                <a:solidFill>
                  <a:srgbClr val="ff6699"/>
                </a:solidFill>
                <a:miter/>
              </a:ln>
              <a:gradFill rotWithShape="0">
                <a:gsLst>
                  <a:gs pos="0">
                    <a:srgbClr val="ce3a3a"/>
                  </a:gs>
                  <a:gs pos="100000">
                    <a:srgbClr val="ff6699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andara"/>
              <a:ea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2600">
                  <a:solidFill>
                    <a:srgbClr val="ff6699"/>
                  </a:solidFill>
                  <a:miter/>
                </a:ln>
                <a:gradFill rotWithShape="0">
                  <a:gsLst>
                    <a:gs pos="0">
                      <a:srgbClr val="ce3a3a"/>
                    </a:gs>
                    <a:gs pos="100000">
                      <a:srgbClr val="ff66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andara"/>
              </a:rPr>
              <a:t>арифметический</a:t>
            </a:r>
            <a:endParaRPr b="1" i="1" lang="en-US" sz="4400" spc="1" strike="noStrike">
              <a:ln w="12600">
                <a:solidFill>
                  <a:srgbClr val="ff6699"/>
                </a:solidFill>
                <a:miter/>
              </a:ln>
              <a:gradFill rotWithShape="0">
                <a:gsLst>
                  <a:gs pos="0">
                    <a:srgbClr val="ce3a3a"/>
                  </a:gs>
                  <a:gs pos="100000">
                    <a:srgbClr val="ff6699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andara"/>
              <a:ea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2600">
                  <a:solidFill>
                    <a:srgbClr val="ff6699"/>
                  </a:solidFill>
                  <a:miter/>
                </a:ln>
                <a:gradFill rotWithShape="0">
                  <a:gsLst>
                    <a:gs pos="0">
                      <a:srgbClr val="ce3a3a"/>
                    </a:gs>
                    <a:gs pos="100000">
                      <a:srgbClr val="ff66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andara"/>
              </a:rPr>
              <a:t> </a:t>
            </a:r>
            <a:r>
              <a:rPr b="1" i="1" lang="en-US" sz="4400" spc="1" strike="noStrike">
                <a:ln w="12600">
                  <a:solidFill>
                    <a:srgbClr val="ff6699"/>
                  </a:solidFill>
                  <a:miter/>
                </a:ln>
                <a:gradFill rotWithShape="0">
                  <a:gsLst>
                    <a:gs pos="0">
                      <a:srgbClr val="ce3a3a"/>
                    </a:gs>
                    <a:gs pos="100000">
                      <a:srgbClr val="ff66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andara"/>
              </a:rPr>
              <a:t>диктант</a:t>
            </a:r>
            <a:endParaRPr b="1" i="1" lang="en-US" sz="4400" spc="1" strike="noStrike">
              <a:ln w="12600">
                <a:solidFill>
                  <a:srgbClr val="ff6699"/>
                </a:solidFill>
                <a:miter/>
              </a:ln>
              <a:gradFill rotWithShape="0">
                <a:gsLst>
                  <a:gs pos="0">
                    <a:srgbClr val="ce3a3a"/>
                  </a:gs>
                  <a:gs pos="100000">
                    <a:srgbClr val="ff6699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andara"/>
              <a:ea typeface="Candara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6832440" y="3933720"/>
            <a:ext cx="208764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Что такое периметр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Как найти периметр треугольника? Прямоугольника? Многоугольника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Назовите самую большую цифр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Самое маленькое натуральное число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2700360" y="476280"/>
            <a:ext cx="5040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ff6699"/>
                  </a:solidFill>
                  <a:miter/>
                </a:ln>
                <a:gradFill rotWithShape="0">
                  <a:gsLst>
                    <a:gs pos="0">
                      <a:srgbClr val="ce3a3a"/>
                    </a:gs>
                    <a:gs pos="100000">
                      <a:srgbClr val="ff66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andara"/>
              </a:rPr>
              <a:t>Ответь на вопросы</a:t>
            </a:r>
            <a:endParaRPr b="1" i="1" lang="en-US" sz="6000" spc="1" strike="noStrike">
              <a:ln w="12600">
                <a:solidFill>
                  <a:srgbClr val="ff6699"/>
                </a:solidFill>
                <a:miter/>
              </a:ln>
              <a:gradFill rotWithShape="0">
                <a:gsLst>
                  <a:gs pos="0">
                    <a:srgbClr val="ce3a3a"/>
                  </a:gs>
                  <a:gs pos="100000">
                    <a:srgbClr val="ff6699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andara"/>
              <a:ea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1432080" y="1844640"/>
            <a:ext cx="7711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636480" indent="-6094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astel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0e04"/>
                </a:solidFill>
                <a:latin typeface="Castellar"/>
              </a:rPr>
              <a:t>Длина прямоугольного садового участка равна 86 м, а ширина – 9 м. Найдите длину забора этого участк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2700360" y="476280"/>
            <a:ext cx="5040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ff6699"/>
                  </a:solidFill>
                  <a:miter/>
                </a:ln>
                <a:gradFill rotWithShape="0">
                  <a:gsLst>
                    <a:gs pos="0">
                      <a:srgbClr val="ce3a3a"/>
                    </a:gs>
                    <a:gs pos="100000">
                      <a:srgbClr val="ff66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andara"/>
              </a:rPr>
              <a:t>Решим задачу</a:t>
            </a:r>
            <a:endParaRPr b="1" i="1" lang="en-US" sz="6000" spc="1" strike="noStrike">
              <a:ln w="12600">
                <a:solidFill>
                  <a:srgbClr val="ff6699"/>
                </a:solidFill>
                <a:miter/>
              </a:ln>
              <a:gradFill rotWithShape="0">
                <a:gsLst>
                  <a:gs pos="0">
                    <a:srgbClr val="ce3a3a"/>
                  </a:gs>
                  <a:gs pos="100000">
                    <a:srgbClr val="ff6699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andara"/>
              <a:ea typeface="Candara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299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2771640" y="3500280"/>
            <a:ext cx="428652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№ </a:t>
            </a: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208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Одна из сторон прямоугольника 24 см, а другая в 3 раза больше. Найдите периметр этого прямоугольник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2700360" y="476280"/>
            <a:ext cx="5040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ff6699"/>
                  </a:solidFill>
                  <a:miter/>
                </a:ln>
                <a:gradFill rotWithShape="0">
                  <a:gsLst>
                    <a:gs pos="0">
                      <a:srgbClr val="ce3a3a"/>
                    </a:gs>
                    <a:gs pos="100000">
                      <a:srgbClr val="ff66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andara"/>
              </a:rPr>
              <a:t>Решим задачу</a:t>
            </a:r>
            <a:endParaRPr b="1" i="1" lang="en-US" sz="6000" spc="1" strike="noStrike">
              <a:ln w="12600">
                <a:solidFill>
                  <a:srgbClr val="ff6699"/>
                </a:solidFill>
                <a:miter/>
              </a:ln>
              <a:gradFill rotWithShape="0">
                <a:gsLst>
                  <a:gs pos="0">
                    <a:srgbClr val="ce3a3a"/>
                  </a:gs>
                  <a:gs pos="100000">
                    <a:srgbClr val="ff6699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andara"/>
              <a:ea typeface="Candara"/>
            </a:endParaRPr>
          </a:p>
        </p:txBody>
      </p:sp>
      <p:sp>
        <p:nvSpPr>
          <p:cNvPr id="349" name=""/>
          <p:cNvSpPr/>
          <p:nvPr/>
        </p:nvSpPr>
        <p:spPr>
          <a:xfrm>
            <a:off x="2340000" y="4508640"/>
            <a:ext cx="5616720" cy="115236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Х-41-14 при Х=98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11+Х+17-У при Х=16, У=12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042920" y="549360"/>
            <a:ext cx="7850160" cy="1295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2600">
                  <a:solidFill>
                    <a:srgbClr val="ff6699"/>
                  </a:solidFill>
                  <a:miter/>
                </a:ln>
                <a:gradFill rotWithShape="0">
                  <a:gsLst>
                    <a:gs pos="0">
                      <a:srgbClr val="ce3a3a"/>
                    </a:gs>
                    <a:gs pos="100000">
                      <a:srgbClr val="ff66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andara"/>
              </a:rPr>
              <a:t>Найдите значения выражений</a:t>
            </a:r>
            <a:endParaRPr b="1" i="1" lang="en-US" sz="4400" spc="1" strike="noStrike">
              <a:ln w="12600">
                <a:solidFill>
                  <a:srgbClr val="ff6699"/>
                </a:solidFill>
                <a:miter/>
              </a:ln>
              <a:gradFill rotWithShape="0">
                <a:gsLst>
                  <a:gs pos="0">
                    <a:srgbClr val="ce3a3a"/>
                  </a:gs>
                  <a:gs pos="100000">
                    <a:srgbClr val="ff6699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andara"/>
              <a:ea typeface="Candara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1835280" y="3500280"/>
            <a:ext cx="5581440" cy="27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971640" y="1125360"/>
            <a:ext cx="669600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50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Georgia"/>
              </a:rPr>
              <a:t>Физминут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Georgia"/>
              </a:rPr>
              <a:t>"Танец ромашки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Georgia"/>
              <a:ea typeface="Georgia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817236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2571480" cy="257184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6156360" y="404640"/>
            <a:ext cx="2571840" cy="257184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3276720" y="2133720"/>
            <a:ext cx="2571480" cy="25714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5"/>
          <a:stretch/>
        </p:blipFill>
        <p:spPr>
          <a:xfrm>
            <a:off x="539640" y="4005360"/>
            <a:ext cx="2571840" cy="257148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6"/>
          <a:stretch/>
        </p:blipFill>
        <p:spPr>
          <a:xfrm>
            <a:off x="539640" y="4005360"/>
            <a:ext cx="2571840" cy="257148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7"/>
          <a:stretch/>
        </p:blipFill>
        <p:spPr>
          <a:xfrm>
            <a:off x="539640" y="4005360"/>
            <a:ext cx="2571840" cy="257148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8"/>
          <a:stretch/>
        </p:blipFill>
        <p:spPr>
          <a:xfrm>
            <a:off x="6227640" y="4149720"/>
            <a:ext cx="2571840" cy="257184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9"/>
          <a:stretch/>
        </p:blipFill>
        <p:spPr>
          <a:xfrm>
            <a:off x="6227640" y="4149720"/>
            <a:ext cx="2571840" cy="2571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10"/>
          <a:stretch/>
        </p:blipFill>
        <p:spPr>
          <a:xfrm>
            <a:off x="6227640" y="4149720"/>
            <a:ext cx="2571840" cy="257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path" presetID="7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11111E-006 L 0.6783 -1.11111E-006 L 0.6783 0.57894 L -1.66667E-006 0.57894 L -1.66667E-006 -1.11111E-006 Z">
                                      <p:cBhvr>
                                        <p:cTn id="16" dur="500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500"/>
                            </p:stCondLst>
                            <p:childTnLst>
                              <p:par>
                                <p:cTn id="18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6000"/>
                            </p:stCondLst>
                            <p:childTnLst>
                              <p:par>
                                <p:cTn id="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6500"/>
                            </p:stCondLst>
                            <p:childTnLst>
                              <p:par>
                                <p:cTn id="28" nodeType="afterEffect" fill="hold" presetClass="path" presetID="7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59259E-006 L -0.62882 -2.59259E-006 L -0.62882 0.57894 L -2.77778E-007 0.57894 L -2.77778E-007 -2.59259E-006 Z">
                                      <p:cBhvr>
                                        <p:cTn id="29" dur="5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1500"/>
                            </p:stCondLst>
                            <p:childTnLst>
                              <p:par>
                                <p:cTn id="31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2000"/>
                            </p:stCondLst>
                            <p:childTnLst>
                              <p:par>
                                <p:cTn id="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3000"/>
                            </p:stCondLst>
                            <p:childTnLst>
                              <p:par>
                                <p:cTn id="39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7000"/>
                            </p:stCondLst>
                            <p:childTnLst>
                              <p:par>
                                <p:cTn id="42" nodeType="afterEffect" fill="hold" presetClass="path" presetID="22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11111E-006 C 0.07153 -1.11111E-006 0.13021 0.04537 0.13021 0.10093 C 0.13021 0.16644 0.0651 0.19005 0.02604 0.2 L -0.02587 0.21065 C -0.06493 0.2206 -0.12969 0.2456 -0.12969 0.31968 C -0.12969 0.36713 -0.07136 0.4213 1.66667E-006 0.4213 C 0.07153 0.4213 0.13021 0.36713 0.13021 0.31968 C 0.13021 0.2456 0.0651 0.2206 0.02604 0.21065 L -0.02587 0.2 C -0.06493 0.19005 -0.12969 0.16644 -0.12969 0.10093 C -0.12969 0.04537 -0.07136 -1.11111E-006 1.66667E-006 -1.11111E-006 Z">
                                      <p:cBhvr>
                                        <p:cTn id="43" dur="5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2000"/>
                            </p:stCondLst>
                            <p:childTnLst>
                              <p:par>
                                <p:cTn id="45" nodeType="afterEffect" fill="hold" presetClass="path" presetID="22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11111E-006 C 0.08003 -1.11111E-006 0.14583 -0.04861 0.14583 -0.10787 C 0.14583 -0.17778 0.07292 -0.20347 0.02917 -0.21412 L -0.02917 -0.22477 C -0.07292 -0.23565 -0.14549 -0.26273 -0.14549 -0.3419 C -0.14549 -0.39259 -0.08004 -0.45 1.66667E-006 -0.45 C 0.08003 -0.45 0.14583 -0.39259 0.14583 -0.3419 C 0.14583 -0.26273 0.07292 -0.23565 0.02917 -0.22477 L -0.02917 -0.21412 C -0.07292 -0.20347 -0.14549 -0.17778 -0.14549 -0.10787 C -0.14549 -0.04861 -0.08004 -1.11111E-006 1.66667E-006 -1.11111E-006 Z">
                                      <p:cBhvr>
                                        <p:cTn id="46" dur="5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evt="end">
                                        <p:tn val="45"/>
                                      </p:cond>
                                    </p:stCondLst>
                                  </p:cTn>
                                  <p:tgtEl>
                                    <p:spTgt spid="3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670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7500"/>
                            </p:stCondLst>
                            <p:childTnLst>
                              <p:par>
                                <p:cTn id="53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-0.00139 L 0.61424 -0.525 E">
                                      <p:cBhvr>
                                        <p:cTn id="54" dur="41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evt="end">
                                        <p:tn val="53"/>
                                      </p:cond>
                                    </p:stCondLst>
                                  </p:cTn>
                                  <p:tgtEl>
                                    <p:spTgt spid="3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16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72100"/>
                            </p:stCondLst>
                            <p:childTnLst>
                              <p:par>
                                <p:cTn id="61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-0.00139 L 0.61424 -0.525 E">
                                      <p:cBhvr>
                                        <p:cTn id="62" dur="50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evt="end">
                                        <p:tn val="61"/>
                                      </p:cond>
                                    </p:stCondLst>
                                  </p:cTn>
                                  <p:tgtEl>
                                    <p:spTgt spid="3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771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77600"/>
                            </p:stCondLst>
                            <p:childTnLst>
                              <p:par>
                                <p:cTn id="69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-0.00139 L 0.61424 -0.525 E">
                                      <p:cBhvr>
                                        <p:cTn id="70" dur="5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evt="end">
                                        <p:tn val="69"/>
                                      </p:cond>
                                    </p:stCondLst>
                                  </p:cTn>
                                  <p:tgtEl>
                                    <p:spTgt spid="3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82600"/>
                            </p:stCondLst>
                            <p:childTnLst>
                              <p:par>
                                <p:cTn id="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83100"/>
                            </p:stCondLst>
                            <p:childTnLst>
                              <p:par>
                                <p:cTn id="77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77 -0.00139 L -0.64566 -0.55648 E">
                                      <p:cBhvr>
                                        <p:cTn id="78" dur="5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79" dur="1" fill="hold">
                                    <p:stCondLst>
                                      <p:cond evt="end">
                                        <p:tn val="77"/>
                                      </p:cond>
                                    </p:stCondLst>
                                  </p:cTn>
                                  <p:tgtEl>
                                    <p:spTgt spid="3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88100"/>
                            </p:stCondLst>
                            <p:childTnLst>
                              <p:par>
                                <p:cTn id="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88600"/>
                            </p:stCondLst>
                            <p:childTnLst>
                              <p:par>
                                <p:cTn id="85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77 -0.00139 L -0.64566 -0.55648 E">
                                      <p:cBhvr>
                                        <p:cTn id="86" dur="5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87" dur="1" fill="hold">
                                    <p:stCondLst>
                                      <p:cond evt="end">
                                        <p:tn val="85"/>
                                      </p:cond>
                                    </p:stCondLst>
                                  </p:cTn>
                                  <p:tgtEl>
                                    <p:spTgt spid="3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93600"/>
                            </p:stCondLst>
                            <p:childTnLst>
                              <p:par>
                                <p:cTn id="8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94100"/>
                            </p:stCondLst>
                            <p:childTnLst>
                              <p:par>
                                <p:cTn id="93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77 -0.00139 L -0.64566 -0.55648 E">
                                      <p:cBhvr>
                                        <p:cTn id="94" dur="50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evt="end">
                                        <p:tn val="93"/>
                                      </p:cond>
                                    </p:stCondLst>
                                  </p:cTn>
                                  <p:tgtEl>
                                    <p:spTgt spid="3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10:02:45Z</dcterms:created>
  <dc:creator>Nik</dc:creator>
  <dc:description/>
  <dc:language>en-US</dc:language>
  <cp:lastModifiedBy>Лисецкий</cp:lastModifiedBy>
  <dcterms:modified xsi:type="dcterms:W3CDTF">2012-09-26T16:28:00Z</dcterms:modified>
  <cp:revision>6</cp:revision>
  <dc:subject/>
  <dc:title>Слайд 1</dc:title>
</cp:coreProperties>
</file>