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B774-0E69-4A52-BC84-FB3D946B3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1D72-FF03-4473-A34D-472EDD87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D076-DEA9-4ED5-B22D-9A74B042F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B746-F899-431B-B727-1F126E371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ABAEB-4268-4EB0-B2D7-0EEA77D8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145BE-46A2-4992-B262-7A3A9B4F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CE0B4-215D-4BEB-A7EB-B5665655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11497-6A50-4AAD-AB8F-4129567A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99DE5-8A22-4EBA-8D00-7FF8126D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EFDB4-B027-48BA-87DC-3B51252E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B43F2-0E1E-47BA-8CFD-F9805014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8779-BC4A-490C-B282-1B7DE62A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ADCF1-9429-4E60-86D9-29E76D91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9E165-1AA6-40F8-8417-3F6AD35A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ADF94-B7A0-434D-A0A2-2E87ABBF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D634A-8DDA-4D1E-ABD1-543AA197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E792C-3FBE-4616-BB04-85CDEF6C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4A4C-014F-4EB5-86CA-A72B7F00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DF00-8036-46E4-8F61-4A1087FE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37B9-8420-47CF-9F47-FFAF8742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D7DE-03AC-4F3A-B8C4-5B5F2AE0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F0F1-1464-4C8E-BB4B-0158EC1C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5668-27FF-4CB5-8E57-D9AF3551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4F8C-2595-4C06-B1BD-0E831505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7556-518B-41C0-8093-C90EAFCA44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EF84-D00E-4B21-A5DC-086E75CCE5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835280" y="1557360"/>
            <a:ext cx="5616360" cy="3738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 rot="193200">
            <a:off x="1834920" y="333360"/>
            <a:ext cx="56862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cc"/>
                  </a:solidFill>
                  <a:miter/>
                </a:ln>
                <a:solidFill>
                  <a:srgbClr val="6666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льки - детёныши </a:t>
            </a:r>
            <a:endParaRPr b="0" lang="en-US" sz="1800" spc="1" strike="noStrike">
              <a:ln w="22320">
                <a:solidFill>
                  <a:srgbClr val="3333cc"/>
                </a:solidFill>
                <a:miter/>
              </a:ln>
              <a:solidFill>
                <a:srgbClr val="6666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42920" y="5013360"/>
            <a:ext cx="698508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cc"/>
                  </a:solidFill>
                  <a:miter/>
                </a:ln>
                <a:solidFill>
                  <a:srgbClr val="6666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ренландского тюленя</a:t>
            </a:r>
            <a:endParaRPr b="0" lang="en-US" sz="1800" spc="1" strike="noStrike">
              <a:ln w="22320">
                <a:solidFill>
                  <a:srgbClr val="3333cc"/>
                </a:solidFill>
                <a:miter/>
              </a:ln>
              <a:solidFill>
                <a:srgbClr val="6666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95280" y="544500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На 2 – 3 неделе жизни шубка малыша меняется на серу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rcRect l="0" t="0" r="1829" b="11406"/>
          <a:stretch/>
        </p:blipFill>
        <p:spPr>
          <a:xfrm>
            <a:off x="539640" y="398520"/>
            <a:ext cx="8136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5153040" cy="6338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580000" y="333360"/>
            <a:ext cx="331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Уже в возрасте одного месяца тюленята пробуют плавать. Вначале получается плохо, но вскоре они смогут плавать на большие расстоя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651640" y="404640"/>
            <a:ext cx="3168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Под водой тюлени могут оставаться больше 20 минут и погружаться на глубину до 180 метр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0" t="0" r="8990" b="0"/>
          <a:stretch/>
        </p:blipFill>
        <p:spPr>
          <a:xfrm>
            <a:off x="324000" y="2781360"/>
            <a:ext cx="5400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443700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Тюлени - очень пугливые животные, поэтому, охотясь на них, белые медведи закрывают свой тёмный нос лапой, как в мультике про Умку. А если лапы грязные – толкают перед собой льдин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55640" y="333360"/>
            <a:ext cx="7643880" cy="5732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55640" y="616572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Тюлени превосходные артис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768204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4869000"/>
            <a:ext cx="820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Тюлень очень неуклюж на суше, но превосходно плавает. Тело тюленя гладкое, обтекаемой формы, они имеют крупные плавники, похожие на вёс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87280" y="404640"/>
            <a:ext cx="65534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68360" y="47628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Тюлени питаются рыбой, осьминогами и кревет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3384720" cy="2546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771640" y="4149720"/>
            <a:ext cx="3384720" cy="2540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95280" y="1557360"/>
            <a:ext cx="33847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971640" y="692280"/>
            <a:ext cx="7273800" cy="4841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9640" y="5661000"/>
            <a:ext cx="828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Самка рожает одного, редко двух бельков. В длину они достигают 85 см и весят около 8 к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rcRect l="0" t="0" r="1558" b="0"/>
          <a:stretch/>
        </p:blipFill>
        <p:spPr>
          <a:xfrm>
            <a:off x="900000" y="404640"/>
            <a:ext cx="7345440" cy="4983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11280" y="551664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Пока белёк ещё беспомощный, белая шубка позволяет ему быть невидимым на снег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26920" y="4797360"/>
            <a:ext cx="7705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Первую неделю мать всё время лежит вместе с детёнышем, а потом начинает оставлять его ненадолго, чтобы поохотиться под вод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58920" y="404640"/>
            <a:ext cx="676764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8360" y="449280"/>
            <a:ext cx="6697440" cy="6408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535640" y="0"/>
            <a:ext cx="460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Молоко у тюленей очень питательное (50% жирности), поэтому через 10 дней вес малышей увеличивается втр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76360" y="260280"/>
            <a:ext cx="6162840" cy="4619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68360" y="486900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Новорождённый тюленёнок ещё не умеет плавать: если его бросить в воду, он от страха раздуется как ша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72000" y="5877000"/>
            <a:ext cx="93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Поэтому мама находится рядом со своим малыш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4360" y="333360"/>
            <a:ext cx="792144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13:23:27Z</dcterms:created>
  <dc:creator>Максим Миша</dc:creator>
  <dc:description/>
  <dc:language>en-US</dc:language>
  <cp:lastModifiedBy>Максим Миша</cp:lastModifiedBy>
  <dcterms:modified xsi:type="dcterms:W3CDTF">2008-01-27T17:30:02Z</dcterms:modified>
  <cp:revision>8</cp:revision>
  <dc:subject/>
  <dc:title>Слайд 1</dc:title>
</cp:coreProperties>
</file>