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DD03-50A7-456A-9C6C-85521612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D3A4-089F-45FA-8462-42A71062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276B-B533-4A30-B92A-FD6A1596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CC9B-04B8-42AB-9139-5DC37B69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D2F34-6156-45FA-9C9A-3EE0E922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9875F-FDAF-485B-B1C7-2D87CD2A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E7CCE-8AE8-4DC6-B14C-A8E22A46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60C91-435C-4303-A361-02140B84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C3043-8D3B-48C5-903C-D525C470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C4AC5-0755-4268-A27C-794BD405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93B04-E0F5-48B2-A4C2-9EDFCD16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65D4-29E7-4027-A20E-4C952C9F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C6FD4-7593-4F0A-9988-51835935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2C469-50CC-4C59-B925-695911ED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C7370-B440-45AE-87ED-E6112332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4FFB2-2A39-4AAA-86FD-25006AC9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8C014-B8ED-4DBC-A645-078F9B67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5BB7-366A-4327-AFE2-B0127F02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A4A1-8A21-409D-A3C3-8A20A3AA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F0E2-8E63-4D66-AC94-37B2D4D2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7D6C-0DA0-439B-A579-7817255F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F397-65BC-4C96-B068-60BC6469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0F25-EAEB-4A9B-B5E6-4A2F4713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29B3-3BBC-48A2-82E7-261A38E3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5242-9A5D-4494-BB3E-957016E9AA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FC66-2E03-486A-ABF0-7DD24BCDF6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835280" y="1557360"/>
            <a:ext cx="5616360" cy="3738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 rot="193200">
            <a:off x="1834920" y="333360"/>
            <a:ext cx="56862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cc"/>
                  </a:solidFill>
                  <a:miter/>
                </a:ln>
                <a:solidFill>
                  <a:srgbClr val="6666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льки - детёныши </a:t>
            </a:r>
            <a:endParaRPr b="0" lang="en-US" sz="1800" spc="1" strike="noStrike">
              <a:ln w="22320">
                <a:solidFill>
                  <a:srgbClr val="3333cc"/>
                </a:solidFill>
                <a:miter/>
              </a:ln>
              <a:solidFill>
                <a:srgbClr val="6666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42920" y="5013360"/>
            <a:ext cx="698508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cc"/>
                  </a:solidFill>
                  <a:miter/>
                </a:ln>
                <a:solidFill>
                  <a:srgbClr val="6666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ренландского тюленя</a:t>
            </a:r>
            <a:endParaRPr b="0" lang="en-US" sz="1800" spc="1" strike="noStrike">
              <a:ln w="22320">
                <a:solidFill>
                  <a:srgbClr val="3333cc"/>
                </a:solidFill>
                <a:miter/>
              </a:ln>
              <a:solidFill>
                <a:srgbClr val="6666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95280" y="544500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На 2 – 3 неделе жизни шубка малыша меняется на серу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rcRect l="0" t="0" r="1829" b="11406"/>
          <a:stretch/>
        </p:blipFill>
        <p:spPr>
          <a:xfrm>
            <a:off x="539640" y="398520"/>
            <a:ext cx="8136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153040" cy="6338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580000" y="333360"/>
            <a:ext cx="331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Уже в возрасте одного месяца тюленята пробуют плавать. Вначале получается плохо, но вскоре они смогут плавать на большие расстоя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651640" y="404640"/>
            <a:ext cx="316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Под водой тюлени могут оставаться больше 20 минут и погружаться на глубину до 180 метр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0" t="0" r="8990" b="0"/>
          <a:stretch/>
        </p:blipFill>
        <p:spPr>
          <a:xfrm>
            <a:off x="324000" y="2781360"/>
            <a:ext cx="5400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443700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Тюлени - очень пугливые животные, поэтому, охотясь на них, белые медведи закрывают свой тёмный нос лапой, как в мультике про Умку. А если лапы грязные – толкают перед собой льди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7643880" cy="5732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55640" y="616572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Тюлени превосходные артис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768204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4869000"/>
            <a:ext cx="82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Тюлень очень неуклюж на суше, но превосходно плавает. Тело тюленя гладкое, обтекаемой формы, они имеют крупные плавники, похожие на вёс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87280" y="404640"/>
            <a:ext cx="6553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8360" y="47628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Тюлени питаются рыбой, осьминогами и кревет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3384720" cy="2546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771640" y="4149720"/>
            <a:ext cx="3384720" cy="2540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95280" y="1557360"/>
            <a:ext cx="33847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971640" y="692280"/>
            <a:ext cx="7273800" cy="4841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9640" y="5661000"/>
            <a:ext cx="828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Самка рожает одного, редко двух бельков. В длину они достигают 85 см и весят около 8 к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rcRect l="0" t="0" r="1558" b="0"/>
          <a:stretch/>
        </p:blipFill>
        <p:spPr>
          <a:xfrm>
            <a:off x="900000" y="404640"/>
            <a:ext cx="7345440" cy="4983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11280" y="551664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Пока белёк ещё беспомощный, белая шубка позволяет ему быть невидимым на сне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26920" y="4797360"/>
            <a:ext cx="770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Первую неделю мать всё время лежит вместе с детёнышем, а потом начинает оставлять его ненадолго, чтобы поохотиться под вод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58920" y="404640"/>
            <a:ext cx="676764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8360" y="449280"/>
            <a:ext cx="6697440" cy="6408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535640" y="0"/>
            <a:ext cx="460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Молоко у тюленей очень питательное (50% жирности), поэтому через 10 дней вес малышей увеличивается втр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162840" cy="4619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8360" y="486900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Новорождённый тюленёнок ещё не умеет плавать: если его бросить в воду, он от страха раздуется как ша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72000" y="5877000"/>
            <a:ext cx="93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Поэтому мама находится рядом со своим малыш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792144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3:23:27Z</dcterms:created>
  <dc:creator>Максим Миша</dc:creator>
  <dc:description/>
  <dc:language>en-US</dc:language>
  <cp:lastModifiedBy>Максим Миша</cp:lastModifiedBy>
  <dcterms:modified xsi:type="dcterms:W3CDTF">2008-01-27T17:30:02Z</dcterms:modified>
  <cp:revision>8</cp:revision>
  <dc:subject/>
  <dc:title>Слайд 1</dc:title>
</cp:coreProperties>
</file>