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C8B-8C78-4AE6-8816-ABD8C368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1B7-2656-4C82-8AE7-2F42C899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67C-63BF-4BC6-AF9B-ABBD3D8A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3CB-473D-4AD3-B567-E25E35A7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F2E-42BD-492C-B916-F73AB8F8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0B0-2F2C-4463-A972-D859B6E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B3C-05DA-46EC-B267-9CDC8D3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5DC-3D33-4E0B-B92B-96AA154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A71-3608-479B-B0C8-00DAC42D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431-1F54-4A97-B37C-F81D45E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2F1-618B-4862-97DB-5F0DC03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D44-BB79-446A-A6B2-9BBB030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093-3D09-4E80-8770-EC22081F9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592920"/>
            <a:ext cx="813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hy do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you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ome over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onight? We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re having pizz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He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me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hile I was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hey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ome over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at least once a week for a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on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your jacket. It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s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If you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keep on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missing classes, you wo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pass your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he class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came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ith some great games for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I can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  <a:ea typeface="Calibri"/>
              </a:rPr>
              <a:t>put up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with rud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50920" y="13176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Do you know where does this miracle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w many scientists were  buil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Is it work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What is the aim of this physics experi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7" descr="lhc6[1].jpg"/>
          <p:cNvPicPr/>
          <p:nvPr/>
        </p:nvPicPr>
        <p:blipFill>
          <a:blip r:embed="rId2"/>
          <a:stretch/>
        </p:blipFill>
        <p:spPr>
          <a:xfrm>
            <a:off x="1700280" y="2017800"/>
            <a:ext cx="574344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1280" y="2206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1.It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s  the  biggest   mystery of all what happened in a Big Bang  over 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  <a:ea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3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  billion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</a:rPr>
              <a:t>2. Particles  are fared round in the 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both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</a:rPr>
              <a:t>  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3. Professor  Stephen  Hawking  thinks  that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it  is not dangerous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for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4. Protons rich   99.9999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  <a:ea typeface="Calibri"/>
              </a:rPr>
              <a:t>99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1%   of the speed of  light.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  <a:ea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But it is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  <a:ea typeface="Calibri"/>
              </a:rPr>
              <a:t>not stated</a:t>
            </a:r>
            <a:r>
              <a:rPr b="1" lang="en-US" sz="3200" spc="-1" strike="noStrike">
                <a:solidFill>
                  <a:srgbClr val="7030a0"/>
                </a:solidFill>
                <a:latin typeface="Cambria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24000" y="0"/>
            <a:ext cx="9144000" cy="666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50920" y="410400"/>
            <a:ext cx="867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What is your opinion towards to this astonishing mach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 will help us answer many of the most questions concerning the structure of space and ti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project costs much mone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may help us understand how the universe works and discover new facts about 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  LHC is one of the most expensive scientific instruments ever bui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experiments at the LHC may destroy the plan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experiments at the LHC should continue because they are extremely interes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-the LHC may change the face of physics fo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457200"/>
            <a:ext cx="85662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me 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Comment on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The Large Hadron Collider, the world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s largest particle accelerator, is expected to advance humanity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Calibri"/>
              </a:rPr>
              <a:t>’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s understanding of the deepest laws of n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However, a lot of people are worried about its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What can you say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  <a:ea typeface="Calibri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Cambria"/>
                <a:ea typeface="Calibri"/>
              </a:rPr>
              <a:t> for and against this ide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Write an essay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Calibri"/>
              </a:rPr>
              <a:t> of 120-180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26:01Z</dcterms:created>
  <dc:creator>vdronov</dc:creator>
  <dc:description/>
  <dc:language>en-US</dc:language>
  <cp:lastModifiedBy>Ксения</cp:lastModifiedBy>
  <dcterms:modified xsi:type="dcterms:W3CDTF">2013-03-23T19:03:15Z</dcterms:modified>
  <cp:revision>35</cp:revision>
  <dc:subject/>
  <dc:title>Слайд 1</dc:title>
</cp:coreProperties>
</file>