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7155-9842-4F12-A991-81170BFD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DF1-0110-4F59-834C-B73E9F51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F306-FA60-4E95-B6AF-6EE73E00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03F1-826D-4B8E-A5B5-797E122C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6A37-2152-43DF-91A5-2A569E27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40D5-7C7C-4480-81F7-EF4A9215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465-69FD-4D3E-8526-A1D27ABD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CE24-F444-4F52-91A6-DA1B78FB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51B-0B30-49A5-B7EB-1C437D82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FF07-EA35-441D-80B5-3EEE5411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B5B1-8DC8-4FB6-B764-DDD63C41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888E-ED39-4802-A2EA-8147BC1E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A831-5DA6-4547-B057-954FF21527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324000" y="592920"/>
            <a:ext cx="8135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Why don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Calibri"/>
              </a:rPr>
              <a:t>’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t you </a:t>
            </a:r>
            <a:r>
              <a:rPr b="1" lang="en-US" sz="3200" spc="-1" strike="noStrike">
                <a:solidFill>
                  <a:srgbClr val="c00000"/>
                </a:solidFill>
                <a:latin typeface="Cambria"/>
                <a:ea typeface="Calibri"/>
              </a:rPr>
              <a:t>come over 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tonight? We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Calibri"/>
              </a:rPr>
              <a:t>’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re having pizz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He </a:t>
            </a:r>
            <a:r>
              <a:rPr b="1" lang="en-US" sz="3200" spc="-1" strike="noStrike">
                <a:solidFill>
                  <a:srgbClr val="c00000"/>
                </a:solidFill>
                <a:latin typeface="Cambria"/>
                <a:ea typeface="Calibri"/>
              </a:rPr>
              <a:t>put me up 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while I was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They </a:t>
            </a:r>
            <a:r>
              <a:rPr b="1" lang="en-US" sz="3200" spc="-1" strike="noStrike">
                <a:solidFill>
                  <a:srgbClr val="c00000"/>
                </a:solidFill>
                <a:latin typeface="Cambria"/>
                <a:ea typeface="Calibri"/>
              </a:rPr>
              <a:t>come over 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at least once a week for a vis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mbria"/>
                <a:ea typeface="Calibri"/>
              </a:rPr>
              <a:t>Put on 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your jacket. It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Calibri"/>
              </a:rPr>
              <a:t>’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s c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If you </a:t>
            </a:r>
            <a:r>
              <a:rPr b="1" lang="en-US" sz="3200" spc="-1" strike="noStrike">
                <a:solidFill>
                  <a:srgbClr val="c00000"/>
                </a:solidFill>
                <a:latin typeface="Cambria"/>
                <a:ea typeface="Calibri"/>
              </a:rPr>
              <a:t>keep on 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missing classes, you won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Calibri"/>
              </a:rPr>
              <a:t>’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t pass your ex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The class </a:t>
            </a:r>
            <a:r>
              <a:rPr b="1" lang="en-US" sz="3200" spc="-1" strike="noStrike">
                <a:solidFill>
                  <a:srgbClr val="c00000"/>
                </a:solidFill>
                <a:latin typeface="Cambria"/>
                <a:ea typeface="Calibri"/>
              </a:rPr>
              <a:t>came up 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with some great games for the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I can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Calibri"/>
              </a:rPr>
              <a:t>’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t </a:t>
            </a:r>
            <a:r>
              <a:rPr b="1" lang="en-US" sz="3200" spc="-1" strike="noStrike">
                <a:solidFill>
                  <a:srgbClr val="c00000"/>
                </a:solidFill>
                <a:latin typeface="Cambria"/>
                <a:ea typeface="Calibri"/>
              </a:rPr>
              <a:t>put up 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with rude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250920" y="131760"/>
            <a:ext cx="79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Do you know where does this miracle 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How many scientists were  built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Is it working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What is the aim of this physics experi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7" descr="lhc6[1].jpg"/>
          <p:cNvPicPr/>
          <p:nvPr/>
        </p:nvPicPr>
        <p:blipFill>
          <a:blip r:embed="rId2"/>
          <a:stretch/>
        </p:blipFill>
        <p:spPr>
          <a:xfrm>
            <a:off x="1700280" y="2017800"/>
            <a:ext cx="574344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11280" y="220680"/>
            <a:ext cx="8064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1.It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Calibri"/>
              </a:rPr>
              <a:t>’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s  the  biggest   mystery of all what happened in a Big Bang  over  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  <a:ea typeface="Calibri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Cambria"/>
                <a:ea typeface="Calibri"/>
              </a:rPr>
              <a:t>3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  billion years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mbria"/>
              </a:rPr>
              <a:t>2. Particles  are fared round in the   </a:t>
            </a:r>
            <a:r>
              <a:rPr b="1" lang="en-US" sz="3200" spc="-1" strike="noStrike">
                <a:solidFill>
                  <a:srgbClr val="ff0000"/>
                </a:solidFill>
                <a:latin typeface="Cambria"/>
              </a:rPr>
              <a:t>both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</a:rPr>
              <a:t>   dir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3. Professor  Stephen  Hawking  thinks  that  </a:t>
            </a:r>
            <a:r>
              <a:rPr b="1" lang="en-US" sz="3200" spc="-1" strike="noStrike">
                <a:solidFill>
                  <a:srgbClr val="ff0000"/>
                </a:solidFill>
                <a:latin typeface="Cambria"/>
                <a:ea typeface="Calibri"/>
              </a:rPr>
              <a:t>it  is not dangerous 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for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4. Protons rich   99.9999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  <a:ea typeface="Calibri"/>
              </a:rPr>
              <a:t>99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1%   of the speed of  light.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  <a:ea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But it is </a:t>
            </a:r>
            <a:r>
              <a:rPr b="1" lang="en-US" sz="3200" spc="-1" strike="noStrike">
                <a:solidFill>
                  <a:srgbClr val="ff0000"/>
                </a:solidFill>
                <a:latin typeface="Cambria"/>
                <a:ea typeface="Calibri"/>
              </a:rPr>
              <a:t>not stated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324000" y="0"/>
            <a:ext cx="9144000" cy="6669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50920" y="410400"/>
            <a:ext cx="8677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  <a:ea typeface="Calibri"/>
              </a:rPr>
              <a:t>What is your opinion towards to this astonishing mach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-the LHC  will help us answer many of the most questions concerning the structure of space and ti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-the project costs much mone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-the LHC may help us understand how the universe works and discover new facts about i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-the   LHC is one of the most expensive scientific instruments ever bui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-the experiments at the LHC may destroy the plan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-the experiments at the LHC should continue because they are extremely interest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-the LHC may change the face of physics for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50920" y="457200"/>
            <a:ext cx="856620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Home  tas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  <a:ea typeface="Calibri"/>
              </a:rPr>
              <a:t>Comment on the following stat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The Large Hadron Collider, the world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Calibri"/>
              </a:rPr>
              <a:t>’</a:t>
            </a: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s largest particle accelerator, is expected to advance humanity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Calibri"/>
              </a:rPr>
              <a:t>’</a:t>
            </a: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s understanding of the deepest laws of na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However, a lot of people are worried about its exis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What can you say</a:t>
            </a:r>
            <a:r>
              <a:rPr b="1" lang="ru-RU" sz="2800" spc="-1" strike="noStrike">
                <a:solidFill>
                  <a:srgbClr val="7030a0"/>
                </a:solidFill>
                <a:latin typeface="Cambria"/>
                <a:ea typeface="Calibri"/>
              </a:rPr>
              <a:t>   </a:t>
            </a: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 for and against this ide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  <a:ea typeface="Calibri"/>
              </a:rPr>
              <a:t>Write an essay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  <a:ea typeface="Calibri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  <a:ea typeface="Calibri"/>
              </a:rPr>
              <a:t> of 120-180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26:01Z</dcterms:created>
  <dc:creator>vdronov</dc:creator>
  <dc:description/>
  <dc:language>en-US</dc:language>
  <cp:lastModifiedBy>Ксения</cp:lastModifiedBy>
  <dcterms:modified xsi:type="dcterms:W3CDTF">2013-03-23T19:03:15Z</dcterms:modified>
  <cp:revision>35</cp:revision>
  <dc:subject/>
  <dc:title>Слайд 1</dc:title>
</cp:coreProperties>
</file>