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02F-0A38-4A29-963F-E1345846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9AA-6A51-45BB-BC16-F55E741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12688-B117-4713-B346-1E10F53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D8098-7C9E-4DE0-96AF-5D4ED47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19A54-CC04-4EDA-B96F-948AE44F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7161-7840-4DE4-A441-651F551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7117-749D-4814-BABE-B3EBC9A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EDD46-8F25-4BC9-B7EF-AAE2BA9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998E7-C63C-498C-B81A-32A2099B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85092-9494-4E2B-B71B-1FB77248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15A73-9337-46CE-92E0-807CDAE0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CF1-C21B-4327-9D82-404590FA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355-4803-4765-BD6E-42AAE14A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BF3-CD2D-48BB-9B03-13D9C4D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1F9-0A55-4525-9E2D-BB09E87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D1CB-1F5F-47AF-8B9E-FD1F18E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14D-F139-42FA-99D3-F91FDE3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FDE-EDE1-467A-BF44-229650E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F2A-38BD-42C8-9CDF-81964C8D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139-CC03-4404-A279-53463B4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65F-2010-4DCE-9F20-0D785E1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7BC2-79DC-47A8-B4B5-60081538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24A-0F99-4E30-9D4A-C02BE93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5707-F0E6-4049-8226-101A3AA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CD8-2584-4681-B65E-6A55143D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607-1426-4944-9D13-F0AB16E3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F3F0-5E82-4759-AF1B-4CFC698F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70E9-D3FA-463C-AC58-745051D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8E03-93F5-4179-9BAA-4AA183D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4885-4DFF-4F80-85FB-4D0B9D8D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498C-8654-49E5-9A11-0B4B652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6FD-5F33-40DA-BDDC-50E5E1C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AA33-E96D-4323-AB49-55986E00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727C-37D4-4E52-8F1B-EBE8CD7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1C13-8AAC-48D8-B504-4E38CC8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344C-793A-4161-B634-8128947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CACB-C70C-498F-8DAF-6B9C46F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F41D-344C-4D42-B07D-A11C8E3E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EF67-2669-4916-9A76-05505796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DC5C-8089-4F82-B02E-A98896FC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EA20-EC1A-4F7E-8F0A-F4947BCB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CF6A-78D8-49F8-8EA8-B28834FB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3F0-0346-4BD6-9B1B-BF5B35D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4953-97FC-44AE-B884-E7AA070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6D89-525A-4C57-B85E-4721C9E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CD04-B754-4600-B949-D561024A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D082-93CC-4E78-A70E-1DEA06D4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9D64-3184-40DD-ACFE-F76AC7E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555E-65B3-422A-B99C-DDAC505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7184-354A-4619-86A7-9197E4BA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153C-C292-4161-B0EF-19B5E5DC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EA67-DE10-4D9E-9F4E-30C9572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D150-4C74-4A73-BC68-82FF1034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794-3688-4CBC-A9AF-D1605C08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7DFD-4A6A-4E66-964A-1450436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A8B6-EBB6-4F6E-A99D-72E048E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A1A8-DF85-4AAA-8153-A61D9BE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B158-3BFF-4A22-A330-9693461D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1B9C-F5BA-40E7-ACDB-E69644F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77AD-40A9-4463-A398-00B53FE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35D8-E02F-4EE7-B7D2-3098F55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5E12-9608-466F-A8A9-8D7DECF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CD49-9586-4FEF-9CAA-C36482E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1389-7626-44F0-8240-7E7D631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7ED-6C9B-408C-AF02-373D6FB9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276D-F637-4DB7-99B5-432DBB20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2CAD-648B-44A4-B2E9-66D3E8CC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8118-D371-4745-BB02-0FA486E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BF2F-B36B-408E-88BC-F0B787EB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9713-95A1-48EB-B7D3-0BD9A14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AA42-DEC1-459A-967C-A797647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EA26-1698-442F-B999-7809ECB3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2E93-7DAC-4924-8D6E-0BBF1CC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AB54-9914-4E5A-B9AB-952F275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F4D1D-D702-4AD9-9252-BEFE0BE7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598-CA15-4848-95B6-B4071D7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89C5-38E5-4723-B23F-F17925B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291B-2726-439E-AE0E-CD7CB36B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9E60-8C23-4441-A88F-8B125DB0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3277-18EF-4209-8AB7-46B17D65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6BBE-1722-413F-9494-D1A70E08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AB1F-0516-468B-BD91-C1A64388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33FF-CFDA-49E9-9BA4-E2B3FE8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36E6E-ADB3-4E69-8E22-68F8CD39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C315-97B9-4C40-A633-6524ACDC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B621-3395-4D1A-8890-5B4D8FB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D07-8187-428D-A54C-DB235CB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D69C-6F61-4B3A-B77A-2DF5F26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BD07-24C6-49D6-9E19-64CB16F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BE6A-3149-40D6-AF77-3E337FC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DA4D-143B-4BA0-BB04-172BF2DC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210A-E5F8-44B6-9F51-ABA46480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1C5C-46AE-483A-A6A9-38F229D9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0ACEF-0F55-45B3-9396-676CBAEF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DDDC-BFBA-4660-95D6-9D6F0F6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C5AE-91ED-487D-A675-81321611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863D-3583-42A1-98E3-CB1F9544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796-C9E1-4025-AC9B-D1F85EA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5DA12-4427-4ACF-AE97-029EF22C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FE39-CB5C-4BC4-8B15-7FA7711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DA69C-8A4E-4C7F-8FB2-A102668A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8AB7-FAF9-4FA8-8C25-AD05411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73DC9-9D46-49B3-88CF-6678ABD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3A73-7E09-4DEF-9FA1-1BAC4AE5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5DDA1-DAF2-464C-971D-3989B322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B941D-FE60-4A89-9DD7-D40B5D7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B15B0-D3E9-417F-89FB-37191C4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6CEB-96CA-4EB5-BC9F-2477322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4B7-2E6B-4610-9476-20B46B16FF5B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1370-89FF-4632-A090-59CC2AA797C1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F8E-DDC7-4072-B714-1D6621C6D657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2AD-B8FB-4DCF-AF01-C7857FE1327C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368D-AA50-466A-A6F8-34A489F4D723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CE5-AF6B-412C-85BE-89E666F7AF30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381F-9121-41D7-AF3E-B82ADE568CB0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54C9-B2E5-453C-828B-AE737FC1BF35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5CEE-2B88-4B16-AEBC-3C67073A7E9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2" descr=""/>
          <p:cNvPicPr/>
          <p:nvPr/>
        </p:nvPicPr>
        <p:blipFill>
          <a:blip r:embed="rId1"/>
          <a:stretch/>
        </p:blipFill>
        <p:spPr>
          <a:xfrm>
            <a:off x="49320" y="182520"/>
            <a:ext cx="5533920" cy="30369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503" name="Содержимое 3" descr="14.jpg"/>
          <p:cNvPicPr/>
          <p:nvPr/>
        </p:nvPicPr>
        <p:blipFill>
          <a:blip r:embed="rId2"/>
          <a:stretch/>
        </p:blipFill>
        <p:spPr>
          <a:xfrm>
            <a:off x="3851280" y="2637000"/>
            <a:ext cx="4756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3" descr=""/>
          <p:cNvPicPr/>
          <p:nvPr/>
        </p:nvPicPr>
        <p:blipFill>
          <a:blip r:embed="rId1"/>
          <a:stretch/>
        </p:blipFill>
        <p:spPr>
          <a:xfrm>
            <a:off x="2048040" y="2895480"/>
            <a:ext cx="5121000" cy="957240"/>
          </a:xfrm>
          <a:prstGeom prst="rect">
            <a:avLst/>
          </a:prstGeom>
          <a:ln w="0">
            <a:noFill/>
          </a:ln>
        </p:spPr>
      </p:pic>
      <p:pic>
        <p:nvPicPr>
          <p:cNvPr id="505" name="Содержимое 7" descr="2.jpg"/>
          <p:cNvPicPr/>
          <p:nvPr/>
        </p:nvPicPr>
        <p:blipFill>
          <a:blip r:embed="rId2"/>
          <a:stretch/>
        </p:blipFill>
        <p:spPr>
          <a:xfrm>
            <a:off x="4643280" y="260280"/>
            <a:ext cx="4233960" cy="266400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6" descr="1.jpg"/>
          <p:cNvPicPr/>
          <p:nvPr/>
        </p:nvPicPr>
        <p:blipFill>
          <a:blip r:embed="rId3"/>
          <a:stretch/>
        </p:blipFill>
        <p:spPr>
          <a:xfrm>
            <a:off x="179280" y="189000"/>
            <a:ext cx="4316400" cy="2879640"/>
          </a:xfrm>
          <a:prstGeom prst="rect">
            <a:avLst/>
          </a:prstGeom>
          <a:ln w="0">
            <a:noFill/>
          </a:ln>
        </p:spPr>
      </p:pic>
      <p:pic>
        <p:nvPicPr>
          <p:cNvPr id="507" name="Содержимое 5" descr="3.jpg"/>
          <p:cNvPicPr/>
          <p:nvPr/>
        </p:nvPicPr>
        <p:blipFill>
          <a:blip r:embed="rId4"/>
          <a:stretch/>
        </p:blipFill>
        <p:spPr>
          <a:xfrm>
            <a:off x="4859280" y="3933720"/>
            <a:ext cx="4070520" cy="2705040"/>
          </a:xfrm>
          <a:prstGeom prst="rect">
            <a:avLst/>
          </a:prstGeom>
          <a:ln w="0">
            <a:noFill/>
          </a:ln>
        </p:spPr>
      </p:pic>
      <p:pic>
        <p:nvPicPr>
          <p:cNvPr id="508" name="Содержимое 3" descr="4.jpg"/>
          <p:cNvPicPr/>
          <p:nvPr/>
        </p:nvPicPr>
        <p:blipFill>
          <a:blip r:embed="rId5"/>
          <a:stretch/>
        </p:blipFill>
        <p:spPr>
          <a:xfrm>
            <a:off x="108000" y="3933720"/>
            <a:ext cx="4492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8" descr=""/>
          <p:cNvPicPr/>
          <p:nvPr/>
        </p:nvPicPr>
        <p:blipFill>
          <a:blip r:embed="rId1"/>
          <a:stretch/>
        </p:blipFill>
        <p:spPr>
          <a:xfrm>
            <a:off x="-30240" y="2646360"/>
            <a:ext cx="4754520" cy="1004760"/>
          </a:xfrm>
          <a:prstGeom prst="rect">
            <a:avLst/>
          </a:prstGeom>
          <a:ln w="0">
            <a:noFill/>
          </a:ln>
        </p:spPr>
      </p:pic>
      <p:pic>
        <p:nvPicPr>
          <p:cNvPr id="510" name="Содержимое 7" descr="5.jpg"/>
          <p:cNvPicPr/>
          <p:nvPr/>
        </p:nvPicPr>
        <p:blipFill>
          <a:blip r:embed="rId2"/>
          <a:stretch/>
        </p:blipFill>
        <p:spPr>
          <a:xfrm>
            <a:off x="4788000" y="260280"/>
            <a:ext cx="4038480" cy="269568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10" descr="6.jpg"/>
          <p:cNvPicPr/>
          <p:nvPr/>
        </p:nvPicPr>
        <p:blipFill>
          <a:blip r:embed="rId3"/>
          <a:stretch/>
        </p:blipFill>
        <p:spPr>
          <a:xfrm>
            <a:off x="250920" y="33336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512" name="Содержимое 5" descr="7.jpg"/>
          <p:cNvPicPr/>
          <p:nvPr/>
        </p:nvPicPr>
        <p:blipFill>
          <a:blip r:embed="rId4"/>
          <a:stretch/>
        </p:blipFill>
        <p:spPr>
          <a:xfrm>
            <a:off x="250920" y="3789360"/>
            <a:ext cx="4033800" cy="2690640"/>
          </a:xfrm>
          <a:prstGeom prst="rect">
            <a:avLst/>
          </a:prstGeom>
          <a:ln w="0">
            <a:noFill/>
          </a:ln>
        </p:spPr>
      </p:pic>
      <p:pic>
        <p:nvPicPr>
          <p:cNvPr id="513" name="Содержимое 7" descr="8.jpg"/>
          <p:cNvPicPr/>
          <p:nvPr/>
        </p:nvPicPr>
        <p:blipFill>
          <a:blip r:embed="rId5"/>
          <a:stretch/>
        </p:blipFill>
        <p:spPr>
          <a:xfrm>
            <a:off x="4859280" y="3429000"/>
            <a:ext cx="3807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Содержимое 4" descr="9.jpg"/>
          <p:cNvPicPr/>
          <p:nvPr/>
        </p:nvPicPr>
        <p:blipFill>
          <a:blip r:embed="rId1"/>
          <a:stretch/>
        </p:blipFill>
        <p:spPr>
          <a:xfrm>
            <a:off x="395280" y="260280"/>
            <a:ext cx="4038480" cy="269568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5" descr="10.jpg"/>
          <p:cNvPicPr/>
          <p:nvPr/>
        </p:nvPicPr>
        <p:blipFill>
          <a:blip r:embed="rId2"/>
          <a:stretch/>
        </p:blipFill>
        <p:spPr>
          <a:xfrm>
            <a:off x="4859280" y="333360"/>
            <a:ext cx="4038480" cy="2360520"/>
          </a:xfrm>
          <a:prstGeom prst="rect">
            <a:avLst/>
          </a:prstGeom>
          <a:ln w="0">
            <a:noFill/>
          </a:ln>
        </p:spPr>
      </p:pic>
      <p:pic>
        <p:nvPicPr>
          <p:cNvPr id="516" name="Содержимое 8" descr="11.jpg"/>
          <p:cNvPicPr/>
          <p:nvPr/>
        </p:nvPicPr>
        <p:blipFill>
          <a:blip r:embed="rId3"/>
          <a:stretch/>
        </p:blipFill>
        <p:spPr>
          <a:xfrm>
            <a:off x="250920" y="342900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517" name="Содержимое 9" descr="12.jpg"/>
          <p:cNvPicPr/>
          <p:nvPr/>
        </p:nvPicPr>
        <p:blipFill>
          <a:blip r:embed="rId4"/>
          <a:stretch/>
        </p:blipFill>
        <p:spPr>
          <a:xfrm>
            <a:off x="4932360" y="3284640"/>
            <a:ext cx="40384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9:28:02Z</dcterms:created>
  <dc:creator>Ксения</dc:creator>
  <dc:description/>
  <dc:language>en-US</dc:language>
  <cp:lastModifiedBy>Ксения</cp:lastModifiedBy>
  <dcterms:modified xsi:type="dcterms:W3CDTF">2013-03-23T19:51:50Z</dcterms:modified>
  <cp:revision>4</cp:revision>
  <dc:subject/>
  <dc:title>Commutication</dc:title>
</cp:coreProperties>
</file>