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A00-BEB0-4BC6-B055-75F41903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AC9-AA67-4F0E-A7FD-F85C1EA1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AE2A9-6606-4D94-B535-77A64CA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F55D-D6F3-40B5-9A95-8559B7CE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6CB7E-6A0F-4CCA-9C46-72BEAEA9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A82C7-0225-4913-88AD-D9F6F83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8D0A4-0F9E-477F-BC2C-E82B62D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FE54C-5CCD-4560-9C72-E240A53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32B4C-6E3E-4B24-ACDF-6C1A8FFE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1AADA-A966-4C38-A74F-7E6042BD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25B7-0FDA-4408-B63F-F887825B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08F-88CB-4421-8F3A-485117DD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321-73E8-4EC8-92FA-48815C34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CA9-4599-4720-A638-7D97AB4B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DA19-2EA9-431C-973F-5155DA11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C4FE-BFF7-412C-8441-2C1B014C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0A07-3833-4FAE-B807-182BECE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FC76-26E4-443D-A033-221C18F9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9728-FD8A-4EF0-AE87-2F1270B0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5411-32C5-424D-AEFD-1B96D8E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12E-63D0-410C-B136-D86E0DCD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8DC0-1F66-4502-85A9-943FA96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BE92-841A-4010-A807-9A7992F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F61E-5DD8-4129-91AE-E3B14E25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295-3F26-4268-BA13-4636B639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188-D7D1-4452-AB8B-0BDAEC8F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302C-C778-4A11-A684-EAAC3118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968D-6F2B-43FF-A5B9-483F49F9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AA66-477D-47F5-8A03-011CA44D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12A0-69CB-4B37-9912-59CCA088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3ABA-5271-43D1-94C6-D59921A5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E3D-A83A-431B-A30C-5D5B240E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6BDB-4EAE-4736-A806-B9A2A4E6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A745-8A81-4F80-8507-75C2715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F64D-ABE5-46DE-9755-767612D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6F00-7A8C-4839-856C-70154301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874B-BF5B-465B-8678-D80C0FFB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28AA-18A2-4C18-BA74-577318EA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EBC6-D266-4397-B9B3-07E242D5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810D-F803-4BFB-A927-A8DFF828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2649-37B0-4B34-A8A1-E4F06F46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6CBD-EA36-450E-9F14-1750F3CD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D57-97B3-4B37-8AFA-FAB86A57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FB84-08BD-40AE-8FC2-EB2D60F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CF57-6CAE-41B5-BE26-F36FEF6E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91B9-7181-4F4A-84C4-64FDEC4E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97F3-C110-4E97-B965-AFDD421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2AF1-E50B-4782-AEC5-C6CA998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3516-7599-4902-B384-B6AB6EB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EFA8-EA3E-4F40-9A11-6AB2EC72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8F09-5C99-415D-AAC7-66E46EDA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114D-23C6-4471-94EB-D29348FC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346C-F928-476C-A543-E5D5860C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93E-C1BA-41EF-BE2C-A600F81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0482-8879-4F6F-A896-9D647C66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50A4-C248-48E5-8514-100BC45B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BB4B-5C25-4671-A146-B8245DA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0024-0245-442A-91FC-616837FB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7FCF-4856-4491-A446-EC353F6E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B0EC-C5FF-4363-8D4D-95793EB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A1DC-05F4-41A4-AD9B-4A00597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BA7F-59FF-4280-B4C1-982D6F1D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E0086-8C43-45B2-8634-CF9DF6EF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4B21-94A1-4A93-B1AE-ED0D391B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CA1-1696-4884-9879-1F6DD7DB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2CFE-BCA2-4FF3-8A8D-DB328C5E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E8E51-07C1-452E-A56B-74039F73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472F-FA56-40DE-B380-7E24FED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FAF0-11C1-498B-BA37-CA8F1B9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5EA5-AC9A-434E-BDD2-1D808765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A6DB7-A0E9-404F-A478-CD4B0557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E74BF-255D-457A-BF6D-B5766357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3FE41-8912-4EC4-9DD2-9EE99BA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B4F6C-86DA-450D-861F-C92195F0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19A8-DA2A-45DB-936F-ECBF984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BC1-F813-4545-911C-60C5541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BFBB7-8FCC-46C6-9104-478B61CD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DD66F-1125-4AAB-B9CF-A2D71CAB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223FA-9AEF-4D5E-B9B4-007A7662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6A12A-54CE-460D-A5E0-F6A5999C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17BB8-FB08-4344-91E0-25CB38C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023BE-71FE-4BE4-B9EB-D6378AD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4EC25-D642-4092-A517-C1D0D2C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ABEA-9E26-4790-9CB6-1222D06E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42B3E-9D9C-4483-9087-1AF2C29C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18CC8-E6C2-485B-8258-2493E0C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7CC-D4B5-4E47-B352-2CF5073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1939F-9418-44FA-8EF8-67E71687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F708C-0106-4999-B0F6-D32A210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3DD4-D988-47C3-ABCD-CF57617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8C310-38CF-4270-A9F6-B565A988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929FF-3AC5-4AC1-9AAA-80FFE62E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ACF4F-B53B-4E57-AFC3-4BF9C862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1712E-818E-46BB-9A8E-E5FB709A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5AE89-2CF0-4529-B260-3321B3E7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CD8E8-B346-4CEE-AC71-644A5B9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4B8A4-9C15-4C84-B02C-958F670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3BF-E1E8-4D2D-9580-BF75731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155A-BF7F-4DE7-B7FA-8ABD0AB3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C47D-C86D-4C0B-8E2D-35A1BEC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186A6-5D6B-4130-BEB9-8ACEE4D0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EA21-5BF1-4606-A2A3-422FF518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AFCBC-33EE-4CDB-BE31-6FEEB5D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DA01-0883-41AD-A434-BD699B86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62695-0507-47AF-808E-094DC406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8AE67-CB85-44D7-95CF-979D4F04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2FEAD-ADC3-48E3-AD1F-9D0C05A4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1099-951C-4C93-8C26-36728A3D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986-FA1F-4138-9365-4B00F01C6C88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C952-9FF7-44DF-9F73-9D65FD13F785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E8DA-209F-44E8-B5F8-9C9CBE29ECE6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9796-EC76-48D1-9DD7-A694F3254CB6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20BC-8456-48D8-84A4-CB4109914539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2AFF-491B-44E7-BD61-4699A73CE935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4D59-DC8E-49D1-B075-B050579A610E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A0DF-D7D7-4773-91FC-3C9AC3E6A158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6985-83D2-4CF1-9FE1-FA0BAC845B96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2" descr=""/>
          <p:cNvPicPr/>
          <p:nvPr/>
        </p:nvPicPr>
        <p:blipFill>
          <a:blip r:embed="rId1"/>
          <a:stretch/>
        </p:blipFill>
        <p:spPr>
          <a:xfrm>
            <a:off x="49320" y="182520"/>
            <a:ext cx="5533920" cy="30369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98989"/>
              </a:solidFill>
              <a:latin typeface="Cambria"/>
            </a:endParaRPr>
          </a:p>
        </p:txBody>
      </p:sp>
      <p:pic>
        <p:nvPicPr>
          <p:cNvPr id="503" name="Содержимое 3" descr="14.jpg"/>
          <p:cNvPicPr/>
          <p:nvPr/>
        </p:nvPicPr>
        <p:blipFill>
          <a:blip r:embed="rId2"/>
          <a:stretch/>
        </p:blipFill>
        <p:spPr>
          <a:xfrm>
            <a:off x="3851280" y="2637000"/>
            <a:ext cx="4756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3" descr=""/>
          <p:cNvPicPr/>
          <p:nvPr/>
        </p:nvPicPr>
        <p:blipFill>
          <a:blip r:embed="rId1"/>
          <a:stretch/>
        </p:blipFill>
        <p:spPr>
          <a:xfrm>
            <a:off x="2048040" y="2895480"/>
            <a:ext cx="5121000" cy="957240"/>
          </a:xfrm>
          <a:prstGeom prst="rect">
            <a:avLst/>
          </a:prstGeom>
          <a:ln w="0">
            <a:noFill/>
          </a:ln>
        </p:spPr>
      </p:pic>
      <p:pic>
        <p:nvPicPr>
          <p:cNvPr id="505" name="Содержимое 7" descr="2.jpg"/>
          <p:cNvPicPr/>
          <p:nvPr/>
        </p:nvPicPr>
        <p:blipFill>
          <a:blip r:embed="rId2"/>
          <a:stretch/>
        </p:blipFill>
        <p:spPr>
          <a:xfrm>
            <a:off x="4643280" y="260280"/>
            <a:ext cx="4233960" cy="266400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6" descr="1.jpg"/>
          <p:cNvPicPr/>
          <p:nvPr/>
        </p:nvPicPr>
        <p:blipFill>
          <a:blip r:embed="rId3"/>
          <a:stretch/>
        </p:blipFill>
        <p:spPr>
          <a:xfrm>
            <a:off x="179280" y="189000"/>
            <a:ext cx="4316400" cy="2879640"/>
          </a:xfrm>
          <a:prstGeom prst="rect">
            <a:avLst/>
          </a:prstGeom>
          <a:ln w="0">
            <a:noFill/>
          </a:ln>
        </p:spPr>
      </p:pic>
      <p:pic>
        <p:nvPicPr>
          <p:cNvPr id="507" name="Содержимое 5" descr="3.jpg"/>
          <p:cNvPicPr/>
          <p:nvPr/>
        </p:nvPicPr>
        <p:blipFill>
          <a:blip r:embed="rId4"/>
          <a:stretch/>
        </p:blipFill>
        <p:spPr>
          <a:xfrm>
            <a:off x="4859280" y="3933720"/>
            <a:ext cx="4070520" cy="2705040"/>
          </a:xfrm>
          <a:prstGeom prst="rect">
            <a:avLst/>
          </a:prstGeom>
          <a:ln w="0">
            <a:noFill/>
          </a:ln>
        </p:spPr>
      </p:pic>
      <p:pic>
        <p:nvPicPr>
          <p:cNvPr id="508" name="Содержимое 3" descr="4.jpg"/>
          <p:cNvPicPr/>
          <p:nvPr/>
        </p:nvPicPr>
        <p:blipFill>
          <a:blip r:embed="rId5"/>
          <a:stretch/>
        </p:blipFill>
        <p:spPr>
          <a:xfrm>
            <a:off x="108000" y="3933720"/>
            <a:ext cx="4492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8" descr=""/>
          <p:cNvPicPr/>
          <p:nvPr/>
        </p:nvPicPr>
        <p:blipFill>
          <a:blip r:embed="rId1"/>
          <a:stretch/>
        </p:blipFill>
        <p:spPr>
          <a:xfrm>
            <a:off x="-30240" y="2646360"/>
            <a:ext cx="4754520" cy="1004760"/>
          </a:xfrm>
          <a:prstGeom prst="rect">
            <a:avLst/>
          </a:prstGeom>
          <a:ln w="0">
            <a:noFill/>
          </a:ln>
        </p:spPr>
      </p:pic>
      <p:pic>
        <p:nvPicPr>
          <p:cNvPr id="510" name="Содержимое 7" descr="5.jpg"/>
          <p:cNvPicPr/>
          <p:nvPr/>
        </p:nvPicPr>
        <p:blipFill>
          <a:blip r:embed="rId2"/>
          <a:stretch/>
        </p:blipFill>
        <p:spPr>
          <a:xfrm>
            <a:off x="4788000" y="260280"/>
            <a:ext cx="4038480" cy="2695680"/>
          </a:xfrm>
          <a:prstGeom prst="rect">
            <a:avLst/>
          </a:prstGeom>
          <a:ln w="0">
            <a:noFill/>
          </a:ln>
        </p:spPr>
      </p:pic>
      <p:pic>
        <p:nvPicPr>
          <p:cNvPr id="511" name="Содержимое 10" descr="6.jpg"/>
          <p:cNvPicPr/>
          <p:nvPr/>
        </p:nvPicPr>
        <p:blipFill>
          <a:blip r:embed="rId3"/>
          <a:stretch/>
        </p:blipFill>
        <p:spPr>
          <a:xfrm>
            <a:off x="250920" y="333360"/>
            <a:ext cx="4038480" cy="2181240"/>
          </a:xfrm>
          <a:prstGeom prst="rect">
            <a:avLst/>
          </a:prstGeom>
          <a:ln w="0">
            <a:noFill/>
          </a:ln>
        </p:spPr>
      </p:pic>
      <p:pic>
        <p:nvPicPr>
          <p:cNvPr id="512" name="Содержимое 5" descr="7.jpg"/>
          <p:cNvPicPr/>
          <p:nvPr/>
        </p:nvPicPr>
        <p:blipFill>
          <a:blip r:embed="rId4"/>
          <a:stretch/>
        </p:blipFill>
        <p:spPr>
          <a:xfrm>
            <a:off x="250920" y="3789360"/>
            <a:ext cx="4033800" cy="2690640"/>
          </a:xfrm>
          <a:prstGeom prst="rect">
            <a:avLst/>
          </a:prstGeom>
          <a:ln w="0">
            <a:noFill/>
          </a:ln>
        </p:spPr>
      </p:pic>
      <p:pic>
        <p:nvPicPr>
          <p:cNvPr id="513" name="Содержимое 7" descr="8.jpg"/>
          <p:cNvPicPr/>
          <p:nvPr/>
        </p:nvPicPr>
        <p:blipFill>
          <a:blip r:embed="rId5"/>
          <a:stretch/>
        </p:blipFill>
        <p:spPr>
          <a:xfrm>
            <a:off x="4859280" y="3429000"/>
            <a:ext cx="38070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Содержимое 4" descr="9.jpg"/>
          <p:cNvPicPr/>
          <p:nvPr/>
        </p:nvPicPr>
        <p:blipFill>
          <a:blip r:embed="rId1"/>
          <a:stretch/>
        </p:blipFill>
        <p:spPr>
          <a:xfrm>
            <a:off x="395280" y="260280"/>
            <a:ext cx="4038480" cy="2695680"/>
          </a:xfrm>
          <a:prstGeom prst="rect">
            <a:avLst/>
          </a:prstGeom>
          <a:ln w="0">
            <a:noFill/>
          </a:ln>
        </p:spPr>
      </p:pic>
      <p:pic>
        <p:nvPicPr>
          <p:cNvPr id="515" name="Содержимое 5" descr="10.jpg"/>
          <p:cNvPicPr/>
          <p:nvPr/>
        </p:nvPicPr>
        <p:blipFill>
          <a:blip r:embed="rId2"/>
          <a:stretch/>
        </p:blipFill>
        <p:spPr>
          <a:xfrm>
            <a:off x="4859280" y="333360"/>
            <a:ext cx="4038480" cy="2360520"/>
          </a:xfrm>
          <a:prstGeom prst="rect">
            <a:avLst/>
          </a:prstGeom>
          <a:ln w="0">
            <a:noFill/>
          </a:ln>
        </p:spPr>
      </p:pic>
      <p:pic>
        <p:nvPicPr>
          <p:cNvPr id="516" name="Содержимое 8" descr="11.jpg"/>
          <p:cNvPicPr/>
          <p:nvPr/>
        </p:nvPicPr>
        <p:blipFill>
          <a:blip r:embed="rId3"/>
          <a:stretch/>
        </p:blipFill>
        <p:spPr>
          <a:xfrm>
            <a:off x="250920" y="342900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517" name="Содержимое 9" descr="12.jpg"/>
          <p:cNvPicPr/>
          <p:nvPr/>
        </p:nvPicPr>
        <p:blipFill>
          <a:blip r:embed="rId4"/>
          <a:stretch/>
        </p:blipFill>
        <p:spPr>
          <a:xfrm>
            <a:off x="4932360" y="3284640"/>
            <a:ext cx="403848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9:28:02Z</dcterms:created>
  <dc:creator>Ксения</dc:creator>
  <dc:description/>
  <dc:language>en-US</dc:language>
  <cp:lastModifiedBy>Ксения</cp:lastModifiedBy>
  <dcterms:modified xsi:type="dcterms:W3CDTF">2013-03-23T19:51:50Z</dcterms:modified>
  <cp:revision>4</cp:revision>
  <dc:subject/>
  <dc:title>Commutication</dc:title>
</cp:coreProperties>
</file>