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5CCB2-B009-48AA-8B78-51384D89C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52208-FC1B-4DAB-BA70-EBEB0DC30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099B1-8BBB-4659-ADF2-1ECDCE09E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3B79B-4833-4AD3-8266-6127DD8F4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41386-1616-48BE-9633-CEFD4B087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D97C2-3EFB-4566-AFA2-8D72DFAFE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E5166-5DA5-4054-8F32-56D926ED2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25A80-A376-4DD7-9A0E-B4E147A9A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4F7FC-E6F8-4942-91EF-8819AA247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B46E8-22C8-4BB4-B873-520CBFE1E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37AC8-B5D8-4995-A3BF-04585D84F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AE663-90B3-4EC6-96EB-44F3065CF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9B9B6-08EF-4318-AEBC-C066D0238DB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«Что будет с человеком,  если в его  кровь  выделяется недостаточное количество гормона инсулина?».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Избыток инсулина в организме вызывает очень резкое снижение количества сахара в крови, сопровождающееся головокружением, слабостью, чувством голода, потерей сознания, судорогам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Это состояние может возникнуть у больных после введения инсулина натощак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Необходимо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вести в кровь глюкозу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ринять внутрь сахар или другие сладост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71380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Как вернуть обмен веществ к норме при сахарном диабете</a:t>
            </a: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836640"/>
            <a:ext cx="822960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рием в пищу правильных продуктов помогает с легкостью контролировать уровень сахара в крови, поддерживать его на нормальном уровне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Нужно каждый день добавлять половину ложки корицы в пищу, в этом случае клетки станут более чувствительными к инсулину, будут иметь возможность преобразовывать сахар в энергию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Рыба из холодных морей, к примеру, макрель, лосось, сардины содержат омега-3 жирные кислоты, которые благотворно влияют на обменные процессы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Лук, яблоки, помидоры, ягоды, зеленые овощи, которые богаты кверцетином, витамином P, на двадцать процентов снижают риск развития диабета в случае регулярного употребления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Черный шоколад способен также повысить чувствительность к инсулину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ри ежедневном употреблении от двадцати пяти до сорока граммов клетчатки можно попытаться поддерживать уровень сахара на нормальном уровне, избегать скачков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Говядина, кроме железа, белков, витамина В, наделена линолиевой кислотой, которая способна корректировать метаболизм сахара кров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Две столовых ложки уксуса, принятых до еды, смогут понизить уровень сахара в крови, скачок которого непременно произойдет после приема пищ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БУДЬТЕ ЗДОРОВЫ!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72" name="Picture 5" descr="thumbnail"/>
          <p:cNvPicPr/>
          <p:nvPr/>
        </p:nvPicPr>
        <p:blipFill>
          <a:blip r:embed="rId1"/>
          <a:stretch/>
        </p:blipFill>
        <p:spPr>
          <a:xfrm>
            <a:off x="1258920" y="1341360"/>
            <a:ext cx="6867360" cy="51516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99"/>
                </a:solidFill>
                <a:latin typeface="Arial"/>
              </a:rPr>
              <a:t>Поджелудочная железа – </a:t>
            </a:r>
            <a:br>
              <a:rPr sz="3600"/>
            </a:br>
            <a:r>
              <a:rPr b="0" lang="ru-RU" sz="3600" spc="-1" strike="noStrike">
                <a:solidFill>
                  <a:srgbClr val="ffff99"/>
                </a:solidFill>
                <a:latin typeface="Arial"/>
              </a:rPr>
              <a:t>железа смешанной секреции.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5720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на выделяет пищеварительный сок в двенадцатиперстную кишку и отдельные ее клетки вырабатывают гормон –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инсулин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регулирующий обмен углеводов в организме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" name="Picture 4" descr="podzheludochnaya"/>
          <p:cNvPicPr/>
          <p:nvPr/>
        </p:nvPicPr>
        <p:blipFill>
          <a:blip r:embed="rId1"/>
          <a:stretch/>
        </p:blipFill>
        <p:spPr>
          <a:xfrm>
            <a:off x="611280" y="2060640"/>
            <a:ext cx="3943080" cy="33526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68360" y="980640"/>
            <a:ext cx="8229600" cy="517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нижение выработки инсулина приводит к тому, что большая часть углеводов выводится из организма с мочой. Это приводит к развитию такого заболевания, как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сахарный диабет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Picture 5" descr="Ishemicheskaya_forma_SDS"/>
          <p:cNvPicPr/>
          <p:nvPr/>
        </p:nvPicPr>
        <p:blipFill>
          <a:blip r:embed="rId1"/>
          <a:stretch/>
        </p:blipFill>
        <p:spPr>
          <a:xfrm>
            <a:off x="755640" y="4149720"/>
            <a:ext cx="2232000" cy="23907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7" descr="%D0%A1%D0%B0%D1%85%D0%B0%D1%80%D0%BD%D1%8B%D0%B9-%D0%B4%D0%B8%D0%B0%D0%B1%D0%B5%D1%82"/>
          <p:cNvPicPr/>
          <p:nvPr/>
        </p:nvPicPr>
        <p:blipFill>
          <a:blip r:embed="rId2"/>
          <a:stretch/>
        </p:blipFill>
        <p:spPr>
          <a:xfrm>
            <a:off x="4859280" y="4292640"/>
            <a:ext cx="3533760" cy="23860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468360" y="404280"/>
            <a:ext cx="8229600" cy="44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У диабетиков нарушается обмен жиров и белко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Белки расщепляются не полностью, промежуточные продукты очень ядовиты и вызывают тяжелое отравление организм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Больной испытывает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мучительную жажду, так как недостаток инсулина приводит к обезвоживанию тканей и потере вод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сухость во рту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учащенное, обильное мочеиспускание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слабость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зуд кожи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запах ацетона изо рта, чувство голода, даже если хорошо поел (волчий голод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Когда сахар повышен в течение нескольких месяцев возможно похудание, несмотря на постоянно повышенный аппетит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Picture 5" descr="76132842_342x198"/>
          <p:cNvPicPr/>
          <p:nvPr/>
        </p:nvPicPr>
        <p:blipFill>
          <a:blip r:embed="rId1"/>
          <a:stretch/>
        </p:blipFill>
        <p:spPr>
          <a:xfrm>
            <a:off x="5364000" y="4581360"/>
            <a:ext cx="3257640" cy="18860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Сахарный диабет 1-го</a:t>
            </a: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 </a:t>
            </a: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типа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Развивается при воздействии на организм неблагоприятных факторов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ирусной инфекции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раннего искусственного вскармливания у детей (на основе коровьего молока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тресса (физического или психологического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употребления продуктов с различными искусственными добавкам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Первичная профилактика сахарного диабета 1-го типа :</a:t>
            </a:r>
            <a:br>
              <a:rPr sz="2800"/>
            </a:b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рофилактика вирусных заболеваний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исключительно естественное вскармливание детей от рождения до 1-1,5 лет грудным (женским) молоком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равильное воспитание детей, воспитание устойчивости к стрессу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рациональное (натуральное) питани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Так как люди не знают, владельцами каких генов они являются, 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эти правила относятся к каждому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 из них, абсолютно к каждой семье. Соблюдение этих правил становится абсолютным в семье, где есть кровные родственники (любой степени родства), страдающие сахарным диабетом 1-го тип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Сахарный</a:t>
            </a: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диабет II типа встречается гораздо чаще - около 95% всех больных диабетом. </a:t>
            </a:r>
            <a:br>
              <a:rPr sz="2400"/>
            </a:b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512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ричины возникновения: 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избыточная масса тела, ожирение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недостаточная физическая активность (гиподинамия), которая усугубляет ожирение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отребление большого количества животных жиров и легкоусвояемых углеводов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наличие диабета у родственников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Picture 5" descr="6937"/>
          <p:cNvPicPr/>
          <p:nvPr/>
        </p:nvPicPr>
        <p:blipFill>
          <a:blip r:embed="rId1"/>
          <a:stretch/>
        </p:blipFill>
        <p:spPr>
          <a:xfrm>
            <a:off x="6227640" y="1268280"/>
            <a:ext cx="2808360" cy="22845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7" descr="03"/>
          <p:cNvPicPr/>
          <p:nvPr/>
        </p:nvPicPr>
        <p:blipFill>
          <a:blip r:embed="rId2"/>
          <a:stretch/>
        </p:blipFill>
        <p:spPr>
          <a:xfrm>
            <a:off x="5292720" y="3429000"/>
            <a:ext cx="2284560" cy="19447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9" descr="legkousvoyaemie-uglevodi-dlya-bolshih-energozatrat_0"/>
          <p:cNvPicPr/>
          <p:nvPr/>
        </p:nvPicPr>
        <p:blipFill>
          <a:blip r:embed="rId3"/>
          <a:stretch/>
        </p:blipFill>
        <p:spPr>
          <a:xfrm>
            <a:off x="6948360" y="5157720"/>
            <a:ext cx="1873440" cy="1440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Профилактика сахарного диабета II типа:</a:t>
            </a:r>
            <a:br>
              <a:rPr sz="3200"/>
            </a:b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35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иета. Рацион человека с повышенной массой тела должен включать в себя блюда из овощей и фруктов с низким содержанием глюкозы (исключаются бананы, виноград, изюм, из овощей - картофель).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сильная физическая нагрузка. Не стоит ставить над собой экспериментов в виде интенсивной физической нагрузки. Вполне достаточно ежедневной пешей прогулки или плаванья в свое удовольстви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ормализация психо-эмоционального состояния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" name="Picture 4" descr="i?id=611200584-68-72&amp;n=21"/>
          <p:cNvPicPr/>
          <p:nvPr/>
        </p:nvPicPr>
        <p:blipFill>
          <a:blip r:embed="rId1"/>
          <a:stretch/>
        </p:blipFill>
        <p:spPr>
          <a:xfrm>
            <a:off x="6588000" y="5229360"/>
            <a:ext cx="2381400" cy="14284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Образ жизни людей, страдающих сахарным диабетом.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989000"/>
            <a:ext cx="418608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Больные обязаны соблюдать специальную диету и ежедневно вводить с помощью инъекций инсулин, или принимать таблетки. Инсулин тормозит выделение сахара печенью и улучшает его усвоение всеми клетками организм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Picture 4" descr="1330326357_05aa1c0a47bf"/>
          <p:cNvPicPr/>
          <p:nvPr/>
        </p:nvPicPr>
        <p:blipFill>
          <a:blip r:embed="rId1"/>
          <a:stretch/>
        </p:blipFill>
        <p:spPr>
          <a:xfrm>
            <a:off x="6948360" y="4581360"/>
            <a:ext cx="2016360" cy="20606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" descr="i?id=44984574-48-72&amp;n=21"/>
          <p:cNvPicPr/>
          <p:nvPr/>
        </p:nvPicPr>
        <p:blipFill>
          <a:blip r:embed="rId2"/>
          <a:stretch/>
        </p:blipFill>
        <p:spPr>
          <a:xfrm>
            <a:off x="4284720" y="5229360"/>
            <a:ext cx="2200320" cy="1428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i?id=87201178-24-72&amp;n=21"/>
          <p:cNvPicPr/>
          <p:nvPr/>
        </p:nvPicPr>
        <p:blipFill>
          <a:blip r:embed="rId3"/>
          <a:stretch/>
        </p:blipFill>
        <p:spPr>
          <a:xfrm>
            <a:off x="4859280" y="1700280"/>
            <a:ext cx="1428840" cy="14288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i?id=267227292-69-72&amp;n=21"/>
          <p:cNvPicPr/>
          <p:nvPr/>
        </p:nvPicPr>
        <p:blipFill>
          <a:blip r:embed="rId4"/>
          <a:stretch/>
        </p:blipFill>
        <p:spPr>
          <a:xfrm>
            <a:off x="6877080" y="2708280"/>
            <a:ext cx="1428840" cy="14288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1T16:46:03Z</dcterms:created>
  <dc:creator>acer</dc:creator>
  <dc:description/>
  <dc:language>en-US</dc:language>
  <cp:lastModifiedBy>acer</cp:lastModifiedBy>
  <dcterms:modified xsi:type="dcterms:W3CDTF">2013-03-23T12:51:54Z</dcterms:modified>
  <cp:revision>25</cp:revision>
  <dc:subject/>
  <dc:title>Слайд 1</dc:title>
</cp:coreProperties>
</file>