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ED0-3024-4A57-8050-CB255825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FA1-3972-4209-AD78-71D36BD2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2B8-057C-407E-9A27-269F6166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17D-3A71-496B-9976-A7499BEC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F8F-36EE-4CF2-BB26-41FA51E9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A68-FC5C-4B11-AF3A-CB0FF060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17F-B77C-41B3-BB79-806F6830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16E-B7C3-47F2-8C2E-10D715C6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D61-15A6-401F-8ADC-481B468C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306-4CC5-4D86-8903-07E77A2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AAA-1803-4F33-B82F-9B95AFEE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19A-8921-4ECB-AD2B-FBF38414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D125-539B-4AAE-B3C6-76C329D0D8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«Что будет с человеком,  если в его  кровь  выделяется недостаточное количество гормона инсулина?»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быток инсулина в организме вызывает очень резкое снижение количества сахара в крови, сопровождающееся головокружением, слабостью, чувством голода, потерей сознания, судорог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состояние может возникнуть у больных после введения инсулина натоща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вести в кровь глюкоз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нять внутрь сахар или другие слад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Как вернуть обмен веществ к норме при сахарном диабете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ем в пищу правильных продуктов помогает с легкостью контролировать уровень сахара в крови, поддерживать его на нормальном уров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ужно каждый день добавлять половину ложки корицы в пищу, в этом случае клетки станут более чувствительными к инсулину, будут иметь возможность преобразовывать сахар в энерг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ыба из холодных морей, к примеру, макрель, лосось, сардины содержат омега-3 жирные кислоты, которые благотворно влияют на обменные процес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ук, яблоки, помидоры, ягоды, зеленые овощи, которые богаты кверцетином, витамином P, на двадцать процентов снижают риск развития диабета в случае регулярного употреб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рный шоколад способен также повысить чувствительность к инсулин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ежедневном употреблении от двадцати пяти до сорока граммов клетчатки можно попытаться поддерживать уровень сахара на нормальном уровне, избегать скач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вядина, кроме железа, белков, витамина В, наделена линолиевой кислотой, которая способна корректировать метаболизм сахара кро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ве столовых ложки уксуса, принятых до еды, смогут понизить уровень сахара в крови, скачок которого непременно произойдет после приема пищ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БУДЬТЕ ЗДОРОВЫ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2" name="Picture 5" descr="thumbnail"/>
          <p:cNvPicPr/>
          <p:nvPr/>
        </p:nvPicPr>
        <p:blipFill>
          <a:blip r:embed="rId1"/>
          <a:stretch/>
        </p:blipFill>
        <p:spPr>
          <a:xfrm>
            <a:off x="1258920" y="1341360"/>
            <a:ext cx="6867360" cy="515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Поджелудочная железа – 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железа смешанной секреции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а выделяет пищеварительный сок в двенадцатиперстную кишку и отдельные ее клетки вырабатывают гормон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сули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регулирующий обмен углеводов в организ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podzheludochnaya"/>
          <p:cNvPicPr/>
          <p:nvPr/>
        </p:nvPicPr>
        <p:blipFill>
          <a:blip r:embed="rId1"/>
          <a:stretch/>
        </p:blipFill>
        <p:spPr>
          <a:xfrm>
            <a:off x="611280" y="2060640"/>
            <a:ext cx="3943080" cy="33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ение выработки инсулина приводит к тому, что большая часть углеводов выводится из организма с мочой. Это приводит к развитию такого заболевания, ка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Ishemicheskaya_forma_SDS"/>
          <p:cNvPicPr/>
          <p:nvPr/>
        </p:nvPicPr>
        <p:blipFill>
          <a:blip r:embed="rId1"/>
          <a:stretch/>
        </p:blipFill>
        <p:spPr>
          <a:xfrm>
            <a:off x="755640" y="4149720"/>
            <a:ext cx="2232000" cy="2390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%D0%A1%D0%B0%D1%85%D0%B0%D1%80%D0%BD%D1%8B%D0%B9-%D0%B4%D0%B8%D0%B0%D0%B1%D0%B5%D1%82"/>
          <p:cNvPicPr/>
          <p:nvPr/>
        </p:nvPicPr>
        <p:blipFill>
          <a:blip r:embed="rId2"/>
          <a:stretch/>
        </p:blipFill>
        <p:spPr>
          <a:xfrm>
            <a:off x="4859280" y="4292640"/>
            <a:ext cx="3533760" cy="23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404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диабетиков нарушается обмен жиров и бел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ки расщепляются не полностью, промежуточные продукты очень ядовиты и вызывают тяжелое отравление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льной испытыва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учительную жажду, так как недостаток инсулина приводит к обезвоживанию тканей и потере 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хость во р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ащенное, обильное мочеиспуск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аб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уд кож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пах ацетона изо рта, чувство голода, даже если хорошо поел (волчий голод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 сахар повышен в течение нескольких месяцев возможно похудание, несмотря на постоянно повышенный аппет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76132842_342x198"/>
          <p:cNvPicPr/>
          <p:nvPr/>
        </p:nvPicPr>
        <p:blipFill>
          <a:blip r:embed="rId1"/>
          <a:stretch/>
        </p:blipFill>
        <p:spPr>
          <a:xfrm>
            <a:off x="5364000" y="4581360"/>
            <a:ext cx="3257640" cy="188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Сахарный диабет 1-го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тип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звивается при воздействии на организм неблагоприятных фа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русной инфе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ннего искусственного вскармливания у детей (на основе коровьего молок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есса (физического или психологического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я продуктов с различными искусственными добав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Первичная профилактика сахарного диабета 1-го типа :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илактика вирусных заболев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ключительно естественное вскармливание детей от рождения до 1-1,5 лет грудным (женским) молок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ильное воспитание детей, воспитание устойчивости к стресс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циональное (натуральное) пит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к как люди не знают, владельцами каких генов они являются,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ти правила относятся к каждом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из них, абсолютно к каждой семье. Соблюдение этих правил становится абсолютным в семье, где есть кровные родственники (любой степени родства), страдающие сахарным диабетом 1-го тип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ахарный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диабет II типа встречается гораздо чаще - около 95% всех больных диабетом. 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чины возникновения: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быточная масса тела, ожир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достаточная физическая активность (гиподинамия), которая усугубляет ожир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ление большого количества животных жиров и легкоусвояемых углевод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личие диабета у родствен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6937"/>
          <p:cNvPicPr/>
          <p:nvPr/>
        </p:nvPicPr>
        <p:blipFill>
          <a:blip r:embed="rId1"/>
          <a:stretch/>
        </p:blipFill>
        <p:spPr>
          <a:xfrm>
            <a:off x="6227640" y="1268280"/>
            <a:ext cx="2808360" cy="228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3"/>
          <p:cNvPicPr/>
          <p:nvPr/>
        </p:nvPicPr>
        <p:blipFill>
          <a:blip r:embed="rId2"/>
          <a:stretch/>
        </p:blipFill>
        <p:spPr>
          <a:xfrm>
            <a:off x="5292720" y="3429000"/>
            <a:ext cx="228456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legkousvoyaemie-uglevodi-dlya-bolshih-energozatrat_0"/>
          <p:cNvPicPr/>
          <p:nvPr/>
        </p:nvPicPr>
        <p:blipFill>
          <a:blip r:embed="rId3"/>
          <a:stretch/>
        </p:blipFill>
        <p:spPr>
          <a:xfrm>
            <a:off x="6948360" y="5157720"/>
            <a:ext cx="187344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рофилактика сахарного диабета II типа: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ета. Рацион человека с повышенной массой тела должен включать в себя блюда из овощей и фруктов с низким содержанием глюкозы (исключаются бананы, виноград, изюм, из овощей - картофель)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ильная физическая нагрузка. Не стоит ставить над собой экспериментов в виде интенсивной физической нагрузки. Вполне достаточно ежедневной пешей прогулки или плаванья в свое удоволь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изация психо-эмоционального состоя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i?id=611200584-68-72&amp;n=21"/>
          <p:cNvPicPr/>
          <p:nvPr/>
        </p:nvPicPr>
        <p:blipFill>
          <a:blip r:embed="rId1"/>
          <a:stretch/>
        </p:blipFill>
        <p:spPr>
          <a:xfrm>
            <a:off x="6588000" y="5229360"/>
            <a:ext cx="2381400" cy="1428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браз жизни людей, страдающих сахарным диабетом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89000"/>
            <a:ext cx="4186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ьные обязаны соблюдать специальную диету и ежедневно вводить с помощью инъекций инсулин, или принимать таблетки. Инсулин тормозит выделение сахара печенью и улучшает его усвоение всеми клетками орг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1330326357_05aa1c0a47bf"/>
          <p:cNvPicPr/>
          <p:nvPr/>
        </p:nvPicPr>
        <p:blipFill>
          <a:blip r:embed="rId1"/>
          <a:stretch/>
        </p:blipFill>
        <p:spPr>
          <a:xfrm>
            <a:off x="6948360" y="4581360"/>
            <a:ext cx="2016360" cy="206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?id=44984574-48-72&amp;n=21"/>
          <p:cNvPicPr/>
          <p:nvPr/>
        </p:nvPicPr>
        <p:blipFill>
          <a:blip r:embed="rId2"/>
          <a:stretch/>
        </p:blipFill>
        <p:spPr>
          <a:xfrm>
            <a:off x="4284720" y="5229360"/>
            <a:ext cx="2200320" cy="1428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?id=87201178-24-72&amp;n=21"/>
          <p:cNvPicPr/>
          <p:nvPr/>
        </p:nvPicPr>
        <p:blipFill>
          <a:blip r:embed="rId3"/>
          <a:stretch/>
        </p:blipFill>
        <p:spPr>
          <a:xfrm>
            <a:off x="4859280" y="170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?id=267227292-69-72&amp;n=21"/>
          <p:cNvPicPr/>
          <p:nvPr/>
        </p:nvPicPr>
        <p:blipFill>
          <a:blip r:embed="rId4"/>
          <a:stretch/>
        </p:blipFill>
        <p:spPr>
          <a:xfrm>
            <a:off x="6877080" y="2708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6:46:03Z</dcterms:created>
  <dc:creator>acer</dc:creator>
  <dc:description/>
  <dc:language>en-US</dc:language>
  <cp:lastModifiedBy>acer</cp:lastModifiedBy>
  <dcterms:modified xsi:type="dcterms:W3CDTF">2013-03-23T12:51:54Z</dcterms:modified>
  <cp:revision>25</cp:revision>
  <dc:subject/>
  <dc:title>Слайд 1</dc:title>
</cp:coreProperties>
</file>