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580-83C3-4FF3-8356-507FB97E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EC0-5304-40C2-AA8F-A02E55C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96D-117E-4D89-B37C-E42B572C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E1F-A287-41C6-9DB7-BC3F361D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D95-D271-4DFA-B423-0DDCAF89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824F-DAF8-43AE-B812-064D7F62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F26-88A9-46C3-A947-143BC48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FDE0-6BA0-45A2-A358-1CEA3D4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BA4B-FD08-49CA-A21D-13FC45B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472-49A5-4617-9049-06080FA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FD9F-662D-4F46-8525-1106918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CC8-946D-4292-87E7-6BA9B4AA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9C1-7470-4D36-8337-274A12F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B61-8F75-4CA1-AB69-9EF170C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D213-E177-4317-8724-F60E9330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D5F-0030-4879-B3CB-7BC6CB44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C042-7A51-4A51-9D02-24821B7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AB4-9BB2-490E-86A8-6D6CA3B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6FD-671F-4464-BF76-B9C1EC37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1FD-8B89-4B6B-8105-1A76F04F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6B5-0910-4FAB-8AA1-8576C73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A62-9CF0-4D8E-9F2D-924B94B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D5B-0910-4789-B664-A7E528D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C87-DB39-4338-9A50-F9A1E4A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538-A97D-447E-8A49-A7534E8AD8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2C29-AF6B-4222-9B38-B69F7B91E1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лассный час «Отечественная война 1812 год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Поэты-гусары Денис Давыдов и М.Ю.Лермон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нис Давыдов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1784-183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.Давыдов- идеолог и предводитель партизанского движ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первую же ночь отряд Давыдова из 50 гусар и 80 казаков попал в засаду, устроенную крестьянами, и Денис чуть не погиб. Крестьяне плохо разбирались в военной форме, тем более у русских и французов она была похожей. И еще,  офицеры говорили, как правило, по-французски. После этого Давыдов надел мужицкий кафтан и отпустил бор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69880" y="3801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438280"/>
            <a:ext cx="8610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усары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ментик, кивер ( головной убор), саб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рагун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аски с гребнем на голове из конского хвос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лан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имели 4-х угольные головные уборы, сабля, и на кон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азаки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Донского войска – в синих мундирах и в шапках из мех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е это была конниц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ехота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в темных мундирах, которые крест-накрест перетягивались белыми ремнями, в высоких головных уборах. Без лошад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Артиллеристы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в черных мундирах, чтобы скрыть пороховой ды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уса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хочешь быть красивым, поступи в гуса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370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Ю.Лермон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814-184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.И.Лермон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37 год, стихотворение «Бородино», создается к 25-летнему юбилею Отечественной войны 1812 года и Бородинской бит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7:00:56Z</dcterms:created>
  <dc:creator>Lena</dc:creator>
  <dc:description/>
  <dc:language>en-US</dc:language>
  <cp:lastModifiedBy>Lena</cp:lastModifiedBy>
  <dcterms:modified xsi:type="dcterms:W3CDTF">2013-03-23T05:39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