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53C-FD8A-4439-812B-25F26282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725-4357-4F1E-96BA-24A21D61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F6A-FC97-4C6A-942B-91E00476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88-993D-493B-AD93-0F5672F9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3F72-5241-46F6-8804-EC032FE0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9CA1-B119-48DA-81D5-2DF493AF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A7E2-99FF-43FC-B5E1-6726E3F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09B-9E1E-4152-BBFC-22E178F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E7A4-D4A7-4728-BAF9-D9F2CBBD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444F-EFFF-47DA-998C-A46BD244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9BAA-A11E-44A8-B3BA-61D019D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1E5-3764-447E-B88F-7140D113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565-472D-40A0-A97A-E256215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E121-2A6D-40A3-B69C-8B55D80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FA4-D619-480B-A9ED-15C3AD9E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243F-C1F3-4173-9121-C7AC2CE5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ED21-828F-4CFC-86A0-3B7452E5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722-8E46-447B-A82F-E3ECCA4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BF6-8468-4028-AA51-75A894F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E24-C4D7-4842-A5E4-4A1B9EE7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74C-F752-446E-A5A3-55512F4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3F4-7CCC-4644-BA13-D2A8420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62F-E143-4670-A046-8BA55A38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18C-454E-4B2B-814E-33A7627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512-07B3-4CC6-B4C4-547F0AF132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E336-46A2-427F-9D42-BBEBE46828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лассный час «Отечественная война 1812 год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Поэты-гусары Денис Давыдов и М.Ю.Лермон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нис Давыдов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1784-183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.Давыдов- идеолог и предводитель партизанского движ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первую же ночь отряд Давыдова из 50 гусар и 80 казаков попал в засаду, устроенную крестьянами, и Денис чуть не погиб. Крестьяне плохо разбирались в военной форме, тем более у русских и французов она была похожей. И еще,  офицеры говорили, как правило, по-французски. После этого Давыдов надел мужицкий кафтан и отпустил бор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69880" y="3801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438280"/>
            <a:ext cx="8610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усары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ментик, кивер ( головной убор), саб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рагун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аски с гребнем на голове из конского хвос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лан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имели 4-х угольные головные уборы, сабля, и на кон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азаки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Донского войска – в синих мундирах и в шапках из мех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е это была конниц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ехота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в темных мундирах, которые крест-накрест перетягивались белыми ремнями, в высоких головных уборах. Без лошад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Артиллеристы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в черных мундирах, чтобы скрыть пороховой ды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уса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хочешь быть красивым, поступи в гуса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370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Ю.Лермон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814-184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.И.Лермон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37 год, стихотворение «Бородино», создается к 25-летнему юбилею Отечественной войны 1812 года и Бородинской бит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7:00:56Z</dcterms:created>
  <dc:creator>Lena</dc:creator>
  <dc:description/>
  <dc:language>en-US</dc:language>
  <cp:lastModifiedBy>Lena</cp:lastModifiedBy>
  <dcterms:modified xsi:type="dcterms:W3CDTF">2013-03-23T05:39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